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2942-FE48-4E05-B6F7-08AD2801D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ACE3-AE99-4820-A230-48DE50ED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D654-B8D1-45E8-BFD1-4C680DB2D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372E-6652-402A-B9EA-A5CB9B938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BF29-CE33-40E9-99AC-20760390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5A8B-AA9F-4A1A-BC02-048BA4868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C20B-26B7-4D15-B8C4-E6B1CD23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C41-0558-4436-A451-42C3C46A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4F75-EFE6-4D0D-BAC4-5F2ED71D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8F9A-25DB-4EA1-8239-59F2D6093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767-1613-405F-ACAF-C1306E6B3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5B2B-348C-4838-9930-8494B045F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2112-6FC3-486D-9EE2-1642B6FF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D45-26E2-454B-B89E-E9BCC456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4916-664D-46CD-8EF5-3EC5013A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3A22-B5FF-4ECB-AF4B-209535832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7B7C-2DDD-4DAC-8FB0-8DEDA9E7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18F2-839A-49D9-9C06-C9B0B96B4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01D4-BB92-434A-B15D-B4AF29D95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6F5B-AC51-4111-9B0C-7F4B5203F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DBF9-B7A5-4A4C-9965-FDC6D8FB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EF6B-AD72-4869-9451-9C062EC8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5A6-FFCF-44E2-BD07-22D41CFE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LINCOLN CENT IS SPUN ON ITS EDGE, IS IT MORE LIKELY TO LAND HEADS OR TAILS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MUSICAL FILM HAD TAG LINE "LET    THE SUN 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RES 2 POINTS IN AMERICAN FOOTBALL BESIDES A 2-POINT CONVER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NOVEL BY SAPPHIRE WAS TURNED INTO THE 2009 FILM "PRECI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AREDEVIL'S MEN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ARELY BEATS 3-OF-A-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TYPICALLY HAS A CROSS ON TOP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TONE GATHERS NO M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MUSICAL FILM HAD TAG LINE "LET    THE SUN 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AVID)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IRECTOR OF "BLUE VELVET", "ERASERHEAD", AND "MULHOLLAND DR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LINCOLN CENT IS SPUN ON ITS EDGE, IS IT MORE LIKELY TO LAND HEADS OR TAI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RES 2 POINTS IN AMERICAN FOOTBALL BESIDES A 2-POINT CON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NOVEL BY SAPPHIRE WAS TURNED INTO THE 2009 FILM "PRECI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AREDEVIL'S MEN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ARELY BEATS 3-OF-A-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TYPICALLY HAS A CROSS ON TOP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TONE GATHERS NO M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IRECTOR OF "BLUE VELVET", "ERASERHEAD", AND "MULHOLLAND DR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4-27T13:54:14Z</dcterms:modified>
  <cp:revision>398</cp:revision>
  <dc:subject/>
  <dc:title>Slide 1</dc:title>
</cp:coreProperties>
</file>