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369F-E9F9-4253-90D3-56ADC06B2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E89-3CBE-4A83-A939-A2C7CAEE2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E214-96FC-4884-B0E7-D23442BFF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A95-FB79-4FEF-AE7B-4D8A12AF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F56C-05A4-460E-9326-0D50A4A4F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7DE6-D867-4465-8B2E-E15C9EBE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9F78-601E-4628-92C1-E372EC33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1431-4EFB-4106-BC15-A54808D6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A1AC-9FAC-41D0-8C5F-3EF51E54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6FF4-B9C7-43CB-98B4-5D7AEF2BB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8EC7-510C-4128-9357-B8884C65F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CEA9-8FCA-47CC-9238-18CE9CDB4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FE49-6F0A-4211-85C4-D2954B91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5B92-85EB-422E-8426-A91C3E561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1B34-DA1F-4989-8A3D-A9849C548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4CC2-9F4B-41EA-85C5-92853946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6A14-061D-428B-9375-11B761453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34CE-552D-4C67-874F-08613F26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E406-EF1B-4097-80FF-539BBBB40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D844-99AF-4F1A-898E-701BFE7B9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787C-3031-4A33-A4FF-C3B84493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ACFD-FB87-471E-ACB9-91891B9C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06EC-C7B2-47BE-BA26-99922AC9B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LINCOLN CENT IS SPUN ON ITS EDGE, IS IT MORE LIKELY TO LAND HEADS OR TAILS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MUSICAL FILM HAD TAG LINE "LET    THE SUN SHINE 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RES 2 POINTS IN AMERICAN FOOTBALL BESIDES A 2-POINT CONVER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NOVEL BY SAPPHIRE WAS TURNED INTO THE 2009 FILM "PRECIO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DAREDEVIL'S MEN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HAND BARELY BEATS 3-OF-A-K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TYPICALLY HAS A CROSS ON TOP OF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TONE GATHERS NO M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MUSICAL FILM HAD TAG LINE "LET    THE SUN SHINE 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AVID)  LY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DIRECTOR OF "BLUE VELVET", "ERASERHEAD", AND "MULHOLLAND DR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LINCOLN CENT IS SPUN ON ITS EDGE, IS IT MORE LIKELY TO LAND HEADS OR TAIL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PI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RES 2 POINTS IN AMERICAN FOOTBALL BESIDES A 2-POINT CONVER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NOVEL BY SAPPHIRE WAS TURNED INTO THE 2009 FILM "PRECIO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DAREDEVIL'S MEN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HAND BARELY BEATS 3-OF-A-K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TYPICALLY HAS A CROSS ON TOP OF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TONE GATHERS NO M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DIRECTOR OF "BLUE VELVET", "ERASERHEAD", AND "MULHOLLAND DR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4-27T13:54:14Z</dcterms:modified>
  <cp:revision>398</cp:revision>
  <dc:subject/>
  <dc:title>Slide 1</dc:title>
</cp:coreProperties>
</file>