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D082-B19B-4070-9DB0-F3625785C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62B1-BD52-40A6-AB7E-9C5B66A0F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A41F-087E-4549-82AA-59C854E7F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0083-ACA9-4481-8D81-5826E36CA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A509-F18C-4632-8422-CB9B1ABEA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F4CD-111D-4A7A-BD32-BE69B7B64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6924-0591-4F84-9103-8FFFAF8B2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A912-5AA3-43EA-9CE1-B497A26EB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E9B5-7F13-4FD0-AA0E-51E9B795B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2F33-CF72-4AA4-BA56-B6398B0AD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FBAD-A046-41F4-A970-0CFDD162B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86D5-0296-4EC3-BAAC-347F0031C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4456-2794-4D82-944C-FA7E4BA24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3DC7-B8FA-495D-8D0E-86B48FE84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DE7D-4C1F-4052-A25A-022A534EB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4D5C-1789-45F2-BF21-75CF96B66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F1EC-3C66-4748-8CEE-FCD4522D1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4D2B-0F4B-4EB9-827D-976509D38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88EB-09E8-4204-8801-E6C16D7DF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120A-BA2E-422E-84CA-8852A7E30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6721-B818-40E8-AE73-B064B5F65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2990-E7D1-4DE6-9C06-919E040E9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C067-C1F9-4306-9F96-452C62064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7C00-6CE2-4654-837C-AD9CAE3C6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89080" y="762120"/>
            <a:ext cx="8565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NCIENT SURGEONS USE TO ADVERTISE THEIR SERVICES OF BLEEDING (RED), PULLING TEETH (WHITE), OR GIVING A SHAVE (BLU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6880" y="761760"/>
            <a:ext cx="77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COVER OF "ABBEY ROAD", WHAT ARE THE BEATLES WALKING 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3280" y="762120"/>
            <a:ext cx="8136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IGGEST PLANET IN OUR SOLAR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361800" y="4876920"/>
            <a:ext cx="8420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  YANK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176480" y="762120"/>
            <a:ext cx="6791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TEAM DOMINATED DURING THE 30'S, 40'S, AND 5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WN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98320" y="762120"/>
            <a:ext cx="794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FISH WAS NEMO IN "FINDING NEM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Y  C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04960" y="774720"/>
            <a:ext cx="753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WEETS WERE FIRST HANDED OUT IN CHURCH TO KEEP KIDS QUIET DURING M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46040" y="762120"/>
            <a:ext cx="8251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DID THE ROMANS CALL THE "TIGER-HOR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FL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93680" y="762120"/>
            <a:ext cx="6954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SYMBOL OF THE U.S. WAS LAST UPDATED IN 196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IARD  B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65120" y="762120"/>
            <a:ext cx="8212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HERICAL GAME MATERIALS WERE MADE OF WOOD, CLAY, OX BONES, AND ELEPHANT IVORY, BEFORE THE CURRENT PLAST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998720" y="4876920"/>
            <a:ext cx="514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ER  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76200" y="762120"/>
            <a:ext cx="8389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NCIENT SURGEONS USE TO ADVERTISE THEIR SERVICES OF BLEEDING (RED), PULLING TEETH (WHITE), OR GIVING A SHAVE (BLU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S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77800" y="762120"/>
            <a:ext cx="798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COVER OF "ABBEY ROAD", WHAT ARE THE BEATLES WALKING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038240" y="4876920"/>
            <a:ext cx="7067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HAVE  STR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7600" y="762120"/>
            <a:ext cx="830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IGGEST PLANET IN OUR SOLAR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98080" y="761760"/>
            <a:ext cx="674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TEAM DOMINATED DURING THE 30'S, 40'S, AND 5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47560" y="762120"/>
            <a:ext cx="804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FISH WAS NEMO IN "FINDING NEM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01720" y="762120"/>
            <a:ext cx="754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WEETS WERE FIRST HANDED OUT IN CHURCH TO KEEP KIDS QUIET DURING MA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3720" y="762120"/>
            <a:ext cx="8296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DID THE ROMANS CALL THE "TIGER-HOR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09720" y="761760"/>
            <a:ext cx="732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SYMBOL OF THE U.S. WAS LAST UPDATED IN 196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4840" y="761760"/>
            <a:ext cx="8192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HERICAL GAME MATERIALS WERE MADE OF WOOD, CLAY, OX BONES, AND ELEPHANT IVORY, BEFORE THE CURRENT PLAST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02T12:22:16Z</dcterms:modified>
  <cp:revision>520</cp:revision>
  <dc:subject/>
  <dc:title>Slide 1</dc:title>
</cp:coreProperties>
</file>