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98877-B4F3-457F-ACE5-4ADAA37D18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BAC51-D7CD-43C0-8C71-00E9D4352E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EADB4-F497-4FFC-AA6D-72F9E5EAE0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A63E1-B665-4F5B-80B5-F7C68D62EA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F7DF6-23F2-44A8-AFE2-5273888E89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082EA-F438-46CA-903E-F9F1546ACC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6D32C-FE96-41DC-BA4B-37427A4B7C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D293A-4693-426C-A54B-A08DD231EB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CB309-B93F-496A-81D7-A8A354C894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3E42C-8816-4D4F-A88C-2410210095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BDCE0-BEAF-435D-BE60-4335AD2956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A168D-4C78-4586-A812-25C547CD17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EA348-1A6C-418B-8250-29F2EED55D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8818D-C609-4797-8BB5-DA62816279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E804A-CE58-461A-9C30-05A5774A4C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CECBE-C1F9-43EF-BF9B-12D414F3D0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2301D-3EBA-4017-9D3A-67441E072C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A5F00-83FF-48FC-B81B-11E1F29ED0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2ABC3-BA5C-4394-AE2E-41DAB4ED35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503BE-9B92-4B00-B759-DC7206CFBD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B1A77-E7C8-4153-BA06-7E7A4A0FD0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EFC35-602B-4B9F-834A-3DF8253C2C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98554-2F0D-4440-9328-2EC66586C8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31FED-1D80-4BD4-9E65-F4BA21D6A4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99920" y="68580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LCOME TO THURSDAY NIGHT TRIVIA AT THE ELUSIVE GRAP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289080" y="762120"/>
            <a:ext cx="85658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ID ANCIENT SURGEONS USE TO ADVERTISE THEIR SERVICES OF BLEEDING (RED), PULLING TEETH (WHITE), OR GIVING A SHAVE (BLUE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686880" y="761760"/>
            <a:ext cx="7767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THE COVER OF "ABBEY ROAD", WHAT ARE THE BEATLES WALKING 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800280" y="4876920"/>
            <a:ext cx="7543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UPI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503280" y="762120"/>
            <a:ext cx="81360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BIGGEST PLANET IN OUR SOLAR SYSTE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361800" y="4876920"/>
            <a:ext cx="8420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EW  YORK  YANKE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1176480" y="762120"/>
            <a:ext cx="67910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LB TEAM DOMINATED DURING THE 30'S, 40'S, AND 50'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LOWNFI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598320" y="762120"/>
            <a:ext cx="7945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RT OF FISH WAS NEMO IN "FINDING NEMO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1028880" y="4889520"/>
            <a:ext cx="708660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DY  CA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804960" y="774720"/>
            <a:ext cx="7534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RT OF SWEETS WERE FIRST HANDED OUT IN CHURCH TO KEEP KIDS QUIET DURING MAS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3"/>
          <p:cNvSpPr/>
          <p:nvPr/>
        </p:nvSpPr>
        <p:spPr>
          <a:xfrm>
            <a:off x="1685880" y="4876920"/>
            <a:ext cx="5772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ZEB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446040" y="762120"/>
            <a:ext cx="82519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NIMAL DID THE ROMANS CALL THE "TIGER-HORS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"/>
          <p:cNvSpPr/>
          <p:nvPr/>
        </p:nvSpPr>
        <p:spPr>
          <a:xfrm>
            <a:off x="114480" y="4876920"/>
            <a:ext cx="89154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MERICAN  FLA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1093680" y="762120"/>
            <a:ext cx="69548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ATIONAL SYMBOL OF THE U.S. WAS LAST UPDATED IN 196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571320" y="1523880"/>
            <a:ext cx="8001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3"/>
          <p:cNvSpPr/>
          <p:nvPr/>
        </p:nvSpPr>
        <p:spPr>
          <a:xfrm>
            <a:off x="210960" y="4876920"/>
            <a:ext cx="87220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ILLIARD  BAL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465120" y="762120"/>
            <a:ext cx="82123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PHERICAL GAME MATERIALS WERE MADE OF WOOD, CLAY, OX BONES, AND ELEPHANT IVORY, BEFORE THE CURRENT PLASTIC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3"/>
          <p:cNvSpPr/>
          <p:nvPr/>
        </p:nvSpPr>
        <p:spPr>
          <a:xfrm>
            <a:off x="1998720" y="4876920"/>
            <a:ext cx="5143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RBER  PO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376200" y="762120"/>
            <a:ext cx="83898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ID ANCIENT SURGEONS USE TO ADVERTISE THEIR SERVICES OF BLEEDING (RED), PULLING TEETH (WHITE), OR GIVING A SHAVE (BLUE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3"/>
          <p:cNvSpPr/>
          <p:nvPr/>
        </p:nvSpPr>
        <p:spPr>
          <a:xfrm>
            <a:off x="19044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ROSSWAL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577800" y="762120"/>
            <a:ext cx="79884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THE COVER OF "ABBEY ROAD", WHAT ARE THE BEATLES WALKING 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3"/>
          <p:cNvSpPr/>
          <p:nvPr/>
        </p:nvSpPr>
        <p:spPr>
          <a:xfrm>
            <a:off x="1038240" y="4876920"/>
            <a:ext cx="7067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HAVE  STRIP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17600" y="762120"/>
            <a:ext cx="8308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BIGGEST PLANET IN OUR SOLAR SYSTE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198080" y="761760"/>
            <a:ext cx="67453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LB TEAM DOMINATED DURING THE 30'S, 40'S, AND 50'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547560" y="762120"/>
            <a:ext cx="8048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RT OF FISH WAS NEMO IN "FINDING NEMO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801720" y="762120"/>
            <a:ext cx="75405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RT OF SWEETS WERE FIRST HANDED OUT IN CHURCH TO KEEP KIDS QUIET DURING MAS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23720" y="762120"/>
            <a:ext cx="82965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NIMAL DID THE ROMANS CALL THE "TIGER-HORS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909720" y="761760"/>
            <a:ext cx="7323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ATIONAL SYMBOL OF THE U.S. WAS LAST UPDATED IN 1960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74840" y="761760"/>
            <a:ext cx="81928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PHERICAL GAME MATERIALS WERE MADE OF WOOD, CLAY, OX BONES, AND ELEPHANT IVORY, BEFORE THE CURRENT PLASTIC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8T16:34:55Z</dcterms:created>
  <dc:creator>Jennifer Budzinski</dc:creator>
  <dc:description/>
  <dc:language>en-US</dc:language>
  <cp:lastModifiedBy>Erich Friedman</cp:lastModifiedBy>
  <dcterms:modified xsi:type="dcterms:W3CDTF">2022-06-02T12:22:16Z</dcterms:modified>
  <cp:revision>520</cp:revision>
  <dc:subject/>
  <dc:title>Slide 1</dc:title>
</cp:coreProperties>
</file>