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9B31-FE81-4382-99EE-0F86CC49B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D64C-19CA-4A94-BECE-970ED47C4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9749-C400-44AA-AFBA-796913EFD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B607-732E-4E47-A051-2DA42AE0F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F925-21A7-412E-8EEB-AF85D00A5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11F0-6FC1-4A24-B9EE-8619390B0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E125-0328-4BFC-AFD6-D76A4EFC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1A69-E933-46C7-9304-E03C7E726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7630-6C31-44E6-A70F-8CA2850E1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A32A-8F8E-4898-B925-7C6598D0A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9793-4DDA-40D5-BE65-2B14DA972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C458-6CE1-4D2C-AC5C-6D9338CC9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D6F0-9A03-4BFC-8B4E-5F652AC75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85E8-A2F3-49B6-B81B-A864583BF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77F5-CBBC-409D-BF01-283F36D8E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E8E9-8918-46A6-9D2C-EF843FFC1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4B12-BBB5-4CF3-AF88-7615FBF48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5FA1-80F8-419E-A1E4-2EE9F8CA7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5509-C299-4235-A388-CE6885D4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6B8C-7672-4CF6-8121-6FD0C80F5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8334-EB9B-4E77-ABCA-92BEF6747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1FC8-7E77-40F2-90F4-310FD7A6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0593-C9AE-406F-AB0D-952EF04E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JAZZ TRUMPETER WHO PUT OUT THE ALBUM "KIND OF BLUE", THE BEST-SELLING JAZZ ALBUM EVER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GAR  ALLAN)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PIT AND THE PENDUL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RNELL UNIVERSITY ATHLETIC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63520" y="762120"/>
            <a:ext cx="6815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FOOD OF LOUISIANA, CONTAINING THE "HOLY TRINITY" OF CELERY, PEPPERS, AND ON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62080" y="76212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LIGHTNING", AND IN THE CONTEXT  OF CHESS, MEANS "LIGHTNING F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85960" y="744480"/>
            <a:ext cx="7372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AUL BUNYAN'S OX BA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47800" y="762120"/>
            <a:ext cx="744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U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CI-FI FILM STARRED DWAYNE JOHNSON AS A PRIMATOLOGIST TRYING TO SAVE CHICAGO FROM HUGE MUTATED ANI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PIT AND THE PENDUL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O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52400" y="762120"/>
            <a:ext cx="7639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W-COST CANADIAN AIRLINE WITH A 5-LETTER NAME BEGAN OPERATING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ES  (DAV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JAZZ TRUMPETER WHO PUT OUT THE ALBUM "KIND OF BLUE", THE BEST-SELLING JAZZ ALBUM EV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FL  MASC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ORNELL UNIVERSITY ATHLETIC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58760" y="762120"/>
            <a:ext cx="702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FOOD OF LOUISIANA, CONTAINING THE "HOLY TRINITY" OF CELERY, PEPPERS, AND ON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ERMAN WORD FOR "LIGHTNING", AND IN THE CONTEXT  OF CHESS, MEANS "LIGHTNING FA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AUL BUNYAN'S OX BA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U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SCI-FI FILM STARRED DWAYNE JOHNSON AS A PRIMATOLOGIST TRYING TO SAVE CHICAGO FROM HUGE MUTATED ANI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8960" y="762120"/>
            <a:ext cx="7424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W-COST CANADIAN AIRLINE WITH A 5-LETTER NAME BEGAN OPERATING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6-02T12:35:32Z</dcterms:modified>
  <cp:revision>409</cp:revision>
  <dc:subject/>
  <dc:title>Slide 1</dc:title>
</cp:coreProperties>
</file>