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ACC-FFD6-48D4-8786-DEA2B962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0997-7BFA-4F93-9351-F73CAE66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EB9A-7C88-466C-9057-348A9EC7B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955-1A20-4832-BCF0-BB8B95B3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D968-7CFD-44E8-8C1D-725BAC16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AC5-8967-4B3D-84A1-3DFB83A7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E165-8FC6-48FB-A7D2-906740D2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7E8-6FEF-4EFC-9040-5420C324F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E42-9D46-4CAB-ACBA-55FAB2673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A88A-4623-4945-868E-7E9CA708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A60-47A1-4B19-BDDB-76EDE4B9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B243-472E-46E5-BA41-7AA57C82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0BB-02A6-4F93-A494-3C68EEA1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E301-99C0-4E37-9D50-66B4BDB7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B01-C550-4FED-B527-32CA4866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8BB-FDF1-4C47-B20C-03D59E83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732-371A-41D0-B3A4-1DE2F246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577-F0F3-4ACD-B85E-C1EC7980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206F-987F-4C9E-BFDC-B6B1BEE5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C209-9598-4BA4-AFD5-B8F6EBE3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953C-D61C-4F67-A540-C6CEEEEC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C63-0FC4-4AC6-9423-597AE102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FE1-7D3A-41ED-A8E0-A6F3D33A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JAZZ TRUMPETER WHO PUT OUT THE ALBUM "KIND OF BLUE", THE BEST-SELLING JAZZ ALBUM EVER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GAR  ALLAN)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PIT AND THE PENDUL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63520" y="762120"/>
            <a:ext cx="6815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OOD OF LOUISIANA, CONTAINING THE "HOLY TRINITY" OF CELERY, PEPPERS, AND ON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LIGHTNING", AND IN THE CONTEXT  OF CHESS, MEANS "LIGHTNING F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85960" y="744480"/>
            <a:ext cx="7372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AUL BUNYAN'S OX BA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U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CI-FI FILM STARRED DWAYNE JOHNSON AS A PRIMATOLOGIST TRYING TO SAVE CHICAGO FROM HUGE MUTATED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PIT AND THE PENDUL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52400" y="762120"/>
            <a:ext cx="763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-COST CANADIAN AIRLINE WITH A 5-LETTER NAME BEGAN OPERATING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ES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JAZZ TRUMPETER WHO PUT OUT THE ALBUM "KIND OF BLUE", THE BEST-SELLING JAZZ ALBUM EV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FL  MA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58760" y="762120"/>
            <a:ext cx="70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OOD OF LOUISIANA, CONTAINING THE "HOLY TRINITY" OF CELERY, PEPPERS, AND ON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LIGHTNING", AND IN THE CONTEXT  OF CHESS, MEANS "LIGHTNING F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AUL BUNYAN'S OX BA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U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CI-FI FILM STARRED DWAYNE JOHNSON AS A PRIMATOLOGIST TRYING TO SAVE CHICAGO FROM HUGE MUTATED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8960" y="762120"/>
            <a:ext cx="74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-COST CANADIAN AIRLINE WITH A 5-LETTER NAME BEGAN OPERATING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02T12:35:32Z</dcterms:modified>
  <cp:revision>409</cp:revision>
  <dc:subject/>
  <dc:title>Slide 1</dc:title>
</cp:coreProperties>
</file>