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5DFA-70F8-4426-A927-E77EF29C6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C637-4ED2-40B7-B776-4ACF3FAC3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33AD-00AF-4B1E-A497-612332485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C025-0FD6-417F-9A7E-70B571231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1B7C-6790-43ED-A40B-F3F1F4641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2C0A-ED87-49E2-8D0A-70090D6F9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6406-43A0-4B44-A924-7305C4F61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D171-62A6-497B-88E3-C16EED33D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0BBF-24DD-4A88-964F-518FCC13C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960C-B309-4A33-855B-152F99120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5D8F-552F-4CA1-AAC3-5495DA617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BFA5-BCDB-4AC4-B804-5D6A4D4F6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18F7-8994-4CF0-8558-4E67F55E2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0034-5B96-4511-BDAF-04F552B69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B647-D39C-4F82-8E7E-3C9A9F5C2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E60D-C444-4966-BD61-8F4E4593E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426E-CAF2-4B72-AEF6-426AA2C98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9375-9676-4022-940B-1B60901DA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16A3-40FD-4A89-9A2B-87D9AA0B5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1CBE-96EF-4789-9A00-8BD7D4199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FD1E-EBDC-4D56-ABE5-0CC595DED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6772-DF2F-4F0A-A305-B69484324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3A3C-7F1E-486B-83AC-D005B8D2B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0560" y="761760"/>
            <a:ext cx="756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OCTOBER 27, 2018, WHAT DID DONALD TRUMP LEAVE OUTSIDE AIRFORCE ONE WITHOUT CLOSING IT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DDY LEE WAS THE LEAD SINGER FOR WHAT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ERE EVERYBODY KNOWS YOUR NAME"    WAS THE THEME SONG TO WHAT 1982-1993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THDAY  C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5680" y="762120"/>
            <a:ext cx="897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HN HEWSON LOST THE 1993 ELECTION FOR AUSTRALIAN PRIME MINISTER BECAUSE HE WAS UNABLE TO SAY IF WHAT ITEM WOULD COST MORE UNDER HIS TAX REFOR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HARDEST NATURALLY OCCURRING GEM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99960" y="768240"/>
            <a:ext cx="8344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HUMAN ORGAN BY WEIGHT IS THE LIVER.  WHAT IS THE LARGEST HUMAN ORGAN BY SURFACE A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N  ROU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47800" y="762120"/>
            <a:ext cx="744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HAD TAG LINE "GEORGE SEGAL HANGS TOUGH... AND PLAYS THE GAME WITH ALL THE CHAMBERS LOAD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GETHER, CALIFORNIA AND ARIZONA PRODUCE MORE THAN 90% OF THE U.S. CROP OF WHAT CITRUS FR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DDY LEE WAS THE LEAD SINGER FOR WHAT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23920" y="762120"/>
            <a:ext cx="6896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 • • •  – – –  • • • MEAN IN MORSE C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OCTOBER 27, 2018, WHAT DID DONALD TRUMP LEAVE OUTSIDE AIRFORCE ONE WITHOUT CLOSING IT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RIHANNA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ERE EVERYBODY KNOWS YOUR NAME"    WAS THE THEME SONG TO WHAT 1982-1993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3840" y="762120"/>
            <a:ext cx="8896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HN HEWSON LOST THE 1993 ELECTION FOR AUSTRALIAN PRIME MINISTER BECAUSE HE WAS UNABLE TO SAY IF WHAT ITEM WOULD COST MORE UNDER HIS TAX REFOR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HARDEST NATURALLY OCCURRING GEM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HUMAN ORGAN BY WEIGHT IS THE LIVER.  WHAT IS THE LARGEST HUMAN ORGAN BY SURFACE A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HAD TAG LINE "GEORGE SEGAL HANGS TOUGH... AND PLAYS THE GAME WITH ALL THE CHAMBERS LOAD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GETHER, CALIFORNIA AND ARIZONA PRODUCE MORE THAN 90% OF THE U.S. CROP OF WHAT CITRUS FRU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 • • •  – – –  • • • MEAN IN MORSE C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6-02T12:37:17Z</dcterms:modified>
  <cp:revision>406</cp:revision>
  <dc:subject/>
  <dc:title>Slide 1</dc:title>
</cp:coreProperties>
</file>