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30CC-CBDF-48FD-B69F-E59DB03FA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48D2-B25E-4D0F-81CC-3F0B41462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F0B2-CDC3-4186-AE11-39E2AAEC6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3D9B-967E-4F91-8532-87FAA775C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6410-EF72-4A59-AE77-E696086D1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78EC-E464-45BD-A4C1-52ED1CFAA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86D7F-3E94-4FA6-91B0-66D2B9B1C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FD73-1D71-4F9D-8AB3-880F7FCEB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AB6C-55A4-4C74-B57F-9C5BBCFA8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0D74-E312-4A3C-8635-6B0A4DF47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C921-6866-4C0B-BA25-9520BC6CD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C883-AC05-4DC3-BCEA-1BE255F90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36FD-8E3A-4CAE-A495-F6200E36F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43AB-8CB4-4CD5-A927-4D8EAE794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3E9B-47C9-48F3-878A-1E0134D3E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1E8D-E14A-446C-8059-EE3EDEE3D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ABB3-AB3D-4AB3-A51D-B73F3664A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1706-4E91-483A-BEE8-AE3233EB3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EEC3-9C2B-4B10-BFCE-DA113AD65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66C4-54E4-4719-9DF6-0D63DE9CD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E05C-F5E2-4D14-A232-D7651ADC3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2602-0D4C-47A7-94AD-CCB32D5F9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0654-80B7-4629-8C5F-C04956D7E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90560" y="761760"/>
            <a:ext cx="7562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OCTOBER 27, 2018, WHAT DID DONALD TRUMP LEAVE OUTSIDE AIRFORCE ONE WITHOUT CLOSING IT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2019240" y="487692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81200" y="762120"/>
            <a:ext cx="7581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DDY LEE WAS THE LEAD SINGER FOR WHAT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57160" y="762120"/>
            <a:ext cx="7429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HERE EVERYBODY KNOWS YOUR NAME"    WAS THE THEME SONG TO WHAT 1982-1993 TV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RTHDAY  C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5680" y="762120"/>
            <a:ext cx="8972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HN HEWSON LOST THE 1993 ELECTION FOR AUSTRALIAN PRIME MINISTER BECAUSE HE WAS UNABLE TO SAY IF WHAT ITEM WOULD COST MORE UNDER HIS TAX REFORM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M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HARDEST NATURALLY OCCURRING GEMST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K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99960" y="768240"/>
            <a:ext cx="83440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ARGEST HUMAN ORGAN BY WEIGHT IS THE LIVER.  WHAT IS THE LARGEST HUMAN ORGAN BY SURFACE AR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SIAN  ROULE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47800" y="762120"/>
            <a:ext cx="7448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 FILM HAD TAG LINE "GEORGE SEGAL HANGS TOUGH... AND PLAYS THE GAME WITH ALL THE CHAMBERS LOAD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28560" y="762120"/>
            <a:ext cx="7886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GETHER, CALIFORNIA AND ARIZONA PRODUCE MORE THAN 90% OF THE U.S. CROP OF WHAT CITRUS FRU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12800" y="762120"/>
            <a:ext cx="7718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DDY LEE WAS THE LEAD SINGER FOR WHAT GROU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123920" y="762120"/>
            <a:ext cx="6896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 • • •  – – –  • • • MEAN IN MORSE CO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MBRE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OCTOBER 27, 2018, WHAT DID DONALD TRUMP LEAVE OUTSIDE AIRFORCE ONE WITHOUT CLOSING IT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RIHANNA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HERE EVERYBODY KNOWS YOUR NAME"    WAS THE THEME SONG TO WHAT 1982-1993 TV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23840" y="762120"/>
            <a:ext cx="8896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HN HEWSON LOST THE 1993 ELECTION FOR AUSTRALIAN PRIME MINISTER BECAUSE HE WAS UNABLE TO SAY IF WHAT ITEM WOULD COST MORE UNDER HIS TAX REFORM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HARDEST NATURALLY OCCURRING GEMSTO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ARGEST HUMAN ORGAN BY WEIGHT IS THE LIVER.  WHAT IS THE LARGEST HUMAN ORGAN BY SURFACE ARE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09640" y="761760"/>
            <a:ext cx="7524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 FILM HAD TAG LINE "GEORGE SEGAL HANGS TOUGH... AND PLAYS THE GAME WITH ALL THE CHAMBERS LOAD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66720" y="761760"/>
            <a:ext cx="7810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GETHER, CALIFORNIA AND ARIZONA PRODUCE MORE THAN 90% OF THE U.S. CROP OF WHAT CITRUS FRU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 • • •  – – –  • • • MEAN IN MORSE CO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2-06-02T12:37:17Z</dcterms:modified>
  <cp:revision>406</cp:revision>
  <dc:subject/>
  <dc:title>Slide 1</dc:title>
</cp:coreProperties>
</file>