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522B-4FE7-493F-BB48-0F39B00BD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65FF-7BCC-491D-BCC0-7F71FFD6E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9A84-682B-4E9A-AD3F-D39E16487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B50F-9D42-4CB9-AD80-2E878E27C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C395-F449-4A58-99A7-BC2D8F6D9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F354-6FEE-4209-B152-61065672B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AA52-B502-422B-9060-33391628B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D854-2F1D-4940-8530-968233917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AD40-4A23-4D42-B8BE-232436CB5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84D2-3985-4861-8CB5-E20EF6C93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C1F0-09F8-46FD-A401-58841D030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3D0E-D968-42AA-BE75-A17D7FFE2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9FE5-E7AC-484F-8ABD-386AB16A2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489B-5198-4A17-B9F7-D646351E9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5CA9-BC60-4DBA-9BC7-09CA82B2C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23BB-223E-4B1F-966A-9F4A25963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F7C9-B111-4A75-B217-75A9F38A0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5BAC-1843-4728-9A17-BD7C28443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E01D-B522-409D-B14E-48FD5D5B2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94AF-1FE9-451A-8DCA-5C3950CDA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6EC6-F939-4F36-AE1D-D378CBAB8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9B32-1800-4BD3-A3B5-5EEEB4A57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D472-3D90-4BC6-AE09-336C09CB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2512-486D-4A9A-B929-E2E11A604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380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L MUSIC COMMON THREADS TONIGH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03440" y="762120"/>
            <a:ext cx="7737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IS THE SIGNATURE SONG OF NANCY SINAT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AT BENATAR'S FIRST TOP-10 SONG, OFTEN PLAYED NOW AT BASEBALL AND SOCCER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T  TO  HOLD  YOUR 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53880" y="762120"/>
            <a:ext cx="843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WAS THEI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SONG IN THE U.S., STAYING AT #1 FOR 7 WEEKS, AND REMAINS THEIR BEST-SELLING SONG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'RE  THE  ONE  THAT  I  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33280" y="762120"/>
            <a:ext cx="8677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WRITTEN ESPECIALLY FOR THE FILM, WAS THE BEST-SELLING SONG OFF THE "GREASE SOUNDTR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RLS  JUST  WANT  TO  HAVE  F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43120" y="762120"/>
            <a:ext cx="745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FEMINIST ANTHEM" WAS CYNDI LAUPER'S FIRST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343400"/>
            <a:ext cx="708660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RECK  OF  THE  EDMUND  FITZGER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61880" y="762120"/>
            <a:ext cx="822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ABOUT A SHIP DOES GORDON LIGHTFOOT CONSIDER HIS FINEST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62080" y="4343400"/>
            <a:ext cx="6819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WAYS  SOMETHING  THERE  TO  REMIND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09520" y="762120"/>
            <a:ext cx="8724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THOUGH WRITTEN IN THE 1960'S AND DEMOED BY DIONNE WARWICK, WHAT WAS THE ONLY TOP-10 SONG BY NAKED EY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LLING  ME  SOFTLY  WITH  HIS 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BERTA FLACK IS THE ONLY SOLO ARTIST TO WIN CONSECUTIVE GRAMMYS FOR SONG OF THE YEAR, FOR "THE FIRST TIME EVER I SAW YOUR FACE" 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  IN  THE  SKY  WITH  DIAM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754200" y="762120"/>
            <a:ext cx="763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SYCHEDELIC BEATLES SONG ONLY BECAME A #1 SONG WHEN COVERED BY ELTON JOH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257480" y="43434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SE  BOOTS  WERE  MADE  FOR  WALKIN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60320" y="762120"/>
            <a:ext cx="7623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IS THE SIGNATURE SONG OF NANCY SINAT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T  ME  WITH  YOUR  BEST  S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776160" y="762120"/>
            <a:ext cx="759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AT BENATAR'S FIRST TOP-10 SONG, OFTEN PLAYED NOW AT BASEBALL AND SOCCER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6320" y="4876920"/>
            <a:ext cx="8991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ACTLY  6  WORDS  IN  THEIR 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64960" y="762120"/>
            <a:ext cx="861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WAS THEI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SONG IN THE U.S., STAYING AT #1 FOR 7 WEEKS, AND REMAINS THEIR BEST-SELLING SONG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66680" y="761760"/>
            <a:ext cx="880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WRITTEN ESPECIALLY FOR THE FILM, WAS THE BEST-SELLING SONG OFF THE "GREASE SOUNDTR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FEMINIST ANTHEM" WAS CYNDI LAUPER'S FIRST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7600" y="762120"/>
            <a:ext cx="8307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ABOUT A SHIP DOES GORDON LIGHTFOOT CONSIDER HIS FINEST W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4000" y="762120"/>
            <a:ext cx="8853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THOUGH WRITTEN IN THE 1960'S AND DEMOED BY DIONNE WARWICK, WHAT WAS THE ONLY TOP-10 SONG BY NAKED EY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BERTA FLACK IS THE ONLY SOLO ARTIST TO WIN CONSECUTIVE GRAMMYS FOR SONG OF THE YEAR, FOR "THE FIRST TIME EVER I SAW YOUR FACE" AND 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95240" y="761760"/>
            <a:ext cx="7553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SYCHEDELIC BEATLES SONG ONLY BECAME A #1 SONG WHEN COVERED BY ELTON JOH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02T14:00:52Z</dcterms:modified>
  <cp:revision>482</cp:revision>
  <dc:subject/>
  <dc:title>Slide 1</dc:title>
</cp:coreProperties>
</file>