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4A16-9C48-461F-BCFF-EA41A6E38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E3F5-6F1F-478B-B008-9CC1BCFF3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70ED-354D-4972-B450-AFDCBA88F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FBFB-B74E-4CA0-BEC1-6A253145D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6F4B-5F2E-48CC-A7DB-8EFDE3E7F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454C-4F08-4613-9B17-E39894E49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7967-7C51-4313-902D-5571F3F99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C4F5-D044-42DD-B157-512FC5086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819A-618C-4F82-ABBE-0C8C87E56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EBCF-91A3-4D7F-94E8-07E8669E5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49DE-993A-4965-810A-FC4864902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2A2F-D176-47E1-9F20-1ACBA4175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A1A4-B220-4ADC-AF78-81C81C9C3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77D0-B592-4187-AED7-39BC65484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4036-DB77-4E1A-9E39-005BB5806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1695-05FC-4F8B-A275-D1DBAB37D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0B13-9A56-443B-9A71-3E409CBA5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B5C7-2C9F-461C-9E6C-B4AF63C61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9ECE-43B5-4F25-B0C6-CACCEB2DE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3EB3-ECD5-4F9F-803D-B30664BA4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78AF-D055-44F2-83D4-CB7BC9F20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6E67-BF94-4ABC-A272-942FD5C30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B826-0F62-4654-ADD9-C6651C0B1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970C-83A4-42E5-AF65-E671CA693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380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 MUSIC COMMON THREADS TONIGH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03440" y="762120"/>
            <a:ext cx="773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IS THE SIGNATURE SONG OF NANCY SINAT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AT BENATAR'S FIRST TOP-10 SONG, OFTEN PLAYED NOW AT BASEBALL AND SOCCER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TO  HOLD  YOUR 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53880" y="762120"/>
            <a:ext cx="843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WAS THEI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SONG IN THE U.S., STAYING AT #1 FOR 7 WEEKS, AND REMAINS THEIR BEST-SELLING SONG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'RE  THE  ONE  THAT  I  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33280" y="762120"/>
            <a:ext cx="8677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WRITTEN ESPECIALLY FOR THE FILM, WAS THE BEST-SELLING SONG OFF THE "GREASE SOUNDTR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LS  JUST  WANT  TO  HAVE  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43120" y="762120"/>
            <a:ext cx="745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FEMINIST ANTHEM" WAS CYNDI LAUPER'S FIRST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343400"/>
            <a:ext cx="70866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RECK  OF  THE  EDMUND  FITZGER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61880" y="762120"/>
            <a:ext cx="822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ABOUT A SHIP DOES GORDON LIGHTFOOT CONSIDER HIS FINEST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62080" y="4343400"/>
            <a:ext cx="6819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WAYS  SOMETHING  THERE  TO  REMIND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09520" y="762120"/>
            <a:ext cx="872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HOUGH WRITTEN IN THE 1960'S AND DEMOED BY DIONNE WARWICK, WHAT WAS THE ONLY TOP-10 SONG BY NAKED EY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LLING  ME  SOFTLY  WITH  HIS 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BERTA FLACK IS THE ONLY SOLO ARTIST TO WIN CONSECUTIVE GRAMMYS FOR SONG OF THE YEAR, FOR "THE FIRST TIME EVER I SAW YOUR FACE" 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IN  THE  SKY  WITH  DIA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54200" y="762120"/>
            <a:ext cx="763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EDELIC BEATLES SONG ONLY BECAME A #1 SONG WHEN COVERED BY ELTON JOH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257480" y="43434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SE  BOOTS  WERE  MADE  FOR  WALKIN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60320" y="762120"/>
            <a:ext cx="7623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IS THE SIGNATURE SONG OF NANCY SINA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T  ME  WITH  YOUR  BEST  S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776160" y="762120"/>
            <a:ext cx="759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AT BENATAR'S FIRST TOP-10 SONG, OFTEN PLAYED NOW AT BASEBALL AND SOCCER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6320" y="4876920"/>
            <a:ext cx="899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ACTLY  6  WORDS  IN  THEIR 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4960" y="762120"/>
            <a:ext cx="861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WAS THEI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SONG IN THE U.S., STAYING AT #1 FOR 7 WEEKS, AND REMAINS THEIR BEST-SELLING SONG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66680" y="761760"/>
            <a:ext cx="880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WRITTEN ESPECIALLY FOR THE FILM, WAS THE BEST-SELLING SONG OFF THE "GREASE SOUNDTR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FEMINIST ANTHEM" WAS CYNDI LAUPER'S FIRST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7600" y="762120"/>
            <a:ext cx="8307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ABOUT A SHIP DOES GORDON LIGHTFOOT CONSIDER HIS FINEST 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4000" y="762120"/>
            <a:ext cx="8853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HOUGH WRITTEN IN THE 1960'S AND DEMOED BY DIONNE WARWICK, WHAT WAS THE ONLY TOP-10 SONG BY NAKED EY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BERTA FLACK IS THE ONLY SOLO ARTIST TO WIN CONSECUTIVE GRAMMYS FOR SONG OF THE YEAR, FOR "THE FIRST TIME EVER I SAW YOUR FACE" AND 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95240" y="761760"/>
            <a:ext cx="7553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EDELIC BEATLES SONG ONLY BECAME A #1 SONG WHEN COVERED BY ELTON JOH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02T14:00:52Z</dcterms:modified>
  <cp:revision>482</cp:revision>
  <dc:subject/>
  <dc:title>Slide 1</dc:title>
</cp:coreProperties>
</file>