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19B3-1673-4FF1-A5AF-892C9317F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7F7D-F321-4BA3-A166-4F05F43AC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40B3-B8E4-4782-BAB0-82D614F9A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A384-09EE-46F8-A66A-E5135E216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BF89E-F42E-445F-B22B-AB886E9BE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158A-B785-4777-A9B8-9D78CB855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C337-1722-4AB1-B7B9-7571E681E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DF36-14DE-4B9B-BA75-FA3C60027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2758-5D2C-48C7-97DD-88D4217B5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F666-E565-4D22-896F-45CF06818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0692-4792-48B6-95E7-3DE85C061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9A08-7D83-4314-A55E-FCDEDFDFE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3B05-8326-4468-9AAB-810ECEDF5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141E-8722-417D-ADA0-4302C81A4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22F1-FC55-4C15-BA56-1E7D779D7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A5B7-BC01-4A4B-9F36-64E4E39C6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BA2C-238A-4162-9310-373BD1E2C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89AA-AC84-4F04-8687-E59E9399D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D085-8D1C-4A6F-9B0A-ADE4358C1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B4C2-CF05-4CC3-99FF-3546185CC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7656-E906-452F-8122-AB0225AAE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C507-746F-4444-8AFC-ECB1145C1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0092-A32D-4040-BAF5-1481C9CF8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228600" y="761760"/>
            <a:ext cx="929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NEXT LINE (AND THE SUBTITLE) OF THE BILLY JOEL SONG THAT BEGINS "HERE I AM AGAIN, IN THIS SMOKY PLACE, WITH MY BRANDY EYES, I'M TALKING TO MYSELF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  RO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1920" y="762120"/>
            <a:ext cx="90201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LADY GAGA SONG'S VIDEO ABOUT BEING KIDNAPPED BY THE RUSSIAN MAFIA WAS CHOSEN BY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BOA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S THE GREATEST MUSIC VIDEO OF THE 2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62080" y="4876920"/>
            <a:ext cx="6819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L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BLONDIE, THE THEME SONG FOR THE FILM "AMERICAN GIGOLO", WAS THEIR BIGGEST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57360" y="758880"/>
            <a:ext cx="782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NAMED AFTER A GIRL'S NAME IS FOLLOWED IN THE LYRICS WITH "MA BEL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76920"/>
            <a:ext cx="7086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O  K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6640" y="774720"/>
            <a:ext cx="746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HIT SONG ON THE TALKING HEADS' FIRST ALBUM, ABOUT THE INNER THOUGHTS OF A BAD GU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MARMAL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76200" y="762120"/>
            <a:ext cx="8386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REACHED #1 WHEN SUNG BY LABELLE IN 1974, AND AGAIN WHEN SUNG BY CHRISTINA AGUILERA, MÝA, PINK AND LIL' KIM IN 200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S  WITHOUT  A  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IDOL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TOP-10 SONG IN THE U.S., AFTER "WHITE WEDDING" AND "REBEL YE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885960" y="4876920"/>
            <a:ext cx="737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MES  WITHOUT  FRONTI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8640" y="762120"/>
            <a:ext cx="8224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TER GABRIEL SONG COMPARED INTERNATIONAL DIPLOMACY TO CHILDREN PLAY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480" y="762120"/>
            <a:ext cx="8969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LADY GAGA SONG'S VIDEO ABOUT BEING KIDNAPPED BY THE RUSSIAN MAFIA WAS CHOSEN BY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BOA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S THE GREATEST MUSIC VIDEO OF THE 2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IGHT'S  THE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D STEWART SONG, THE BEST-SELLING SONG OF 1977, HAD RHYMING SUBTITLE "(GONNA BE ALRIGHT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WERE  THE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-228600" y="762120"/>
            <a:ext cx="9264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NEXT LINE (AND THE SUBTITLE) OF THE BILLY JOEL SONG THAT BEGINS "HERE I AM AGAIN, IN THIS SMOKY PLACE, WITH MY BRANDY EYES, I'M TALKING TO MYSELF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95288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YRICS  IN  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92280" y="761760"/>
            <a:ext cx="775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BLONDIE, THE THEME SONG FOR THE FILM "AMERICAN GIGOLO", WAS THEIR BIGGEST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NAMED AFTER A GIRL'S NAME IS FOLLOWED IN THE LYRICS WITH "MA BEL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762120"/>
            <a:ext cx="7775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HIT SONG ON THE TALKING HEADS' FIRST ALBUM, ABOUT THE INNER THOUGHTS OF A BAD GU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4120" y="762120"/>
            <a:ext cx="8375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REACHED #1 WHEN SUNG BY LABELLE IN 1974, AND AGAIN WHEN SUNG BY CHRISTINA AGUILERA, MÝA, PINK AND LIL' KIM IN 200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50760" y="761760"/>
            <a:ext cx="7242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IDOL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TOP-10 SONG IN THE U.S., AFTER "WHITE WEDDING" AND "REBEL YE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33280" y="761760"/>
            <a:ext cx="8677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TER GABRIEL SONG COMPARED INTERNATIONAL DIPLOMACY TO CHILDREN PLAY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8520" y="762120"/>
            <a:ext cx="834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D STEWART SONG, THE BEST-SELLING SONG OF 1977, HAD RHYMING SUBTITLE "(GONNA BE ALRIGHT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02T14:07:12Z</dcterms:modified>
  <cp:revision>465</cp:revision>
  <dc:subject/>
  <dc:title>Slide 1</dc:title>
</cp:coreProperties>
</file>