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9ED-B34D-4D91-A29D-B44E5BC8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B09-FC5F-4191-98D5-5FA1DAF7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1AA-E9A5-4341-A636-439B8EEF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C06-BDE5-4FDA-B932-0CB3AE45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64B-7C61-4BDC-8F78-B5C7A45A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B0C-16D5-47D0-98C2-F232FC0B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059-F1B2-469F-BAA4-0249EFB3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307-98FE-4489-929F-B5B8E67F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7B38-5D71-4FE8-9ABE-DBA738BB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F4F-6289-40F2-A90D-7F5D054F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556-E467-4411-A356-39736229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D99-5387-4443-ADF6-2CE45AB2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F38-679F-4175-92D1-23EB2E3B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984E-132C-4392-A7E2-CA16BB96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032A-260F-4CD4-A3F6-87922ED7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702C-8954-4E99-A8B5-70801918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CBA-E1F6-449E-96AB-2363FBD81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72C-5B48-4A25-8175-52D57F73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BB8-DF6D-42C2-92D7-AB2E2E88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3DE6-D194-497F-AE4D-AD8106CA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758-C282-41BC-99FA-03BE8BFB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769-3E3B-4878-8877-53DA33357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F699-B826-4FAC-8647-7B4D7802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600" y="761760"/>
            <a:ext cx="92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EXT LINE (AND THE SUBTITLE) OF THE BILLY JOEL SONG THAT BEGINS "HERE I AM AGAIN, IN THIS SMOKY PLACE, WITH MY BRANDY EYES, I'M TALKING TO MYSELF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" y="762120"/>
            <a:ext cx="9020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DY GAGA SONG'S VIDEO ABOUT BEING KIDNAPPED BY THE RUSSIAN MAFIA WAS CHOSEN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 THE GREATEST MUSIC VIDEO OF THE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BLONDIE, THE THEME SONG FOR THE FILM "AMERICAN GIGOLO", WAS THEIR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57360" y="758880"/>
            <a:ext cx="782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NAMED AFTER A GIRL'S NAME IS FOLLOWED IN THE LYRICS WITH "MA BE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  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6640" y="774720"/>
            <a:ext cx="746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HIT SONG ON THE TALKING HEADS' FIRST ALBUM, ABOUT THE INNER THOUGHTS OF A BAD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R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6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REACHED #1 WHEN SUNG BY LABELLE IN 1974, AND AGAIN WHEN SUNG BY CHRISTINA AGUILERA, MÝA, PINK AND LIL' KIM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THOUT  A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TOP-10 SONG IN THE U.S., AFTER "WHITE WEDDING" AND "REBEL YE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85960" y="4876920"/>
            <a:ext cx="737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S  WITHOUT  FRONT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8640" y="762120"/>
            <a:ext cx="8224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TER GABRIEL SONG COMPARED INTERNATIONAL DIPLOMACY TO CHILDREN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" y="762120"/>
            <a:ext cx="896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DY GAGA SONG'S VIDEO ABOUT BEING KIDNAPPED BY THE RUSSIAN MAFIA WAS CHOSEN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 THE GREATEST MUSIC VIDEO OF THE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GHT'S  TH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SONG, THE BEST-SELLING SONG OF 1977, HAD RHYMING SUBTITLE "(GONNA BE ALR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WERE  TH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-228600" y="762120"/>
            <a:ext cx="9264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EXT LINE (AND THE SUBTITLE) OF THE BILLY JOEL SONG THAT BEGINS "HERE I AM AGAIN, IN THIS SMOKY PLACE, WITH MY BRANDY EYES, I'M TALKING TO MYSELF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952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YRICS  IN 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2280" y="761760"/>
            <a:ext cx="775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BLONDIE, THE THEME SONG FOR THE FILM "AMERICAN GIGOLO", WAS THEIR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NAMED AFTER A GIRL'S NAME IS FOLLOWED IN THE LYRICS WITH "MA BE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HIT SONG ON THE TALKING HEADS' FIRST ALBUM, ABOUT THE INNER THOUGHTS OF A BAD GU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4120" y="762120"/>
            <a:ext cx="837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REACHED #1 WHEN SUNG BY LABELLE IN 1974, AND AGAIN WHEN SUNG BY CHRISTINA AGUILERA, MÝA, PINK AND LIL' KIM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0760" y="761760"/>
            <a:ext cx="724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TOP-10 SONG IN THE U.S., AFTER "WHITE WEDDING" AND "REBEL YE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TER GABRIEL SONG COMPARED INTERNATIONAL DIPLOMACY TO CHILDREN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SONG, THE BEST-SELLING SONG OF 1977, HAD RHYMING SUBTITLE "(GONNA BE ALR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07:12Z</dcterms:modified>
  <cp:revision>465</cp:revision>
  <dc:subject/>
  <dc:title>Slide 1</dc:title>
</cp:coreProperties>
</file>