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A927-1487-48AD-9612-EF9936124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7FCF-9F2D-4AA7-8F90-316B70F31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035C-B7C1-4ACA-8456-04D3FB2D4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F6B8-3999-4F0A-8EC4-5D2903887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FD0E-A756-43A5-9F6A-D09761ADF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4BC1-F4D9-43E8-9765-FB73B1E2A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4F50-65D6-431D-9A3B-E96047137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CD47-9520-4753-80FB-E143D856A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2D65-689F-4E16-A576-CE0184F77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044B-C26A-4529-9D72-0A6D041FB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700C-A0E4-4367-AC30-0C657B5FF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5E37-E1B6-4962-875E-B25FF3A78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3DC8-BD64-4AF1-94C2-54B8A5498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B642-6A99-4589-802C-55922B5CF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7CF4-8661-40F1-8492-CC177059F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BA6F-642E-458D-B6E6-17D3F1FC0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65D1-7917-4D16-B026-51C699051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4175-0BE4-402C-8F3C-773F4801F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D231-3490-4E5A-9789-F418102AC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33BD-AAF0-492F-9B06-3CD1B4E2F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92D3-34AC-43AA-9032-0E2887657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3F0BC-CE9C-4E38-91A8-3BDC264E7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CF7D-F679-4A88-9569-7540EB597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ARRY TRUMAN'S FULL MIDDL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1979 HIT SONG "POP MUZIK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8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600200" y="762120"/>
            <a:ext cx="5943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OPRAH WINFREY'S MAGAZ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9276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1136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UBWAY IN CHICAGO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HESTER PRYNNE WEAR ON HER D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55640"/>
            <a:ext cx="74678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UTER PROGRAMMING LANGUAGE WAS DEVELOPED AT BELL LABS IN 197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SERIES ABOUT REPTILIAN ALIEN INVASION WAS REMADE IN 200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MALCOLM LITTLE CHANGE HIS LAST NAME TO IN 195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1979 HIT SONG "POP MUZIK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8484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DID DESMOND LLEWELYN PLAY IN 17 JAMES BOND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ARRY TRUMAN'S FULL MIDDL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ALL  SINGLE  LE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OPRAH WINFREY'S MAGAZ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UBWAY IN CHICAGO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HESTER PRYNNE WEAR ON HER D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UTER PROGRAMMING LANGUAGE WAS DEVELOPED AT BELL LABS IN 197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SERIES ABOUT REPTILIAN ALIEN INVASION WAS REMADE IN 200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MALCOLM LITTLE CHANGE HIS LAST NAME TO IN 195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DID DESMOND LLEWELYN PLAY IN 17 JAMES BOND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13:29:28Z</dcterms:created>
  <dc:creator>Jennifer Budzinski</dc:creator>
  <dc:description/>
  <dc:language>en-US</dc:language>
  <cp:lastModifiedBy>Erich Friedman</cp:lastModifiedBy>
  <dcterms:modified xsi:type="dcterms:W3CDTF">2020-08-25T13:02:38Z</dcterms:modified>
  <cp:revision>393</cp:revision>
  <dc:subject/>
  <dc:title>Slide 1</dc:title>
</cp:coreProperties>
</file>