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81A1-4454-42C2-8B1D-9C4A340CB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3110-FFF1-44DC-AC7C-2E5D01DFA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96DE-6E5B-4743-96EB-5B7F898E6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235B-1258-4B1B-9D2C-9DBAE3063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503B-E28E-4638-BE42-FB1D5D60E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B041-A440-4A94-A9F7-579B09699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D13B-42CD-4F6A-8627-2EA7AC94B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C57A-1629-4E2D-A49C-699B8358C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A006-D357-42AD-9BCF-FB7581B06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B4D1-F315-4BBE-8871-06A416D52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DA96-1746-407E-AC28-A624E6F7D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7979-BB4B-4D30-8697-4BB234302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C397-0B58-4D6B-A54C-8D2CB307D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06CD-0CF3-4646-8DFD-A673666E6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02BE-99EF-43C3-B234-8E4AE0474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A3C6-3AE4-455A-A770-67F60E104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865B-F2CA-4210-A1C0-0928F7EE1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124C-A0AB-4D4C-AC18-AC2C4FE1F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C1B3-785F-4AC9-B04A-12362E49E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5887-57BF-4C7D-B5CB-10DA3C5AD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620B-D52C-4742-957E-211248BB8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E294-2CFD-4B1F-BA95-380F7BEA0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9AD1-5441-4D6A-AF5D-9164FE521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ARRY TRUMAN'S FULL MIDDL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1979 HIT SONG "POP MUZIK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8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600200" y="762120"/>
            <a:ext cx="5943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OPRAH WINFREY'S MAGAZ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9276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1136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UBWAY IN CHICAGO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HESTER PRYNNE WEAR ON HER D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55640"/>
            <a:ext cx="74678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UTER PROGRAMMING LANGUAGE WAS DEVELOPED AT BELL LABS IN 197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SERIES ABOUT REPTILIAN ALIEN INVASION WAS REMADE IN 200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MALCOLM LITTLE CHANGE HIS LAST NAME TO IN 195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1979 HIT SONG "POP MUZIK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8484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DID DESMOND LLEWELYN PLAY IN 17 JAMES BOND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ARRY TRUMAN'S FULL MIDDL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ALL  SINGLE  LE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OPRAH WINFREY'S MAGAZ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UBWAY IN CHICAGO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HESTER PRYNNE WEAR ON HER D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UTER PROGRAMMING LANGUAGE WAS DEVELOPED AT BELL LABS IN 197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SERIES ABOUT REPTILIAN ALIEN INVASION WAS REMADE IN 200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MALCOLM LITTLE CHANGE HIS LAST NAME TO IN 195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DID DESMOND LLEWELYN PLAY IN 17 JAMES BOND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13:29:28Z</dcterms:created>
  <dc:creator>Jennifer Budzinski</dc:creator>
  <dc:description/>
  <dc:language>en-US</dc:language>
  <cp:lastModifiedBy>Erich Friedman</cp:lastModifiedBy>
  <dcterms:modified xsi:type="dcterms:W3CDTF">2020-08-25T13:02:38Z</dcterms:modified>
  <cp:revision>393</cp:revision>
  <dc:subject/>
  <dc:title>Slide 1</dc:title>
</cp:coreProperties>
</file>