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0031-C63D-45C7-B424-E3AAACFF3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5CE6-D69C-4C2B-B914-2FB74912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A4E6-F98D-442E-A1E2-097F71B4B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B535-62D3-4233-B131-C1E327ADD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2645-98BD-44D5-961B-0678AA03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47B4-8016-4505-99A1-AB1CA8841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8280-D305-4173-9660-A3E3C00C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163-003A-4E67-A17E-31D7E7A1C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412-441C-4251-9C43-2F129EF9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CC81-50B0-4FDF-BAEC-E09DA8AE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3E7-251F-4F3D-A622-BF38E8A0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7961-0423-4168-B320-F87FD297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A188-2EFF-4BBA-981D-E5CF6462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0551-FDD6-4B8D-B525-1D70998C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147F-110F-4206-9E57-2B6669F7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31B2-9964-4303-A893-B72EE29FB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8CF-B7A5-434C-AF21-57FB9056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A18B-DBD1-49F8-A43B-A0D553A61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A681-7E16-4263-B612-52A506907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593C-1E19-4B96-95E1-9B6308155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E7AD-BB8B-4E89-AD82-B4301705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71EE-F829-4E1A-8740-D0EA7FB2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32B-0C4E-437F-850B-8DFFBF8A8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FULL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9 HIT SONG "POP MUZI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00200" y="762120"/>
            <a:ext cx="59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 WINFREY'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1136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WAY IN CHICAG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HESTER PRYNNE WEAR ON HER 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564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PROGRAMMING LANGUAGE WAS DEVELOPED AT BELL LABS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SERIES ABOUT REPTILIAN ALIEN INVASION WAS REMADE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MALCOLM LITTLE CHANGE HIS LAST NAME TO IN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9 HIT SONG "POP MUZIK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ESMOND LLEWELYN PLAY IN 17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FULL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SINGLE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 WINFREY'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WAY IN CHICAG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HESTER PRYNNE WEAR ON HER 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PROGRAMMING LANGUAGE WAS DEVELOPED AT BELL LABS IN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SERIES ABOUT REPTILIAN ALIEN INVASION WAS REMADE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MALCOLM LITTLE CHANGE HIS LAST NAME TO IN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ESMOND LLEWELYN PLAY IN 17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3:29:28Z</dcterms:created>
  <dc:creator>Jennifer Budzinski</dc:creator>
  <dc:description/>
  <dc:language>en-US</dc:language>
  <cp:lastModifiedBy>Erich Friedman</cp:lastModifiedBy>
  <dcterms:modified xsi:type="dcterms:W3CDTF">2020-08-25T13:02:38Z</dcterms:modified>
  <cp:revision>393</cp:revision>
  <dc:subject/>
  <dc:title>Slide 1</dc:title>
</cp:coreProperties>
</file>