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B3AC-709B-4143-828F-12649BEF5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37B1-29D2-4CC1-818E-77AB48712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AAB2-AF89-433F-BF89-1E779873E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E73B-5E87-477E-A4BD-E2C4057DE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47D3-2517-4B4A-A949-DE3E78D98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4039C-E34C-4B70-8A84-916854721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228A-62E2-453B-A8A3-57BB9FB4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8E58-879C-4E1F-8E32-74998D7EF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0916-7855-4FE8-B5E3-D0BA26917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6EF3-6ED8-426B-8034-2A1D1EF6E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853E-2A23-4C57-80FF-2CD4F5F46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0A37-8998-41C5-80C2-9B65E04A3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BF72-829F-47D1-9FAE-174E5E4ED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5263-0E42-46D9-812D-F01B14E12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3DB6-4188-463C-9E69-9054F2252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0D8C-3A93-401C-833A-9D00EA463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1B0A-742D-4787-943E-1F354309F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23FB-10D0-47D7-A13D-87F2606A8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A175-673C-43D0-9982-7E34A79CF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FE2D-5D4C-40D2-BB85-EC8A12AFB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D774-1E5F-4E94-B1CB-2C59852D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C790-EA4C-4082-AF05-0C128160A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3AC7-5978-4861-AF52-70FE5EF44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AYLOR SWIFT SONG, HER FIRST #1 HIT, DOES SHE SING THE WORD "EVER" 7 TIMES EVERY CHORU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NA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72960" y="762120"/>
            <a:ext cx="8396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SONG BY THE SPICE GIRLS, WITH THE LYRICS "I'LL TELL YOU WHAT I WANT, WHAT I REALLY REALLY WA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876920"/>
            <a:ext cx="6058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A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160" y="762120"/>
            <a:ext cx="9067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BEACH BOYS WAS FAMOUSLY PARODIED AS "BOMB IRAN" DURING THE       1979 IRAN HOSTAGE CRI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YELLOW  TAX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6040" y="746280"/>
            <a:ext cx="879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-SIDE OF JONI MITCHELL'S "WOODSTOCK" WAS EVEN MORE SUCCESSFUL WHEN COVERED BY COUNTING CROWS IN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GRY  LIKE  THE  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01760" y="774720"/>
            <a:ext cx="834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DURAN DURAN, AND ONLY BECAUSE MTV PLAYED ITS VIDEO INCESSANT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  B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3280" y="762120"/>
            <a:ext cx="813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NDI LAUPER #1 SONG IS ABOUT MASTURB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  SUBM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17560" y="762120"/>
            <a:ext cx="750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SUNG BY RINGO STARR INSPIRED A 1968 ANIMATED FILM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P  DRESSED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17600" y="762120"/>
            <a:ext cx="8307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ZZ TOP CONTAINS THE LYRICS "GOLD WATCH, DIAMOND RING, I AIN'T MISSIN' NOT A SINGLE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9560" y="762120"/>
            <a:ext cx="8264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SONG BY THE SPICE GIRLS, WITH THE LYRICS "I'LL TELL YOU WHAT I WANT, WHAT I REALLY REALLY WA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4240" y="762120"/>
            <a:ext cx="897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SONG FROM THE BEST-SELLING ALBUM OF ALL TIME, BY MICHAEL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838080" y="4343400"/>
            <a:ext cx="7581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  ARE  NEVER  EVER  GETTING  BACK 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85720" y="762120"/>
            <a:ext cx="797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AYLOR SWIFT SONG, HER FIRST #1 HIT, DOES SHE SING THE WORD "EVER" 7 TIMES EVERY CHORU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LAUG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BEACH BOYS WAS FAMOUSLY PARODIED AS "BOMB IRAN" DURING THE     1979 IRAN HOSTAGE CRIS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8240" y="762120"/>
            <a:ext cx="88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-SIDE OF JONI MITCHELL'S "WOODSTOCK" WAS EVEN MORE SUCCESSFUL WHEN COVERED BY COUNTING CROWS IN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1920" y="762120"/>
            <a:ext cx="847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DURAN DURAN, AND ONLY BECAUSE MTV PLAYED ITS VIDEO INCESSAN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2800" y="762120"/>
            <a:ext cx="8258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NDI LAUPER #1 SONG IS ABOUT MASTURB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SUNG BY RINGO STARR INSPIRED A 1968 ANIMATED FILM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1000" y="761760"/>
            <a:ext cx="8440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ZZ TOP CONTAINS THE LYRICS "GOLD WATCH, DIAMOND RING, I AIN'T MISSIN' NOT A SINGLE 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2440" y="762120"/>
            <a:ext cx="8979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SONG FROM THE BEST-SELLING ALBUM OF ALL TIME, BY MICHAEL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11:19Z</dcterms:modified>
  <cp:revision>498</cp:revision>
  <dc:subject/>
  <dc:title>Slide 1</dc:title>
</cp:coreProperties>
</file>