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C5D0-9C65-4C44-AAE4-20D1D5455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3B0C-F534-4683-8C5A-D412A3282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24C6-254B-4F16-B0E6-D1B600655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43E0-146E-492D-BAA4-FAF668F0B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EEC8-C9A0-493E-A2EF-2DAA02287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E51E-53FC-4ABE-A58F-E0A69715E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B1FE-E5AB-4718-AF00-C9D7A117D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E7EF-F88B-45D3-BBC5-46ADD1D2F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E1E7-29EC-4565-89CD-7936E7D0A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730A-8C37-4179-9ED0-FE051C804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E8B2-C022-4EB4-936F-E8356813A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598C-8D6D-4F0B-BEE1-691C43B16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CF9C-8F09-4696-AA95-89AA1296C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F410-8654-4E30-91BD-5511A29D4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EBC9-A391-4F08-A8EA-11BD86B6D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11D7-E595-4A9D-8379-86B1D1E03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CD7B-AAD6-4E48-A1A4-6A91EF11A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F3D4-ED87-48DA-A99B-A1DD6E530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8A61-6F58-4ADF-ABB2-05211A920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AC33-6AC3-4ADA-A26D-63CF02623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D0C8-5624-4925-8F11-1D37C3E29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4583-B952-498F-823D-382B5C116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21E9-3E49-4891-AA55-BFB5EEFCB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AYLOR SWIFT SONG, HER FIRST #1 HIT, DOES SHE SING THE WORD "EVER" 7 TIMES EVERY CHORU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NNA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72960" y="762120"/>
            <a:ext cx="8396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SONG BY THE SPICE GIRLS, WITH THE LYRICS "I'LL TELL YOU WHAT I WANT, WHAT I REALLY REALLY WA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876920"/>
            <a:ext cx="605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RA  A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8160" y="762120"/>
            <a:ext cx="9067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BEACH BOYS WAS FAMOUSLY PARODIED AS "BOMB IRAN" DURING THE       1979 IRAN HOSTAGE CRI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YELLOW  TAX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76040" y="746280"/>
            <a:ext cx="879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-SIDE OF JONI MITCHELL'S "WOODSTOCK" WAS EVEN MORE SUCCESSFUL WHEN COVERED BY COUNTING CROWS IN 200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NGRY  LIKE  THE  W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01760" y="774720"/>
            <a:ext cx="834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HIT SONG BY DURAN DURAN, AND ONLY BECAUSE MTV PLAYED ITS VIDEO INCESSANT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  B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3280" y="762120"/>
            <a:ext cx="8137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YNDI LAUPER #1 SONG IS ABOUT MASTURB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  SUBMA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17560" y="762120"/>
            <a:ext cx="7507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SUNG BY RINGO STARR INSPIRED A 1968 ANIMATED FILM OF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P  DRESSED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17600" y="762120"/>
            <a:ext cx="8307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ZZ TOP CONTAINS THE LYRICS "GOLD WATCH, DIAMOND RING, I AIN'T MISSIN' NOT A SINGLE 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39560" y="762120"/>
            <a:ext cx="8264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SONG BY THE SPICE GIRLS, WITH THE LYRICS "I'LL TELL YOU WHAT I WANT, WHAT I REALLY REALLY WA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4240" y="762120"/>
            <a:ext cx="8974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SONG FROM THE BEST-SELLING ALBUM OF ALL TIME, BY MICHAEL JACK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838080" y="4343400"/>
            <a:ext cx="7581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  ARE  NEVER  EVER  GETTING  BACK 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85720" y="762120"/>
            <a:ext cx="797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AYLOR SWIFT SONG, HER FIRST #1 HIT, DOES SHE SING THE WORD "EVER" 7 TIMES EVERY CHOR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LAUGH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BEACH BOYS WAS FAMOUSLY PARODIED AS "BOMB IRAN" DURING THE     1979 IRAN HOSTAGE CRIS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38240" y="762120"/>
            <a:ext cx="88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-SIDE OF JONI MITCHELL'S "WOODSTOCK" WAS EVEN MORE SUCCESSFUL WHEN COVERED BY COUNTING CROWS IN 200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31920" y="762120"/>
            <a:ext cx="847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HIT SONG BY DURAN DURAN, AND ONLY BECAUSE MTV PLAYED ITS VIDEO INCESSANT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42800" y="762120"/>
            <a:ext cx="8258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YNDI LAUPER #1 SONG IS ABOUT MASTURB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SUNG BY RINGO STARR INSPIRED A 1968 ANIMATED FILM OF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51000" y="761760"/>
            <a:ext cx="8440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ZZ TOP CONTAINS THE LYRICS "GOLD WATCH, DIAMOND RING, I AIN'T MISSIN' NOT A SINGLE T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2440" y="762120"/>
            <a:ext cx="8979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SONG FROM THE BEST-SELLING ALBUM OF ALL TIME, BY MICHAEL JACK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02T14:11:19Z</dcterms:modified>
  <cp:revision>498</cp:revision>
  <dc:subject/>
  <dc:title>Slide 1</dc:title>
</cp:coreProperties>
</file>