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18CC-3757-49A1-9114-D8AF1D24C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CDB4F-183D-4463-B591-92F6A76E3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E384-99AE-4A5C-A4E6-C1DE40E4F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2FFB-02D4-4852-A31E-708D017DC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F9BF-0D96-414E-B714-BE95A4706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E852-18E7-4B2D-8CF2-00177522C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710D-3D2F-49E0-9459-D0D8663BE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C4CB-FB93-42E3-BDFE-3B5E7A6F0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9FD54-2CB0-4740-A601-1D435FE12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177D-EE48-45D8-A500-B86A22913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A5B0-EB8E-48F7-AAE9-682DF68F6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EE2C-A7AA-426C-B0C9-3A62C9B4D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CD3F-0340-4937-819D-DE721229B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E89D-7290-4467-A4E6-38A129685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9423-DC42-4F12-A4E8-34373FA33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5CF3-44ED-46F6-B2EB-CB0EDD678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973A-C5F4-417F-95F1-9CC8431F19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32F8-19BF-460E-B7AA-DA942B757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DBFA-7954-41A6-A2DB-254F9BB3D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8701-D7F9-482F-AF89-DE901A592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CF19-0917-422D-A1E5-931ABC41D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5368-D985-45F0-9982-E35AD3882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CD373-9116-4657-B9A9-D200654E2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9907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USICAL GROUP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01760" y="761760"/>
            <a:ext cx="8339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MUSICAL GROUP OF ALL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GROUP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990720" y="4876920"/>
            <a:ext cx="716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REIG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630360" y="762120"/>
            <a:ext cx="78818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'S BIGGEST HIT WAS THE ANTHEM "I WANT TO KNOW WHAT LOVE I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1162080" y="4343400"/>
            <a:ext cx="68198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EDENCE  CLEARWATER  REVI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79200" y="762120"/>
            <a:ext cx="8985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SEVERAL #2 SONGS, BUT ONLY ONE #1 SONG, "LOOKIN' OUT MY BACK DO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PENWOL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1376280" y="762120"/>
            <a:ext cx="6391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BORN TO B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76920"/>
            <a:ext cx="70866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84040" y="762120"/>
            <a:ext cx="8574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SONG "HEAT OF THE MOM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YNYRD  SKYNY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61800" y="762120"/>
            <a:ext cx="8420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FREE BIRD", THE MOST REQUESTED SONG IN MUSIC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  GOO  DO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19000" y="762120"/>
            <a:ext cx="7506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IRIS", THE #1 POP SONG OF THE 90'S 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LLBOA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238400" y="4876920"/>
            <a:ext cx="6667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X  PIST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54040" y="762120"/>
            <a:ext cx="803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UNK ROCK BAND'S ONLY ALBUM WAS TITLED "NEVER MIND THE BOLLOCKS, HERE'S THE [NAME OF THE BAND]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6600" y="762120"/>
            <a:ext cx="793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'S BIGGEST HIT WAS THE ANTHEM "I WANT TO KNOW WHAT LOVE I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&amp;  R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98480" y="762120"/>
            <a:ext cx="7547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UO SANG THE SONG "SAVE A HORSE (RIDE A COWBOY)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EA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07880" y="762120"/>
            <a:ext cx="83282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EST-SELLING MUSICAL GROUP OF ALL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228600" y="4876920"/>
            <a:ext cx="8686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D  LEAD  SINGERS  NAMED  JOH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GROUP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6200" y="761760"/>
            <a:ext cx="8931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HAD SEVERAL #2 SONGS, BUT ONLY ONE #1 SONG, "LOOKIN' OUT MY BACK DO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200240" y="762120"/>
            <a:ext cx="674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BORN TO BE WIL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64960" y="762120"/>
            <a:ext cx="8614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THE #1 SONG "HEAT OF THE MOM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66840" y="762120"/>
            <a:ext cx="8410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FREE BIRD", THE MOST REQUESTED SONG IN MUSIC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36640" y="761760"/>
            <a:ext cx="7470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ROUP SANG "IRIS", THE #1 POP SONG OF THE 90'S 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BILLBOAR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AGAZI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5880" y="761760"/>
            <a:ext cx="811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NGLISH PUNK ROCK BAND'S ONLY ALBUM WAS TITLED "NEVER MIND THE BOLLOCKS, HERE'S THE [NAME OF THE BAND]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79400" y="762120"/>
            <a:ext cx="758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DUO SANG THE SONG "SAVE A HORSE (RIDE A COWBOY)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04-27T18:09:20Z</dcterms:modified>
  <cp:revision>476</cp:revision>
  <dc:subject/>
  <dc:title>Slide 1</dc:title>
</cp:coreProperties>
</file>