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A5B2-E57A-4440-A63F-10435149D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2AB3-1A91-4844-B23B-284C4F2B9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F918-F2FF-4AA4-8BA7-F626582E4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7FD5-CCAE-4152-9358-CE20603E4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2968-EBA2-49B2-87D7-704449EF6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ADEA-C634-43EC-B207-FF1C42BE4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AF7B-8F5D-4E1F-B240-945E7600D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A459-1F64-4CCE-8212-3EB2C0EE2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C68F-2E2B-440D-ADBB-DD5BDB9B0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EBC1-C48D-4E77-90C1-27C30DBDA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FF14-D020-46AB-A8CB-EEC93141B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CECA-F47A-4866-BB9A-7A2F372B1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B522-964E-45ED-9177-E856D6E67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0E5B-5AF5-4109-979B-C1AAC5F21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B898-9C3D-4635-A7ED-CC3D078AD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39A7-B4E3-4D2A-9033-B39166F17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D45A-8FF6-47F9-92D0-D4522EA0B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070B-619E-4F0A-9691-CA6861CC5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30D9-A134-446D-BE71-D7A7DC5EA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E63A-9688-4C7E-BA3E-2EB91E370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B712-4E7A-4F0F-B6ED-80820FD93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71CA-CB9C-4990-962C-C9D3170C4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1341-AE8B-4EDA-8363-4B97A8D7F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9907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GROUP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01760" y="761760"/>
            <a:ext cx="8339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MUSICAL GROUP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GROUP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EIG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30360" y="762120"/>
            <a:ext cx="78818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'S BIGGEST HIT WAS THE ANTHEM "I WANT TO KNOW WHAT LOVE 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62080" y="4343400"/>
            <a:ext cx="6819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EDENCE  CLEARWATER  REV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9200" y="762120"/>
            <a:ext cx="8985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D SEVERAL #2 SONGS, BUT ONLY ONE #1 SONG, "LOOKIN' OUT MY BACK DO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PENW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376280" y="762120"/>
            <a:ext cx="639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BORN TO BE 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76920"/>
            <a:ext cx="7086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84040" y="762120"/>
            <a:ext cx="8574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#1 SONG "HEAT OF THE MOM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NYRD  SKYNY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61800" y="762120"/>
            <a:ext cx="8420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FREE BIRD", THE MOST REQUESTED SONG IN MUSIC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  GOO  DO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19000" y="762120"/>
            <a:ext cx="7506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IRIS", THE #1 POP SONG OF THE 90'S ACCORDING T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BILLBOA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X  PIST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54040" y="762120"/>
            <a:ext cx="803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PUNK ROCK BAND'S ONLY ALBUM WAS TITLED "NEVER MIND THE BOLLOCKS, HERE'S THE [NAME OF THE BAND]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6600" y="762120"/>
            <a:ext cx="793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'S BIGGEST HIT WAS THE ANTHEM "I WANT TO KNOW WHAT LOVE I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&amp;  R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98480" y="762120"/>
            <a:ext cx="7547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UO SANG THE SONG "SAVE A HORSE (RIDE A COWBOY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07880" y="762120"/>
            <a:ext cx="832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MUSICAL GROUP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D  LEAD  SINGERS  NAMED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GROUP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6200" y="761760"/>
            <a:ext cx="8931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D SEVERAL #2 SONGS, BUT ONLY ONE #1 SONG, "LOOKIN' OUT MY BACK DO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00240" y="762120"/>
            <a:ext cx="6743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BORN TO BE 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64960" y="762120"/>
            <a:ext cx="8614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#1 SONG "HEAT OF THE MOM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66840" y="762120"/>
            <a:ext cx="8410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FREE BIRD", THE MOST REQUESTED SONG IN MUSIC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6640" y="761760"/>
            <a:ext cx="7470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IRIS", THE #1 POP SONG OF THE 90'S ACCORDING T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BILLBOA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15880" y="761760"/>
            <a:ext cx="811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PUNK ROCK BAND'S ONLY ALBUM WAS TITLED "NEVER MIND THE BOLLOCKS, HERE'S THE [NAME OF THE BAND]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79400" y="762120"/>
            <a:ext cx="758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UO SANG THE SONG "SAVE A HORSE (RIDE A COWBOY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4-27T18:09:20Z</dcterms:modified>
  <cp:revision>476</cp:revision>
  <dc:subject/>
  <dc:title>Slide 1</dc:title>
</cp:coreProperties>
</file>