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8177-9E7A-474A-9686-021479678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5D89-34B9-4F93-9E52-B01B028AC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EF91-48DC-47AD-BCCB-CD9B597B6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F2EE-35C5-4FB3-B4C5-5D71C1025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7648-03CC-4484-8515-F81F93AC0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091D-954A-41F8-BC8F-C1C161BBA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98EE-723F-410E-8685-7A8AA314F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20EF-6630-44DB-97A6-242AFA490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AEF2-CA46-4E22-8D74-F6CE86086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9D12-A821-49C8-9DEF-7F09BDB41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4831-7CC6-4349-A582-5FE20B7A6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3C87-A923-44D9-812B-59EF3435A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E7A8-8230-4809-990B-8B12D3461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DD82-A530-42B8-A11B-E64D39E91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0029-06D2-4514-A25F-41C9B2D14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5003-4369-4181-B38A-E87C53CAF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7BA5-F2FB-4AB6-A3FB-D8110F9AC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1CEB-8BA7-4F9F-8F0F-7A7508DFB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82D4-F93D-44A8-AFF7-A120045AA7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0C37-13E0-4CC7-9B49-BDF2CE2CF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2A99-33BA-4F20-A04E-F0484A3C7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1C92-952D-47AB-A960-6D38C34B4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0F9D-0CDC-4674-A294-027B71641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E6EA-5DD4-431C-8A81-9B63DFDAD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54160" y="762120"/>
            <a:ext cx="6834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ERE THE 4 MEMBERS OF CSN&amp;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90480" y="761760"/>
            <a:ext cx="7763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ERE THE 4 MEMBERS OF THE BEA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USICIAN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GABRI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14440" y="762120"/>
            <a:ext cx="8115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LEDGEHAMMER", MTV'S MOST PLAYED SONG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  R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608120" y="762120"/>
            <a:ext cx="5927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LK ON THE WILD S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MUSICIAN IN THE NATIONAL DANCE HALL OF FAME, FOR POPULARIZING AND NAMING THE MOONWA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D  STEW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57280" y="774720"/>
            <a:ext cx="802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ONIGHT'S THE NIGHT (GONNA BE ALRIGHT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IE  N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90480" y="762120"/>
            <a:ext cx="7763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LINDSEY BUCKINGHAM'S GIRLFRIEND WHEN THEY BOTH JOINED FLEETWOOD MAC IN 197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76200" y="762120"/>
            <a:ext cx="839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 "GRACELAND" WON A GRAMMY FOR ALBUM OF THE YEAR IN 198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71320" y="9907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IAN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IC  CLA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01600" y="762120"/>
            <a:ext cx="8718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DEREK AND THE DOMIN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399960" y="4343400"/>
            <a:ext cx="8344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CROSBY,  STEPHEN  STILLS,  GRAHAM  NASH  &amp;  NEIL 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173240" y="762120"/>
            <a:ext cx="67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ERE THE 4 MEMBERS OF CSN&amp;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909720" y="3809880"/>
            <a:ext cx="7324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MCCARTNEY,  JOHN  LENNON,  GEORGE  HARRISON,  &amp;  RINGO  ST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684360" y="762120"/>
            <a:ext cx="77752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ERE THE 4 MEMBERS OF THE BEA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209520" y="4343400"/>
            <a:ext cx="8724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UCTED  INTO  THE  ROCK  &amp;  ROLL  HALL  OF  FAME  MULTIPLE 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304920" y="762120"/>
            <a:ext cx="85341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USICIAN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6360" y="762120"/>
            <a:ext cx="7991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LEDGEHAMMER", MTV'S MOST PLAYED SONG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312920" y="761760"/>
            <a:ext cx="6518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ALK ON THE WILD SI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78000" y="762120"/>
            <a:ext cx="838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MUSICIAN IN THE NATIONAL DANCE HALL OF FAME, FOR POPULARIZING AND NAMING THE MOONWAL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1880" y="762120"/>
            <a:ext cx="8220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ONIGHT'S THE NIGHT (GONNA BE ALRIGHT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6200" y="762120"/>
            <a:ext cx="7851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LINDSEY BUCKINGHAM'S GIRLFRIEND WHEN THEY BOTH JOINED FLEETWOOD MAC IN 197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28760" y="761760"/>
            <a:ext cx="8286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ALBUM "GRACELAND" WON A GRAMMY FOR ALBUM OF THE YEAR IN 198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10600" y="761760"/>
            <a:ext cx="8720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DEREK AND THE DOMINO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02T14:18:24Z</dcterms:modified>
  <cp:revision>504</cp:revision>
  <dc:subject/>
  <dc:title>Slide 1</dc:title>
</cp:coreProperties>
</file>