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9D62-201D-4F92-81CC-FEEE67F52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8CE9-E752-49C2-94AE-22913A88E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A8FA-D9A0-499F-BBFF-C1B6D63B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7591-4E0B-495C-ADC2-171C10186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5BF6-3B96-4CE9-9F16-5FB6A9F1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1159-42F4-4321-A005-8368459B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FA2C-8FF0-4C02-851B-63180B34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91FD-6ABD-4A01-9A72-42205F09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155A-D92C-4435-B714-AE33091CF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9A1-A9C2-4BEF-A230-91840AE23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700D-6DAB-45BC-B0EF-94438ABD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5441-66C2-4A62-B1B8-5C4AC0010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F345-82B1-40D7-856B-1E00EA994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E030-1C30-42C7-9C92-70EEAFAC2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7907-6BEE-4C7C-96D2-CF4567C7A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7044-3357-4204-AF5D-F2C8DA68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167-1F5D-4273-BEDF-397A502A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8AB7-028F-41AD-8C3C-D3ED05E53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4630-24D7-4E3C-805A-4AB7F3269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6D71-2D70-42B7-9DAF-9879A93EA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DBED-DAF0-40D7-9BDF-B07AC088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3CDD-903B-4F30-9BE2-1FCABA0F2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80C9-0D44-4B43-94C4-AFFAC273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0D59-6C6A-4602-B651-E0120D9D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54160" y="762120"/>
            <a:ext cx="68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4 MEMBERS OF CSN&amp;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4 MEMBERS OF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IAN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GAB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14440" y="762120"/>
            <a:ext cx="8115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LEDGEHAMMER", MTV'S MOST PLAYED SONG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608120" y="762120"/>
            <a:ext cx="5927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 ON THE WILD S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MUSICIAN IN THE NATIONAL DANCE HALL OF FAME, FOR POPULARIZING AND NAMING THE MOON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57280" y="77472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ONIGHT'S THE NIGHT (GONNA BE ALR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N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90480" y="762120"/>
            <a:ext cx="776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INDSEY BUCKINGHAM'S GIRLFRIEND WHEN THEY BOTH JOINED FLEETWOOD MAC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76200" y="762120"/>
            <a:ext cx="839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GRACELAND" WON A GRAMMY FOR ALBUM OF THE YEAR IN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01600" y="762120"/>
            <a:ext cx="871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DEREK AND THE DOMIN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99960" y="4343400"/>
            <a:ext cx="8344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ROSBY,  STEPHEN  STILLS,  GRAHAM  NASH  &amp;  NEIL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173240" y="762120"/>
            <a:ext cx="67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4 MEMBERS OF CSN&amp;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909720" y="3809880"/>
            <a:ext cx="7324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,  JOHN  LENNON,  GEORGE  HARRISON,  &amp;  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84360" y="762120"/>
            <a:ext cx="7775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4 MEMBERS OF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09520" y="4343400"/>
            <a:ext cx="8724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UCTED  INTO  THE  ROCK  &amp;  ROLL  HALL  OF  FAME  MULTIPLE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IAN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9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LEDGEHAMMER", MTV'S MOST PLAYED SONG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312920" y="761760"/>
            <a:ext cx="651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 ON THE WILD S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78000" y="762120"/>
            <a:ext cx="838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MUSICIAN IN THE NATIONAL DANCE HALL OF FAME, FOR POPULARIZING AND NAMING THE MOON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1880" y="762120"/>
            <a:ext cx="822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ONIGHT'S THE NIGHT (GONNA BE ALR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6200" y="762120"/>
            <a:ext cx="7851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INDSEY BUCKINGHAM'S GIRLFRIEND WHEN THEY BOTH JOINED FLEETWOOD MAC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GRACELAND" WON A GRAMMY FOR ALBUM OF THE YEAR IN 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0600" y="761760"/>
            <a:ext cx="8720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DEREK AND THE DOMIN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18:24Z</dcterms:modified>
  <cp:revision>504</cp:revision>
  <dc:subject/>
  <dc:title>Slide 1</dc:title>
</cp:coreProperties>
</file>