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3C28-1220-4B7B-9EDD-4C33AE19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69E-0558-4F82-8896-BEBAC2D4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9343-2D83-46E1-9003-36134493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EB7-D1BB-4C80-9F4C-0B053F619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0EA5-2C32-4537-927F-FA868393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90E9-7656-4D71-8AAB-ECF5ADEE9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41EF-3A83-4E5A-84A6-2678DD46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E9DA-E6C5-41A9-93F2-C57CE22F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7F1-DCC0-479E-A511-9C8D53B3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B631-0512-42F5-8484-3564FCBA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08F0-5EDC-4AA3-A158-5D508F523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9CB5-1305-420B-8969-4292ADDF5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E7E-9348-4102-BC6D-8B839C8A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682B-8372-4A47-BD8B-1EEC744E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6D0-CCC8-4408-B943-0C8EE70F0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9D1C-33CF-45EE-BA4E-2041CB32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ECF3-D542-4CA0-92BB-C89384F8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859E-03DD-41FD-ABA2-16F1954D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B3A0-D80F-4833-B529-0F8017F73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B90B-EF65-431C-9FA5-ACD8AA6E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A1C6-0416-4806-B32C-5CB29117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15E2-6688-419D-8569-C06A593D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64C3-3720-44CF-A289-BE0BC858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3280" y="761760"/>
            <a:ext cx="759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OAN JETT AND THE BLACKHE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76320" y="487692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  INFERNO  (BURN  BABY  BUR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47800" y="762120"/>
            <a:ext cx="7448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TRAM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ME  HOME,  COUNTRY  R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JOHN DENVER IS 1 OF 4 STATE SONGS OF WEST VIRGI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ICAL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57360" y="757080"/>
            <a:ext cx="782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MASON WILLIAMS, AN INSTRUMENTAL PIECE FOR WHICH HE WON 3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TANS  OF 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5280" y="762120"/>
            <a:ext cx="781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 STRAITS ONLY HAD 2 TOP-5 HITS: "MONEY FOR NOTHING", AND WHAT SONG OFF THEIR FIRS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HEAR  A  SYMP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SUPREMES BEGINS WITH THE LYRICS "YOU'VE GIVEN ME A TRUE LOVE, AND EVERY DAY, I THANK YOU,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EELY DAN SONG CONTAINS THE LYRIC "THEY CALL ALABAMA THE CRIMSON T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61920" y="4876920"/>
            <a:ext cx="7220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ING  DOWN  TH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33280" y="762120"/>
            <a:ext cx="867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OP-10 SO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70040" y="762120"/>
            <a:ext cx="760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TRAM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SOUL  S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9880" y="762120"/>
            <a:ext cx="800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ONG BY TRAIN, CONTAINING THE LYRIC "AIN'T THAT MR. MISTER ON THE RADIO, THE STERE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ROCK  'N  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9640" y="762120"/>
            <a:ext cx="698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OAN JETT AND THE BLACKHE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76200" y="4343400"/>
            <a:ext cx="659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INCLUDE  MUSICAL 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7520" y="761760"/>
            <a:ext cx="850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JOHN DENVER IS 1 OF 4 STATE SONGS OF WEST VIRGI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MASON WILLIAMS, AN INSTRUMENTAL PIECE FOR WHICH HE WON 3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 STRAITS ONLY HAD 2 TOP-5 HITS: "MONEY FOR NOTHING", AND WHAT SONG OFF THEIR FIRS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SUPREMES BEGINS WITH THE LYRICS "YOU'VE GIVEN ME A TRUE LOVE, AND EVERY DAY, I THANK YOU,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EELY DAN SONG CONTAINS THE LYRIC "THEY CALL ALABAMA THE CRIMSON T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OP-10 SONG BY THE TALKING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0360" y="762120"/>
            <a:ext cx="842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ONG BY TRAIN, CONTAINING THE LYRIC "AIN'T THAT MR. MISTER ON THE RADIO, THE STERE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24:12Z</dcterms:modified>
  <cp:revision>468</cp:revision>
  <dc:subject/>
  <dc:title>Slide 1</dc:title>
</cp:coreProperties>
</file>