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BAE6C-199C-4F3E-B662-CB6CBE99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7248-A389-4B5C-ABB7-9B88D7539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44BE-5EDF-4CC6-B542-489C3D546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BF01-1DB3-486F-919F-9A113AC68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4B59-8325-40E7-90CF-815E9273A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FC8D-67AC-43BB-832D-DF201B76F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219B-46E1-43F2-8EB8-FFA9788A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F52D-6FB6-4D56-960B-9638AB58C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C49B-81CC-43B6-8EFD-23160643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2076-B7E4-4CDA-8816-90C4E9E9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E19F-1091-456A-9C6D-E0744D8DB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6F8-2EDC-4DE4-8987-003E9F387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3AE8-9AE8-4E2B-B76B-A53F7610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E2E1-BCAF-45F7-95A0-701C857F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FC49-3518-4E20-8B4E-D87FEC238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A44C-9C3A-4BB3-A053-5D9B94208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E2B9-4924-4163-92BD-15054372E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A97B-984C-43D0-ACE8-26461CD3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F068-F381-421D-8B5F-2ECAA60C3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7D72-174A-4224-B918-EA2DE15E2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923C-08E8-4D7E-BE82-7644B60B7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7A4F-237F-4C29-8003-C8CAD545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3C33-46E6-4F6E-828D-31F457DF1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3280" y="761760"/>
            <a:ext cx="759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OAN JETT AND THE BLACKHE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76320" y="4876920"/>
            <a:ext cx="8991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  INFERNO  (BURN  BABY  BUR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47800" y="762120"/>
            <a:ext cx="74484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TRAMM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KE  ME  HOME,  COUNTRY  ROA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JOHN DENVER IS 1 OF 4 STATE SONGS OF WEST VIRGI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SSICAL  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57360" y="757080"/>
            <a:ext cx="782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MASON WILLIAMS, AN INSTRUMENTAL PIECE FOR WHICH HE WON 3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LTANS  OF  SW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5280" y="762120"/>
            <a:ext cx="781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 STRAITS ONLY HAD 2 TOP-5 HITS: "MONEY FOR NOTHING", AND WHAT SONG OFF THEIR FIRST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HEAR  A  SYMP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66640" y="762120"/>
            <a:ext cx="8010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SUPREMES BEGINS WITH THE LYRICS "YOU'VE GIVEN ME A TRUE LOVE, AND EVERY DAY, I THANK YOU,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CON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EELY DAN SONG CONTAINS THE LYRIC "THEY CALL ALABAMA THE CRIMSON T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961920" y="4876920"/>
            <a:ext cx="7220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ING  DOWN  THE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33280" y="762120"/>
            <a:ext cx="867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OP-10 SONG BY THE TALKING HE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70040" y="762120"/>
            <a:ext cx="760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TRAMM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SOUL  S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9880" y="762120"/>
            <a:ext cx="8004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ONG BY TRAIN, CONTAINING THE LYRIC "AIN'T THAT MR. MISTER ON THE RADIO, THE STERE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ROCK  'N  RO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79640" y="762120"/>
            <a:ext cx="698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JOAN JETT AND THE BLACKHE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276200" y="4343400"/>
            <a:ext cx="659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INCLUDE  MUSICAL  STY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7520" y="761760"/>
            <a:ext cx="850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JOHN DENVER IS 1 OF 4 STATE SONGS OF WEST VIRGI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MASON WILLIAMS, AN INSTRUMENTAL PIECE FOR WHICH HE WON 3 GRAM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4360" y="762120"/>
            <a:ext cx="7775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RE STRAITS ONLY HAD 2 TOP-5 HITS: "MONEY FOR NOTHING", AND WHAT SONG OFF THEIR FIRST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7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THE SUPREMES BEGINS WITH THE LYRICS "YOU'VE GIVEN ME A TRUE LOVE, AND EVERY DAY, I THANK YOU,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6200" y="761760"/>
            <a:ext cx="785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STEELY DAN SONG CONTAINS THE LYRIC "THEY CALL ALABAMA THE CRIMSON T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33280" y="761760"/>
            <a:ext cx="867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TOP-10 SONG BY THE TALKING HE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60360" y="762120"/>
            <a:ext cx="842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ONG BY TRAIN, CONTAINING THE LYRIC "AIN'T THAT MR. MISTER ON THE RADIO, THE STERE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24:12Z</dcterms:modified>
  <cp:revision>468</cp:revision>
  <dc:subject/>
  <dc:title>Slide 1</dc:title>
</cp:coreProperties>
</file>