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2E4-61C3-44AD-8E13-AB9CA33B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E3A-A4ED-48B4-81ED-4769F2DC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84C-73E9-4E4F-8003-0271E193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A61-1C21-4906-99C6-510413EB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C138-FA90-460A-8AEB-20E9F422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6A6-967C-4ADC-96C5-9C10EC8E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693-5F4D-49A2-9A7E-D773E7E2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F0F-B02D-4CF6-97EB-66DCEDCB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377-655A-4B4F-A5F4-199478AD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2E1-63FD-4E2A-8599-C5EDB8C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A0E2-DCD8-4C7C-A11C-CC586337A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549-FE41-4825-9E7F-30B1EE07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7600-5794-4E00-A2DB-A3F6AEBE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593-9A34-454D-AF45-67E779A6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FEAD-F51B-4070-A54B-F3CF1DF1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FD8-3A6D-475A-91E0-9671FE00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B1E-5F0A-4405-A7EB-25BCA9FB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252E-4044-4031-BB37-5D517D35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6DF-483A-436A-9122-4D30B3B7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E31-E2EA-42FA-92B4-017F6E033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7347-8358-446C-BEF3-D999915A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23B4-AB81-4C05-945E-7602FA69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76A1-AF2B-4EC1-A74E-0F8E819B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UL SIMON SONG MENTIONS "ROSIE, THE QUEEN OF CORO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0800" y="762120"/>
            <a:ext cx="7500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WORRY,  BE  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BY MCFERRIN SONG WON A GRAMMY FOR SONG OF THE YEAR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R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7960" y="762120"/>
            <a:ext cx="814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J. GEILS BAND, ABOUT AN OLD CLASSMATE POSING N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VES  LIKE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69880" y="762120"/>
            <a:ext cx="800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MAROON 5 SONG ABOUT AN EXCELLENT DANCER WAS NOMINATED FOR A GRAM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6320" y="762120"/>
            <a:ext cx="459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N THIS 1977 BILLY JOEL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971960" y="762120"/>
            <a:ext cx="381024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LIKE  AN  EGYP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THE BANGLES, BEFORE "ETERNAL FL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5920" y="4876920"/>
            <a:ext cx="891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TTIN'  ON)  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5920" y="762120"/>
            <a:ext cx="89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SONG ON THE U.S.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6480" y="762120"/>
            <a:ext cx="73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A  BATTLE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4360" y="762120"/>
            <a:ext cx="777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PAT BENA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42960" y="4343400"/>
            <a:ext cx="6058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  AND  JULIO  DOWN  BY  THE  SCHOOL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1200" y="762120"/>
            <a:ext cx="812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UL SIMON SONG MENTIONS "ROSIE, THE QUEEN OF CORO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FEATURE  WHI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1560" y="761760"/>
            <a:ext cx="794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BY MCFERRIN SONG WON A GRAMMY FOR SONG OF THE YEAR IN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J. GEILS BAND, ABOUT AN OLD CLASSMATE POSING N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1720" y="762120"/>
            <a:ext cx="808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MAROON 5 SONG ABOUT AN EXCELLENT DANCER WAS NOMINATED FOR A GRAM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1680" y="761760"/>
            <a:ext cx="4814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N THIS 1977 BILLY JOEL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8098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1800" y="761760"/>
            <a:ext cx="7697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THE BANGLES, BEFORE "ETERNAL FL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SONG ON THE U.S.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PAT BENA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26:49Z</dcterms:modified>
  <cp:revision>475</cp:revision>
  <dc:subject/>
  <dc:title>Slide 1</dc:title>
</cp:coreProperties>
</file>