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8E6E-7749-484F-886A-379D936D1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8C92-5822-46BD-8B6B-DFD154D32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D623-AA74-4376-8876-4622ECD78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4FFC-6826-4B1F-8E4F-FA365CBA8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A84D-547B-48C2-A291-8C043F326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3B0D-385E-431E-8072-EC5176AE7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7B05-B1FA-4A01-BC3C-FFFB0C632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8AFC-4A96-4002-B071-CE289D38F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D3D7-47F1-4E0D-8F89-E283BEAE3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AB32-1187-4247-A434-BA618987D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30EC-5665-4717-9509-344BA07B2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260A-B7D0-498F-98E7-16073D800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210D-90D2-485B-8EBC-15BC6996E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8483-CECC-4180-BD14-25850827E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E705-E99D-4B00-8054-5B4415210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477E-9D3E-4002-AAF1-0FF009006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016C-61B8-4E3D-8F8D-29D3A6776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E343-69EE-46BA-BA98-F1F34DC8C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9ACF-092B-4728-92DA-02145FD91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E9EE-5C28-4DFA-8BE9-A216FB965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A913-F8E7-443B-A6D2-CB3FBA896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91F2-34B6-4767-AF2F-9C811DDFA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C49E-866D-4E53-8893-95931EDE1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71320" y="15238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G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00040" y="761760"/>
            <a:ext cx="8142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UL SIMON SONG MENTIONS "ROSIE, THE QUEEN OF CORON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876920"/>
            <a:ext cx="7162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TE  CHRIST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820800" y="762120"/>
            <a:ext cx="75009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NG CROSBY SONG IS THE BEST-SELLING SINGLE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162080" y="4876920"/>
            <a:ext cx="6819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'T  WORRY,  BE  HAP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693720" y="762120"/>
            <a:ext cx="7756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BBY MCFERRIN SONG WON A GRAMMY FOR SONG OF THE YEAR IN 198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NTERF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07960" y="762120"/>
            <a:ext cx="8148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THE J. GEILS BAND, ABOUT AN OLD CLASSMATE POSING NU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028880" y="4876920"/>
            <a:ext cx="70866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VES  LIKE  JAG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569880" y="762120"/>
            <a:ext cx="8002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MAROON 5 SONG ABOUT AN EXCELLENT DANCER WAS NOMINATED FOR A GRAMMY AW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TRA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76320" y="762120"/>
            <a:ext cx="4591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TITLE SONG ON THIS 1977 BILLY JOEL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4971960" y="762120"/>
            <a:ext cx="3810240" cy="30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K  LIKE  AN  EGYPT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76440" y="762120"/>
            <a:ext cx="7791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#1 SONG BY THE BANGLES, BEFORE "ETERNAL FLA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15920" y="4876920"/>
            <a:ext cx="8910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SITTIN'  ON)  THE  DOCK  OF  THE  B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15920" y="762120"/>
            <a:ext cx="8910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TIS REDDING SONG WAS THE FIRST POSTHUMOUS #1 SONG ON THE U.S. CHA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06480" y="762120"/>
            <a:ext cx="73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NG CROSBY SONG IS THE BEST-SELLING SINGLE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VE  IS  A  BATTLE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84360" y="762120"/>
            <a:ext cx="7775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PAT BENAT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542960" y="4343400"/>
            <a:ext cx="6058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  AND  JULIO  DOWN  BY  THE  SCHOOLY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11200" y="762120"/>
            <a:ext cx="8121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UL SIMON SONG MENTIONS "ROSIE, THE QUEEN OF CORON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419040" y="48769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FEATURE  WHIST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01560" y="761760"/>
            <a:ext cx="7940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BBY MCFERRIN SONG WON A GRAMMY FOR SONG OF THE YEAR IN 198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66560" y="762120"/>
            <a:ext cx="8210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THE J. GEILS BAND, ABOUT AN OLD CLASSMATE POSING NU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1720" y="762120"/>
            <a:ext cx="8080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MAROON 5 SONG ABOUT AN EXCELLENT DANCER WAS NOMINATED FOR A GRAMMY AW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-31680" y="761760"/>
            <a:ext cx="48146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TITLE SONG ON THIS 1977 BILLY JOEL ALB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4876920" y="762120"/>
            <a:ext cx="380988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21800" y="761760"/>
            <a:ext cx="7697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#1 SONG BY THE BANGLES, BEFORE "ETERNAL FLA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5920" y="761760"/>
            <a:ext cx="8910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TIS REDDING SONG WAS THE FIRST POSTHUMOUS #1 SONG ON THE U.S. CHAR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41240" y="762120"/>
            <a:ext cx="7661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PAT BENAT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6-02T14:26:49Z</dcterms:modified>
  <cp:revision>475</cp:revision>
  <dc:subject/>
  <dc:title>Slide 1</dc:title>
</cp:coreProperties>
</file>