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C3FA-51B8-4CA5-B60D-8BD92B48C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8950-B621-46C8-AE76-65B3A62EE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0F7E-5C0E-4C52-9518-0E0C27CBC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FE06-C773-4C6A-BC54-21570A10A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3827-13F5-4688-9FAB-50916A610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40D9-C65C-4896-A303-8F03CD648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A5D9-5EF6-4A26-9B54-986871064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F3A5-57E8-4955-9DEB-9138770E6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1C60-93C9-472B-BF84-6F48A57B4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C9B7-CCDC-446F-BC9D-BBF0C9C14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48B9-B099-4403-B2B3-2EB9A6737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1405-1CB9-40E5-B7CF-FB2BFE311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095C-4606-4C31-9DED-14E9C23FB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9F4C-FCE0-40D7-86E9-A609E519E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EF8F3-5042-4347-9727-B4C4AF35C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47B8-7843-48D6-9822-4FF85E545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7E07-EA87-44B8-9F44-C559AEE65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FBF3-AF2E-4EFD-AC62-CCC831A15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7372-15AC-4B1A-B20C-207CFD392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188E-9598-40DE-A672-7EC7B9EA9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581E-FCF9-43B1-8D70-5FB92C8CF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7054-A4ED-491D-9430-22158B04F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A00E-E2EB-4D69-9AD5-661C6335C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71320" y="9907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UBLE MUSICAL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30480" y="761760"/>
            <a:ext cx="6683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MMY JAMES AND THE SHONDELLS HAD TWO #1 HITS: "HANKY PANKY"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295280" y="762120"/>
            <a:ext cx="6553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TWO THING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DO ALL THESE SONGS HAVE IN COMMON? (ONE POINT EACH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RPLE  HA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16080" y="762120"/>
            <a:ext cx="8511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JIMI HENDRIX EXPERIENCE IS RECOGNIZED BY MOST MUSIC CRITICS AS ONE OF THE TOP 10 GUITAR SONGS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162080" y="4876920"/>
            <a:ext cx="6819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TE  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93720" y="762120"/>
            <a:ext cx="7756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EAM HAD TWO TOP-10 SONGS: "SUNSHINE OF YOUR LOVE"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066680" y="4419720"/>
            <a:ext cx="70106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RS.  BROWN  YOU'VE  GOT  A  LOVELY  DAUGH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76360" y="762120"/>
            <a:ext cx="799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RMAN'S HERMITS HAD TWO #1 SONGS IN THE U.S.: "I'M HENRY VIII, I AM"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028880" y="4876920"/>
            <a:ext cx="70866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XWELL'S  SILVER  HAM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84160" y="762120"/>
            <a:ext cx="7373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RITTEN BY PAUL MCCARTNEY ABOUT 3 MURDERS DID THE OTHER 3 BEATLES H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LOW  YEL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85760" y="762120"/>
            <a:ext cx="6972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NOVAN         SONG MENTIONS AN "ELECTRICAL BANAN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INT  IT  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38280" y="762120"/>
            <a:ext cx="7867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ROLLING STONES IS THE FIRST #1 SONG TO FEATURE A SIT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  RUBBER  B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09760" y="762120"/>
            <a:ext cx="8123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RITTEN BY PAUL SIMON WAS THE ONLY TOP-10 SONG BY THE CYRKLE, WITH CHORUS "THE MORNIN' SUN IS SHININ' LIKE A [TITLE]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62080" y="762120"/>
            <a:ext cx="8618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JIMI HENDRIX EXPERIENCE IS RECOGNIZED BY MOST MUSIC CRITICS AS ONE OF THE TOP 10 GUITAR SONGS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ITE:  JUDY  BLUE  E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8040" y="762120"/>
            <a:ext cx="7926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OSBY, STILLS &amp; NASH SONG CONTAINS THE LYRICS "I AM YOURS, YOU ARE MINE, YOU ARE WHAT YOU ARE, YOU MAKE IT HAR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IMSON  AND  CL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195560" y="762120"/>
            <a:ext cx="6752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MMY JAMES AND THE SHONDELLS HAD TWO #1 HITS: "HANKY PANKY"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19040" y="434340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CORDED  IN  THE  1960'S  &amp;  CONTAIN  NAMES  OF  COL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371600" y="762120"/>
            <a:ext cx="6400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TWO THING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DO ALL THESE SONGS HAVE IN COMMON? (ONE POINT EACH)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13960" y="761760"/>
            <a:ext cx="7513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EAM HAD TWO TOP-10 SONGS: "SUNSHINE OF YOUR LOVE"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90400" y="762120"/>
            <a:ext cx="796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RMAN'S HERMITS HAD TWO #1 SONGS IN THE U.S.: "I'M HENRY VIII, I AM"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74800" y="762120"/>
            <a:ext cx="7392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RITTEN BY PAUL MCCARTNEY ABOUT 3 MURDERS DID THE OTHER 3 BEATLES H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58400" y="762120"/>
            <a:ext cx="7024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NOVAN         SONG MENTIONS AN "ELECTRICAL BANAN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69880" y="761760"/>
            <a:ext cx="8002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ROLLING STONES IS THE FIRST #1 SONG TO FEATURE A SIT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90680" y="761760"/>
            <a:ext cx="8161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RITTEN BY PAUL SIMON WAS THE ONLY TOP-10 SONG BY THE CYRKLE, WITH CHORUS "THE MORNIN' SUN IS SHININ' LIKE A [TITLE]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03280" y="762120"/>
            <a:ext cx="8136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ROSBY, STILLS &amp; NASH SONG CONTAINS THE LYRICS "I AM YOURS, YOU ARE MINE, YOU ARE WHAT YOU ARE, YOU MAKE IT HAR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6-02T14:31:13Z</dcterms:modified>
  <cp:revision>481</cp:revision>
  <dc:subject/>
  <dc:title>Slide 1</dc:title>
</cp:coreProperties>
</file>