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84FF-BBB7-46C9-A4C2-517D780D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C1CD-B6AF-4CDC-BAE4-F7C4D690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424-50D6-48C4-8EA1-A9C302188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BF95-30FE-4625-A1DF-53D460CEA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503-825E-4641-A34B-DC7C4016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C3D1-F95B-4ACB-92F8-01F5FFC4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B047-79DD-4B35-A357-810FD5B6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AE2-6758-4F97-A3AD-2CCE142E2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4B4-AED5-4239-85D4-4F4AF30F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FEF-EFB4-4609-8B3E-01A95279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36E-4A71-4349-A956-9A2C0933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9789-58A2-4CB9-9CD1-908206E1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F6F4-BD0D-490B-A471-0D444C5A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FC6-4AB6-4358-B39F-74EAA6AD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D58-DFA1-444D-AFB7-E655A7B8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2926-834F-470B-A2E9-0B6FAA65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5228-1049-4519-B2B8-385427CD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F71-FCD8-430B-9D8D-11F5E6B3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4A95-C0ED-4634-B8D8-15B8EB436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3F5A-5F1A-4643-B06D-F2C61DF5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7956-4BFC-4058-8AB9-78D217DB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E60-1EAD-466B-829F-5AA99111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7C42-4155-48B0-ABE0-AF17B675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MUSICAL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MY JAMES AND THE SHONDELLS HAD TWO #1 HITS: "HANKY PANKY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 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SONGS HAVE IN COMMON? (ONE POINT EACH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H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6080" y="762120"/>
            <a:ext cx="8511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IS RECOGNIZED BY MOST MUSIC CRITICS AS ONE OF THE TOP 10 GUITAR SONG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3720" y="762120"/>
            <a:ext cx="775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M HAD TWO TOP-10 SONGS: "SUNSHINE OF YOUR LOVE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66680" y="44197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S.  BROWN  YOU'VE  GOT  A  LOVELY 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RMAN'S HERMITS HAD TWO #1 SONGS IN THE U.S.: "I'M HENRY VIII, I AM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WELL'S  SILVER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84160" y="762120"/>
            <a:ext cx="737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MCCARTNEY ABOUT 3 MURDERS DID THE OTHER 3 BEATLES H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5760" y="762120"/>
            <a:ext cx="697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        SONG MENTIONS AN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IT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38280" y="762120"/>
            <a:ext cx="786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ROLLING STONES IS THE FIRST #1 SONG TO FEATURE A S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RUBBER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9760" y="762120"/>
            <a:ext cx="8123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SIMON WAS THE ONLY TOP-10 SONG BY THE CYRKLE, WITH CHORUS "THE MORNIN' SUN IS SHININ' LIKE A [TITLE]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IS RECOGNIZED BY MOST MUSIC CRITICS AS ONE OF THE TOP 10 GUITAR SONG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E:  JUDY  BLU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8040" y="762120"/>
            <a:ext cx="792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 &amp; NASH SONG CONTAINS THE LYRICS "I AM YOURS, YOU ARE MINE, YOU ARE WHAT YOU ARE, YOU MAKE IT H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AND  C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95560" y="762120"/>
            <a:ext cx="6752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MY JAMES AND THE SHONDELLS HAD TWO #1 HITS: "HANKY PANKY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343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CORDED  IN  THE  1960'S  &amp;  CONTAIN  NAMES  OF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 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SONGS HAVE IN COMMON? (ONE POINT EACH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3960" y="761760"/>
            <a:ext cx="7513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M HAD TWO TOP-10 SONGS: "SUNSHINE OF YOUR LOVE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RMAN'S HERMITS HAD TWO #1 SONGS IN THE U.S.: "I'M HENRY VIII, I AM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MCCARTNEY ABOUT 3 MURDERS DID THE OTHER 3 BEATLES H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58400" y="762120"/>
            <a:ext cx="70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        SONG MENTIONS AN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69880" y="761760"/>
            <a:ext cx="8002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ROLLING STONES IS THE FIRST #1 SONG TO FEATURE A SI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SIMON WAS THE ONLY TOP-10 SONG BY THE CYRKLE, WITH CHORUS "THE MORNIN' SUN IS SHININ' LIKE A [TITLE]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 &amp; NASH SONG CONTAINS THE LYRICS "I AM YOURS, YOU ARE MINE, YOU ARE WHAT YOU ARE, YOU MAKE IT H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31:13Z</dcterms:modified>
  <cp:revision>481</cp:revision>
  <dc:subject/>
  <dc:title>Slide 1</dc:title>
</cp:coreProperties>
</file>