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C639-F0E8-4CEB-A00F-24ABFDE4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7801-6E22-4AE5-BCB1-4F8A4C82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74F0-28AC-4267-9C34-FBE7896B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E4A7-A5D5-447B-AEF9-FDC187DA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8EA-8F7F-42ED-BA6C-BA358472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794C-9DD3-412C-9FFA-3447DB4A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7E6-80EF-40DF-8F4F-FDEE474D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077A-6783-4253-82B2-4BC41602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482-8A58-405C-9168-48D8122F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9F4E-4729-4398-BA75-B9CAB23A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DD8A-3EA2-41A3-AE89-40EE980E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2221-4D07-4803-B6CF-5E5FA0C3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339B-C50C-4824-B6F2-852D1E92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207-F192-4E36-B4AC-3C7C4CFF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809-B0DA-4653-A7AC-245BB1EF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5655-E70A-4541-BF98-F5A27ABF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0E7D-D0FF-46A7-A4B7-C125E4F1A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E6E8-CBCD-4E57-A6F1-DCA39A92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81B-7E13-4976-9CF0-1F9EE03E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477-081C-4A30-A45F-09BF0C57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DC47-211D-40A5-9383-BE934349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A34-76FD-4E2E-A1D9-399CB14B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FEF-9DDB-48DC-83C8-F470B079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0666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28600" y="762120"/>
            <a:ext cx="68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VINCE OF CANADA BORDERS 2 U.S. STATES THAT BEGIN WITH THE LETTER "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MUSLIM-MAJORITY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EZ CANAL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52360" y="762120"/>
            <a:ext cx="68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 EMPIRE AROS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9200" y="762120"/>
            <a:ext cx="790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POPULATION IS 51.7% MALE, THE HIGHEST PERCENTAGE OF ANY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ISLAND, TECHNICALLY PART OF DENM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ID RUSSIA INVADE ON FEBRUARY 24, 20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ILAND USED TO BE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90520" y="762120"/>
            <a:ext cx="6762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VINCE OF CANADA BORDERS 2 U.S. STATES THAT BEGIN WITH THE LETTER "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TORIES  IN  THE  GAME  OF 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MUSLIM-MAJORITY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7360" y="762120"/>
            <a:ext cx="782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EZ CANAL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 EMPIRE AROS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POPULATION IS 51.7% MALE, THE HIGHEST PERCENTAGE OF ANY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ISLAND, TECHNICALLY PART OF DENM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ID RUSSIA INVADE ON FEBRUARY 24, 20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ILAND USED TO BE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0:45Z</dcterms:modified>
  <cp:revision>433</cp:revision>
  <dc:subject/>
  <dc:title>Slide 1</dc:title>
</cp:coreProperties>
</file>