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AF92-32A4-47B4-86E4-D7436ACD0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19AD-39E4-4E3D-91D2-CAD2D87FE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12AA-21B7-4AE7-B4AB-5DC0AF3E5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1478-953D-472D-9444-89934ED4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1CDD-1DB6-4D62-9B88-EED994AD3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90D2-8303-4942-83E1-7220B378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68AC-2EA1-49A7-8FE6-2586E3CB0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BDEC-5F9F-4377-A4B0-9159732A9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57DBD-21B7-4D30-92E7-F39A4B91C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A84C-4DF7-4DC0-AC0E-C7684D061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4697-9926-4341-8222-4DC22F360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4F52-2079-4AF9-9531-853AEB156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3756-1505-4415-8AFC-65369CAD8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85CE-2C96-406F-83F2-C5AE2048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E5F6-50F0-4902-B112-D34EDD701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0E4F-64CE-4A20-A672-7F60594F6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929B-6884-4C53-9A88-D867111E1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431F-69E9-43DD-8FF8-71964F23E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EC98-D3A0-4930-BF1A-55E36983F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A982-754B-4503-91ED-6D141A830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4EB7-A161-4828-A4F7-FB787C63D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239C9-9B22-45AB-A0A4-D12DEC78B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882-BF0F-4CD8-95EA-F9297313C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1066680"/>
            <a:ext cx="6438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28600" y="762120"/>
            <a:ext cx="68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VINCE OF CANADA BORDERS 2 U.S. STATES THAT BEGIN WITH THE LETTER "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MUSLIM-MAJORITY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Y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28560" y="762120"/>
            <a:ext cx="7886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UEZ CANAL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52360" y="762120"/>
            <a:ext cx="683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 EMPIRE AROSE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19200" y="762120"/>
            <a:ext cx="790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POPULATION IS 51.7% MALE, THE HIGHEST PERCENTAGE OF ANY U.S.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4000" y="762120"/>
            <a:ext cx="849600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ISLAND, TECHNICALLY PART OF DENM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KR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ID RUSSIA INVADE ON FEBRUARY 24, 202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ILAND USED TO BE KNOWN BY WHA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T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90520" y="762120"/>
            <a:ext cx="6762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VINCE OF CANADA BORDERS 2 U.S. STATES THAT BEGIN WITH THE LETTER "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86080" y="43434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ITORIES  IN  THE  GAME  OF 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MUSLIM-MAJORITY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57360" y="762120"/>
            <a:ext cx="7829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UEZ CANAL IS LOCATED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CA EMPIRE AROSE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POPULATION IS 51.7% MALE, THE HIGHEST PERCENTAGE OF ANY U.S.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ISLAND, TECHNICALLY PART OF DENM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ID RUSSIA INVADE ON FEBRUARY 24, 202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ILAND USED TO BE KNOWN BY WHA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2:40:45Z</dcterms:modified>
  <cp:revision>433</cp:revision>
  <dc:subject/>
  <dc:title>Slide 1</dc:title>
</cp:coreProperties>
</file>