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8A7-52A5-4848-954A-BC5F294D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DB1-D6E7-4AEC-877B-88EF3370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DB15-AE86-409C-B9DC-B5130578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72B-5027-42F3-B4E3-C743DB90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794-EB6E-4B4E-AE2D-72960698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1322-4F7D-42EC-B179-C64B7A00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336-2093-4C12-B940-E57D5291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E69-7BA9-4922-822E-FD358300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592-1B89-44A9-B8A5-E2971A5E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743-B683-4CC9-9FDE-16A0010F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3525-E600-490B-AD87-8FF0BBF0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E627-F657-49D2-B8F2-4B2605BB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024C-11F0-417A-9384-879A3E96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05D-493F-481E-A6B4-35F8860B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7592-AEA7-476D-BFF5-4AD1EA44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16A-99CB-4C73-B35B-8BBAB75B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402-518D-4A14-8C18-00903BC1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2B3-3CE0-4C39-8A89-CA518E14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F1E9-BFED-4A09-BE2C-22A5BAE2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19F-A9C5-476D-A5CF-C66B690B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D2B-FF97-4405-94B1-73F946A9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F79-D43B-4997-B10D-B5E6A6C7C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970A-2119-49AF-BE74-647EEA3B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0760" y="738360"/>
            <a:ext cx="8319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DO THESE 3 RAPPERS HAVE IN THEIR NAM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11080" y="266076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486240" y="2649600"/>
            <a:ext cx="2144520" cy="250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019920" y="2666880"/>
            <a:ext cx="209556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YMPICS, BOXING, JUDO, TAEKWONDO, AND WRESTLING AWARD TWO OF WHAT TYPE OF ME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O  MUCH) 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85880" y="762120"/>
            <a:ext cx="577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IN "TMI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8160" y="762120"/>
            <a:ext cx="780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IMMY EAT WORLD, WITH CHORUS REFRAIN "LITTLE GIRL, YOU'RE IN  ____ ____ OF THE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CALIFORNIA IS THE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SSOCIATED WITH THE WORDS NEW, BORROWED, AND B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(EMMA,  SHARON,  RO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4840" y="687240"/>
            <a:ext cx="6934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025640" y="2587680"/>
            <a:ext cx="208908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570120" y="2587680"/>
            <a:ext cx="200376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029280" y="2587680"/>
            <a:ext cx="200988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525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(CUBE,  T,  VANIL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0520" y="708120"/>
            <a:ext cx="91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DO THESE 3 RAPPERS HAVE IN THEIR NA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713040" y="2655720"/>
            <a:ext cx="1717920" cy="200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167652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95320" y="4876920"/>
            <a:ext cx="7353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AG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YMPICS, BOXING, JUDO, TAEKWONDO, AND WRESTLING AWARD TWO OF WHAT TYPE OF ME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71680" y="762120"/>
            <a:ext cx="620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IN "TMI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IMMY EAT WORLD, WITH CHORUS REFRAIN "LITTLE GIRL, YOU'RE IN  ____ ____ OF THE 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CALIFORNIA IS THE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SSOCIATED WITH THE WORDS NEW, BORROWED, AND B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SE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2371680" cy="25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433680" y="2666880"/>
            <a:ext cx="2276640" cy="25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086520" y="2666880"/>
            <a:ext cx="22813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5:10Z</dcterms:modified>
  <cp:revision>438</cp:revision>
  <dc:subject/>
  <dc:title>Slide 1</dc:title>
</cp:coreProperties>
</file>