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2DC0-2B76-4760-84B1-37BB4D9A3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4CF1-29D7-464B-9400-788E4338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7DD5-8399-4803-8B7C-0B0E95EDA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B26A-EAEA-4042-8626-4A24E6961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DFA8-98F9-44ED-AF0B-4C0E3E577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405A-D2F2-4D8A-8295-CAC9A28AD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4E64-601E-4996-8788-9150CBE0B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D397-8550-4DDE-BF61-745C171C3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DC17-4D2B-4932-85CC-5668FD77F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C7F2-EE54-4E02-AE0D-197F1041B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F557-8EA0-4A66-BE47-98DE31CD8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4492-3CDB-46DC-9F67-6C8EAADBF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017B-4EE9-4C85-B3E4-084FF83F5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040B-A611-4E0F-85AD-EE3CC5699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DCB7-7047-40CF-9237-97988A046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EAB5-79CE-4CD8-BDB9-ADF246318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1089-9643-405F-AB57-3DEAF8517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AF0C-68AA-488A-818A-F4C03551E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543F-EF75-4BB4-AF55-9E64D6C48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9D93-9E32-4D47-9F32-E4D35ACD4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21DF-D6D7-4A98-BEC5-395C4E12A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BC56-7186-45B1-8FF0-EC1FB5D0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AB0B-9475-45FA-8397-FDAB8F9C2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52520" y="1523880"/>
            <a:ext cx="64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10760" y="738360"/>
            <a:ext cx="8319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RD DO THESE 3 RAPPERS HAVE IN THEIR NAM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811080" y="2660760"/>
            <a:ext cx="228600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3486240" y="2649600"/>
            <a:ext cx="2144520" cy="250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6019920" y="2666880"/>
            <a:ext cx="209556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5-LETTER WORD STARTING WITH "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N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LYMPICS, BOXING, JUDO, TAEKWONDO, AND WRESTLING AWARD TWO OF WHAT TYPE OF MED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OO  MUCH)  IN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685880" y="762120"/>
            <a:ext cx="57722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I" IN "TMI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68160" y="762120"/>
            <a:ext cx="780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JIMMY EAT WORLD, WITH CHORUS REFRAIN "LITTLE GIRL, YOU'RE IN  ____ ____ OF THE 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ICKNAME OF CALIFORNIA IS THE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24000" y="762120"/>
            <a:ext cx="849600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SSOCIATED WITH THE WORDS NEW, BORROWED, AND BL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  (EMMA,  SHARON,  ROG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04840" y="687240"/>
            <a:ext cx="6934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SE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025640" y="2587680"/>
            <a:ext cx="208908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3570120" y="2587680"/>
            <a:ext cx="200376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029280" y="2587680"/>
            <a:ext cx="2009880" cy="22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5-LETTER WORD STARTING WITH "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95256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38880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  (CUBE,  T,  VANILL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0520" y="708120"/>
            <a:ext cx="912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RD DO THESE 3 RAPPERS HAVE IN THEIR NAM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71600" y="2666880"/>
            <a:ext cx="1828800" cy="2011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3713040" y="2655720"/>
            <a:ext cx="1717920" cy="2006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5943600" y="2666880"/>
            <a:ext cx="1676520" cy="20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895320" y="4876920"/>
            <a:ext cx="7353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AG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50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LYMPICS, BOXING, JUDO, TAEKWONDO, AND WRESTLING AWARD TWO OF WHAT TYPE OF MED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471680" y="762120"/>
            <a:ext cx="620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I" IN "TMI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4520" y="762120"/>
            <a:ext cx="7914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JIMMY EAT WORLD, WITH CHORUS REFRAIN "LITTLE GIRL, YOU'RE IN  ____ ____ OF THE R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1880" y="762120"/>
            <a:ext cx="822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ICKNAME OF CALIFORNIA IS THE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ASSOCIATED WITH THE WORDS NEW, BORROWED, AND BL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SE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2371680" cy="2594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433680" y="2666880"/>
            <a:ext cx="2276640" cy="2594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6086520" y="2666880"/>
            <a:ext cx="22813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6-02T12:45:10Z</dcterms:modified>
  <cp:revision>438</cp:revision>
  <dc:subject/>
  <dc:title>Slide 1</dc:title>
</cp:coreProperties>
</file>