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EA89-1F46-4020-B00B-92D6214F3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33D2-B7F1-40EA-9F99-0E3A7499E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FD6D-E0F8-4EC8-B1C5-579D0E53D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7035-BAF2-4F00-B5DE-1211A8214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C2AC-AA27-4F46-9132-560A50208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CF8D-C977-40C7-ABD9-9ABE3C4E8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4D71-C15B-43E5-AC87-0A012A22F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B3AF-BB94-49DF-BC62-05837D483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5164-01A4-4389-9398-0E175FC8E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10CC-205D-455D-BA57-765FA6685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458A-C38E-4BBA-8C92-1C3747B8B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E360-D897-48CD-99CD-6D0876140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E180-DF9B-4F3D-8B29-98D3BD00E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5AA3-A2B3-49EB-AA3C-41321D074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499C-280D-4CA5-8648-A0F79DB11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1B4A-040B-42F8-BC0A-6BEBC102A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60C4-9267-4281-9BAA-B3D63FFBA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FCD3-9AEA-4FDA-B976-B7103CE42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64FC-66B1-4EE1-AEA0-1A9361056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9ED6-672B-4BFD-9FB4-3C517301C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2E52-3256-4854-ACA9-633C33FD6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8565-09D9-495D-A04A-8BCC7CF81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A32E-94EC-4010-BA65-0A803EDD6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52520" y="1523880"/>
            <a:ext cx="6438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10760" y="738360"/>
            <a:ext cx="8319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1-WOOD GOLF CLUB IS ALSO KNOWN AS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47680" y="762120"/>
            <a:ext cx="864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ROBERT HEINLEIN NOVEL "STARSHIP TROOPERS" AND THE 3 FILMS BASED ON IT, WHAT ARE THE ALIEN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04640" y="762120"/>
            <a:ext cx="833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REATURE IS ARIES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TROLOGICAL SIGN OF THE ZODIA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30200" y="762120"/>
            <a:ext cx="8283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CHAIKOVSKY'S BALLET "THE NUTCRACKER" IS BASED ON THE BOOK "THE NUTCRACKER AND THE ____ 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76360" y="762120"/>
            <a:ext cx="799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OCA-COLA'S FIRST DIET DRINK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RIVATE DELIVERY SERVIC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24000" y="762120"/>
            <a:ext cx="849600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ODE WAS STARTED ON JULY 1, 196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RM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314360" y="762120"/>
            <a:ext cx="6515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4 FILM IS TOM HANKS TRAPPED IN AN AIR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00160" y="762120"/>
            <a:ext cx="874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ROBERT HEINLEIN NOVEL "STARSHIP TROOPERS" AND THE 3 FILMS BASED ON IT,  WHAT ARE THE ALIEN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28600" y="914400"/>
            <a:ext cx="4451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OTHING IS NANCY SINATRA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NAME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4952880" y="7621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880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0520" y="762120"/>
            <a:ext cx="911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1-WOOD GOLF CLUB IS ALSO KNOWN A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95320" y="4876920"/>
            <a:ext cx="7353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PUTER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REATURE IS ARIES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TROLOGICAL SIGN OF THE ZODIA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68360" y="762120"/>
            <a:ext cx="8205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CHAIKOVSKY'S BALLET "THE NUTCRACKER" IS BASED ON THE BOOK "THE NUTCRACKER AND THE ____ 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OCA-COLA'S FIRST DIET DRINK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8040" y="762120"/>
            <a:ext cx="738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RIVATE DELIVERY SERVIC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09640" y="761760"/>
            <a:ext cx="7524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ODE WAS STARTED ON JULY 1, 196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76200" y="762120"/>
            <a:ext cx="6591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4 FILM IS TOM HANKS TRAPPED IN AN AIR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5960" y="838080"/>
            <a:ext cx="4762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OTHING IS NANCY SINATRA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NAME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952880" y="7621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2-06-02T12:47:05Z</dcterms:modified>
  <cp:revision>441</cp:revision>
  <dc:subject/>
  <dc:title>Slide 1</dc:title>
</cp:coreProperties>
</file>