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E003-8E57-4C3F-A7E6-73C9EBA1A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61A0-EDA1-4F80-9B0E-0655F5245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C6CD-8F61-4B2C-988D-38820560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25DD-D6E4-4851-9010-EE8A0F4E5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4FDD-8830-4BE3-AD18-C20933E6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824F-4CA5-4BBC-A15D-AF8F7CE4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5D7-3F7F-4897-B176-1B68582C2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D3EC-0189-4056-B516-E81377932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B68-19F3-4875-B630-0C1E3E01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AEC0-E6EB-471B-9303-FCD44A9B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5D6-5067-4753-8B16-39792905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9DA-E7A4-4389-A960-23F885728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E8BC-0D30-43AF-A927-4557A449C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651-E58F-4B05-B74F-4025E0CA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ACC3-811F-4067-B726-C20F7AB6E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D24-40E8-4E6B-8E63-E38A71591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5DC8-3D87-4541-9DBA-BE48D554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ADCD-64F4-4FDC-9444-312DA0FB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3E34-B473-4487-9660-4EB6B3CB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EFB8-B593-4E22-ADFA-BE78C962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A175-0E25-425D-92E9-59896343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6965-2C22-4E65-9645-5FB7BC2B5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F174-9E4E-4EF2-ABB8-0F7D78BE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0760" y="738360"/>
            <a:ext cx="8319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1-WOOD GOLF CLUB IS ALSO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WHAT ARE THE ALIEN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04640" y="762120"/>
            <a:ext cx="833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IS ARIE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TROLOGICAL SIGN OF THE ZODI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CHAIKOVSKY'S BALLET "THE NUTCRACKER" IS BASED ON THE BOOK "THE NUTCRACKER AND THE ____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CA-COLA'S FIRST DIET DRIN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IVATE DELIVERY SERVIC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STARTED ON JULY 1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14360" y="762120"/>
            <a:ext cx="65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FILM IS TOM HANKS TRAPPED IN AN AIR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 WHAT ARE THE ALIEN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914400"/>
            <a:ext cx="4451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IS NANCY SINATR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NAM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0520" y="762120"/>
            <a:ext cx="911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1-WOOD GOLF CLUB IS ALSO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95320" y="4876920"/>
            <a:ext cx="7353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IS ARIE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TROLOGICAL SIGN OF THE ZODI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CHAIKOVSKY'S BALLET "THE NUTCRACKER" IS BASED ON THE BOOK "THE NUTCRACKER AND THE ____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OCA-COLA'S FIRST DIET DRIN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IVATE DELIVERY SERVIC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STARTED ON JULY 1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76200" y="762120"/>
            <a:ext cx="659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FILM IS TOM HANKS TRAPPED IN AN AIR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4762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IS NANCY SINATR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NAME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47:05Z</dcterms:modified>
  <cp:revision>441</cp:revision>
  <dc:subject/>
  <dc:title>Slide 1</dc:title>
</cp:coreProperties>
</file>