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5057-708F-469B-AFB7-A7D38A16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D70F-114E-4C1C-B81C-9C64F8734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18E7-5997-4A23-9CCF-6FEF072E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A1B6-15C3-44A4-BA65-D7EE9A239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0248-12D2-4613-A2FB-49FDAAA1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D39-14EA-4362-9BEC-5CC1F5FC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2F2B-D19A-49F1-A7E5-70610051C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7300-BE6F-4F94-9B35-056EC4A1C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2F50-C47C-4354-BD54-15153CE8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4619-3CD7-4A74-8D4E-9DA3DC74B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C80D-9908-4E0C-987E-1EE4298A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9A5F-9C15-48D7-911C-E1C90822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15A5-1117-4AF4-9C35-8C6105E0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00F0-F5F4-44FA-AF76-19435C780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594C-7E2E-4AE4-A4F2-6D95788B2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15B6-F5EB-4517-AB14-40B0177DE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3775-A440-4031-BDE3-CB56ABE86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B2E-EED7-4FA4-AEC0-7EADC6E87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685A-FA7F-4805-B32B-C1EC46521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651B-A02D-4C1E-8E8D-CADCEC98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1E90-7DEA-401D-A610-EC74989AA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FC41-F916-4FF8-8CE5-30A38C16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3C4-0F4E-4687-928C-26F1B649F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5238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5800" y="762120"/>
            <a:ext cx="758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NK IS RIGHT ABOVE LIEUTENANT IN THE ARMY, BUT 3 ABOVE LIEUTENANT IN THE NA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  LIKE)  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CONTAINED IN THE MOST POPULAR POLITICAL SLOGAN OF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EL)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52360" y="762120"/>
            <a:ext cx="863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DIRECTOR OF 3 OF THE AFI'S TOP 15 COMEDIES OF ALL TIME: "THE PRODUCERS", "BLAZING SADDLES", AND "YOUNG FRANKENSTEI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71720" y="762120"/>
            <a:ext cx="7000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IS TOM HANKS MADE YOUNGER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3120" y="48798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(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0960" y="762120"/>
            <a:ext cx="8720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-LETTER ABBREVIATION FOR THE MONTH NAMED FOR THE ROMAN GOD OF BEGINNINGS, WHOSE NAME STARTS WITH THOSE SAME LET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(COWE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 OF, AND CURRENT JUDGE ON, "AMERICA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ONTY)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57360" y="762120"/>
            <a:ext cx="782928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GAME SHOW "LET'S MAKE A DEAL" FOR NEARLY 3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AL OPERATIONS FORCE WAS ADDED TO THE NAVY BY PRESIDENT KENNEDY IN JANUARY,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CONTAINED IN THE MOST POPULAR POLITICAL SLOGAN OF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Y  (LIS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YWEIGHT BOXING CHAMPION 1962-1964, THOUGHT UNBEATABLE UNTIL HE WAS BEATEN BY MUHAMMAD A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49240" y="762120"/>
            <a:ext cx="744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NK IS RIGHT ABOVE LIEUTENANT IN THE ARMY, BUT 3 ABOVE LIEUTENANT IN THE N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895400" y="4267080"/>
            <a:ext cx="53532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OF  2  NAMES  IN  MUSICAL  DU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NAME OF THE DIRECTOR OF 3 OF THE AFI'S TOP 15 COMEDIES OF ALL TIME: "THE PRODUCERS", "BLAZING SADDLES", AND "YOUNG FRANKENSTEI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54160" y="762120"/>
            <a:ext cx="68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VIE IS TOM HANKS MADE YOUNGER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7320" y="762120"/>
            <a:ext cx="882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3-LETTER ABBREVIATION FOR THE MONTH NAMED FOR THE ROMAN GOD OF BEGINNINGS, WHOSE NAME STARTS WITH THOSE SAME LETTE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REATOR OF, AND CURRENT JUDGE ON,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GAME SHOW "LET'S MAKE A DEAL" FOR NEARLY 3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AL OPERATIONS FORCE WAS ADDED TO THE NAVY BY PRESIDENT KENNEDY IN JANUARY, 196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HEAVYWEIGHT BOXING CHAMPION 1962-1964, THOUGHT UNBEATABLE UNTIL HE WAS BEATEN BY MUHAMMAD A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50:36Z</dcterms:modified>
  <cp:revision>441</cp:revision>
  <dc:subject/>
  <dc:title>Slide 1</dc:title>
</cp:coreProperties>
</file>