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F833-1C4C-4958-BF99-E9B87AE3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66F5-9473-46B7-A501-F1369304B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D06-A826-4691-BF25-D4698A5C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0657-AF04-4CD0-B07D-156606CAF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BF30-CBFE-44DC-80BC-BD5DC4D8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0598-96F3-4D58-ABBF-07ECAB4D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1C44-30D0-4831-997E-EBE43527B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40B6-DC50-43EC-A801-661D8829C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8DB6-A60E-4125-8376-B13E660A0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7CB7-667C-4735-886F-83F458369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6246-1867-4581-B9AC-91802E35D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633E-2AD3-465C-AE33-986245CBE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0502-62D5-4E71-B40D-9819768B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A276-A121-4CD7-93A3-75E1D005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AEDB-3BED-4DDC-9BF7-59E1B53D9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5984-D125-47AE-8DF8-84BDCD66E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E1BC-B511-4916-8D68-4985B66B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659E-E854-4071-9293-844CAA6AD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2DAD-7AA0-4B53-9322-007433BD8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D239-00F2-4CE7-905A-430578952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8343-D16B-44F3-BE1F-5598DD42B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6FFA-6257-4B86-AC89-0BE1719A3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81F3-F8A2-4997-8622-4E3B6CDE9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5238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75800" y="762120"/>
            <a:ext cx="758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NK IS RIGHT ABOVE LIEUTENANT IN THE ARMY, BUT 3 ABOVE LIEUTENANT IN THE NA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 LIKE)  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90400" y="762120"/>
            <a:ext cx="796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CONTAINED IN THE MOST POPULAR POLITICAL SLOGAN OF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EL)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52360" y="762120"/>
            <a:ext cx="8639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DIRECTOR OF 3 OF THE AFI'S TOP 15 COMEDIES OF ALL TIME: "THE PRODUCERS", "BLAZING SADDLES", AND "YOUNG FRANKENSTEI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71720" y="762120"/>
            <a:ext cx="7000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IS TOM HANKS MADE YOUNGER BY A ZOLTAR MACH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3120" y="48798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(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0960" y="762120"/>
            <a:ext cx="872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3-LETTER ABBREVIATION FOR THE MONTH NAMED FOR THE ROMAN GOD OF BEGINNINGS, WHOSE NAME STARTS WITH THOSE SAME LET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(COWE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7160" y="762120"/>
            <a:ext cx="7429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REATOR OF, AND CURRENT JUDGE ON, "AMERICA'S GOT TAL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ONTY)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57360" y="762120"/>
            <a:ext cx="782928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ST OF THE GAME SHOW "LET'S MAKE A DEAL" FOR NEARLY 3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1120" y="762120"/>
            <a:ext cx="778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AL OPERATIONS FORCE WAS ADDED TO THE NAVY BY PRESIDENT KENNEDY IN JANUARY, 19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CONTAINED IN THE MOST POPULAR POLITICAL SLOGAN OF 195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NY  (LIS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HEAVYWEIGHT BOXING CHAMPION 1962-1964, THOUGHT UNBEATABLE UNTIL HE WAS BEATEN BY MUHAMMAD A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49240" y="762120"/>
            <a:ext cx="7445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NK IS RIGHT ABOVE LIEUTENANT IN THE ARMY, BUT 3 ABOVE LIEUTENANT IN THE N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895400" y="4267080"/>
            <a:ext cx="53532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OF  2  NAMES  IN  MUSICAL  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DIRECTOR OF 3 OF THE AFI'S TOP 15 COMEDIES OF ALL TIME: "THE PRODUCERS", "BLAZING SADDLES", AND "YOUNG FRANKENSTEI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54160" y="762120"/>
            <a:ext cx="6834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IS TOM HANKS MADE YOUNGER BY A ZOLTAR MACH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7320" y="762120"/>
            <a:ext cx="8829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3-LETTER ABBREVIATION FOR THE MONTH NAMED FOR THE ROMAN GOD OF BEGINNINGS, WHOSE NAME STARTS WITH THOSE SAME LETTE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REATOR OF, AND CURRENT JUDGE ON, "AMERICA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ST OF THE GAME SHOW "LET'S MAKE A DEAL" FOR NEARLY 3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AL OPERATIONS FORCE WAS ADDED TO THE NAVY BY PRESIDENT KENNEDY IN JANUARY, 196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HEAVYWEIGHT BOXING CHAMPION 1962-1964, THOUGHT UNBEATABLE UNTIL HE WAS BEATEN BY MUHAMMAD A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2:50:36Z</dcterms:modified>
  <cp:revision>441</cp:revision>
  <dc:subject/>
  <dc:title>Slide 1</dc:title>
</cp:coreProperties>
</file>