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C4ED-85C1-46E8-8B69-20BA45669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8BB4-A584-48EE-835C-FC020596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A55D-E62E-4FCE-8B06-2C5D2D1B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37AE-A287-4854-B5E7-00C2FE8F4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15ED-EEAD-4C0A-A614-B381C6BA8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6850-E827-4EB4-B01D-389D60B1F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8783-6AF8-46C2-844D-308B0CA3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BE5B-F7C1-4CF8-899C-EC0033FE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2732-156E-4B26-85DA-20A5ACCF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92E7-828E-453B-AB39-201E41A6F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E31C-315B-44B4-8C1D-038B9DD5A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8B1F-8901-4429-8833-BE8E191FE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2091-3EAC-44D7-8599-221D0707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87A6-F7EB-4AC5-9FA3-FDF0EFED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A28A-48AA-48A2-A1FC-E0CB9A0F8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781F-4AA6-4086-9E6A-1994AB7A4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0327-3794-413D-A46D-5E0026EAE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9C37-ABEB-480E-996E-C550FBD20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29A6-EFA2-4E86-BB13-6E60AD81A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C525-5451-40BD-85C5-42232D097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678C-D1C5-43BE-A22D-456531BC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7E96-13B1-45BB-8B32-E633F56FB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6C15-08D7-4884-9699-CC417D0D1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CUUM COMPANY DOMINATED THE INDUSTRY FOR 50 YEARS, AND HAS A NAME SYNONYMOUS WITH VACUUMS IN THE U.K.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H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OMIC FILM STARRED DUDLEY MOORE AND LIZA MINNEL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6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CE  BROS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BOND IN "TOMORROW NEVER DIES", "GOLDENEYE", "THE WORLD IS NOT ENOUGH" AND "DIE ANOTHER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T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 BOWL PERFORMER HAD A WARDROBE MAL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THE FILM "CAS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-BASED CAR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V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ROCK AND ROLL HALL OF FAM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THE SPACE NEEDL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OMIC FILM STARRED DUDLEY MOORE AND LIZA MINNEL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276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JOHNSON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STAURANT CHAIN IN THE 60'S AND 70'S, BUT NOW ONLY HAS ONE OPERATING RESTAURANT IN OCA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CUUM COMPANY DOMINATED THE INDUSTRY FOR 50 YEARS, AND HAS A NAME SYNONYMOUS WITH VACUUMS IN THE U.K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434340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U.S.  PRES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BOND IN "TOMORROW NEVER DIES", "GOLDENEYE", "THE WORLD IS NOT ENOUGH" AND "DIE ANOTHER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 BOWL PERFORMER HAD A WARDROBE MAL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THE FILM "CAST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-BASED CAR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ROCK AND ROLL HALL OF FAME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THE SPACE NEEDLE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STAURANT CHAIN IN THE 60'S AND 70'S, BUT NOW ONLY HAS ONE OPERATING RESTAURANT IN OCA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3:11:51Z</dcterms:created>
  <dc:creator>Jennifer Budzinski</dc:creator>
  <dc:description/>
  <dc:language>en-US</dc:language>
  <cp:lastModifiedBy>Erich Friedman</cp:lastModifiedBy>
  <dcterms:modified xsi:type="dcterms:W3CDTF">2020-08-25T13:04:45Z</dcterms:modified>
  <cp:revision>361</cp:revision>
  <dc:subject/>
  <dc:title>Slide 1</dc:title>
</cp:coreProperties>
</file>