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B9A1-8BAF-428E-9E03-FB88DC250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18F4-2E7C-4468-A137-170BC43A1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8C42-DC74-4519-8861-5863E99A6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E5FB-BD25-4D5A-9806-8D4E6F32B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AD37-35E4-408F-A3FF-42DA3C1AE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8D99-198C-446F-80F0-D3EC311D1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14EC-9BC3-4691-B10C-EB4C436AA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A032-12C2-45CB-905B-8B26B11E0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5E93-2F2E-44E4-869F-724520BB8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A25B-1B8E-4455-8E29-406FD1CF8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A376-4976-4816-9433-9ED165C11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926D-9012-4EE5-A41D-F4042AE6E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9C41-5A36-4460-9D2D-2509B1E8D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0BDE-EE42-4D20-B0E0-C9D0E59E9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AC69-E77D-4A79-83FD-B7AF48A85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61B2D-6F09-43DE-8F7D-DFB7D3A1E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A60D-1E3D-4724-A068-B38DF4B35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D2EB-D7D5-4254-A731-2D0F868E6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DD5B-6168-4AD6-A680-0BD42591E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BBEF-DFBE-4171-AC20-5E2DE8EA6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81B7-A9A2-4487-A79F-A0DEA7113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E632-0AAE-4B03-8207-69DEFFC0A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C0B5-B222-437D-B0CC-31111B226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ACUUM COMPANY DOMINATED THE INDUSTRY FOR 50 YEARS, AND HAS A NAME SYNONYMOUS WITH VACUUMS IN THE U.K.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TH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 COMIC FILM STARRED DUDLEY MOORE AND LIZA MINNELL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62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RCE  BROSN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MES BOND IN "TOMORROW NEVER DIES", "GOLDENEYE", "THE WORLD IS NOT ENOUGH" AND "DIE ANOTHER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T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 BOWL PERFORMER HAD A WARDROBE MALFUN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VOLLEYBALL IN THE FILM "CAST A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U.S.-BASED CAR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EV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THE ROCK AND ROLL HALL OF FAME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U.S. STATE IS THE SPACE NEEDLE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 COMIC FILM STARRED DUDLEY MOORE AND LIZA MINNELL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9276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ARD  JOHNSON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RGEST RESTAURANT CHAIN IN THE 60'S AND 70'S, BUT NOW ONLY HAS ONE OPERATING RESTAURANT IN OCA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ACUUM COMPANY DOMINATED THE INDUSTRY FOR 50 YEARS, AND HAS A NAME SYNONYMOUS WITH VACUUMS IN THE U.K.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00200" y="4343400"/>
            <a:ext cx="5943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U.S.  PRESI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MES BOND IN "TOMORROW NEVER DIES", "GOLDENEYE", "THE WORLD IS NOT ENOUGH" AND "DIE ANOTHER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 BOWL PERFORMER HAD A WARDROBE MALFUN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VOLLEYBALL IN THE FILM "CAST A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2396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U.S.-BASED CAR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THE ROCK AND ROLL HALL OF FAME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U.S. STATE IS THE SPACE NEEDLE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RGEST RESTAURANT CHAIN IN THE 60'S AND 70'S, BUT NOW ONLY HAS ONE OPERATING RESTAURANT IN OCAL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13:11:51Z</dcterms:created>
  <dc:creator>Jennifer Budzinski</dc:creator>
  <dc:description/>
  <dc:language>en-US</dc:language>
  <cp:lastModifiedBy>Erich Friedman</cp:lastModifiedBy>
  <dcterms:modified xsi:type="dcterms:W3CDTF">2020-08-25T13:04:45Z</dcterms:modified>
  <cp:revision>361</cp:revision>
  <dc:subject/>
  <dc:title>Slide 1</dc:title>
</cp:coreProperties>
</file>