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4A4C-339D-461C-B1C1-E85EFF60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A9DC-806F-495B-8514-BA16A2E75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C93-3687-4307-8A3D-7B8571AD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8AEE-E306-4265-AB8D-1662F17E2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E8DE-CB8B-4F58-A700-48FB5B724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A091-66BD-4967-A710-04E95C1CA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3184-9D78-447D-B68E-0594796C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97E2-2CAA-4291-89D3-65C6DA0B7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A8AC-5CB7-46F9-A75B-6C48F5DF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19E-9538-4DD9-9B4A-8184ED773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586D-5A7C-4ADA-9460-15CF89FE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0480-89D0-454F-9273-597C4BA5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87F1-0E80-4F29-A59D-D6C84B88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61B4-B7D8-41C4-A824-E0933C04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27A6-F1B4-4A04-BCFA-2ADB55DD8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A00C-FEF4-4EAF-BAB2-73537204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364-ACEF-4C5D-A362-489B227F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A7FB-118D-4D16-87F1-B3B295655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0AA8-7E8C-4E2C-838B-B7628B543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528C-FD60-4E59-8F8F-CEB4DB9E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E65-2DB6-48B3-B6C7-4B5807DA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9D0B-E8A0-42C3-A014-90F77F8B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0AE9-53C0-4C1D-9485-13CDDC6B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CUUM COMPANY DOMINATED THE INDUSTRY FOR 50 YEARS, AND HAS A NAME SYNONYMOUS WITH VACUUMS IN THE U.K.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OMIC FILM STARRED DUDLEY MOORE AND LIZA MINNEL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6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CE  BROS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"TOMORROW NEVER DIES", "GOLDENEYE", "THE WORLD IS NOT ENOUGH" AND "DIE ANOTHER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 PERFORMER HAD A WARDROBE MAL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THE FILM "CAS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-BASED CAR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ROCK AND ROLL HALL OF FAM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THE SPACE NEEDL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OMIC FILM STARRED DUDLEY MOORE AND LIZA MINNEL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276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JOHNSON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STAURANT CHAIN IN THE 60'S AND 70'S, BUT NOW ONLY HAS ONE OPERATING RESTAURANT IN OCA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CUUM COMPANY DOMINATED THE INDUSTRY FOR 50 YEARS, AND HAS A NAME SYNONYMOUS WITH VACUUMS IN THE U.K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434340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U.S.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"TOMORROW NEVER DIES", "GOLDENEYE", "THE WORLD IS NOT ENOUGH" AND "DIE ANOTHER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 PERFORMER HAD A WARDROBE MAL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THE FILM "CAST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-BASED CAR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ROCK AND ROLL HALL OF FAME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THE SPACE NEEDLE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STAURANT CHAIN IN THE 60'S AND 70'S, BUT NOW ONLY HAS ONE OPERATING RESTAURANT IN OCA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3:11:51Z</dcterms:created>
  <dc:creator>Jennifer Budzinski</dc:creator>
  <dc:description/>
  <dc:language>en-US</dc:language>
  <cp:lastModifiedBy>Erich Friedman</cp:lastModifiedBy>
  <dcterms:modified xsi:type="dcterms:W3CDTF">2020-08-25T13:04:45Z</dcterms:modified>
  <cp:revision>361</cp:revision>
  <dc:subject/>
  <dc:title>Slide 1</dc:title>
</cp:coreProperties>
</file>