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AD78-F401-49AA-897C-A66A74DF8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3CBC-B646-4F95-A97E-089215B33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FD79-C5B3-41DC-A78A-84D9FBB98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9807-7804-4DF6-BC39-BF289126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A3C2-C38D-4D30-A81C-D4E87FFCD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C4AE-1925-4D70-A763-E1B7894FC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4D03-130B-4BD2-9F05-4759C6F6D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FA54-B277-4E95-B236-560F167F0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B583-8896-4F23-BB44-C9594F076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F792-5975-4267-9309-65E5C067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9030-B7D5-476F-9656-F2E197EFE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04A7-3DD4-4304-B677-020E78801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7C48-5F55-4C7C-ADDD-079E6233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FF58-AF51-4E71-ABF3-D64124F1C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3466-977D-4974-80BC-6C43FD0DC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B5AB-C5A9-4AF8-AEBC-DDDD4B363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699B-1C58-469D-A990-C268140ED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0D52-C7FE-4D66-9A94-2CC5627B2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DBDA-4A24-4A90-AE11-8647C59F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4C7E-920E-45EA-B64F-3FF80E361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DE12-7944-40C5-80E1-7C91638E1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FD94-5B25-41F1-A637-E87F7A782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E5AA-DC81-4F30-AF6C-195DC5F2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DRUG TRAFFICKING STARRED JOHNNY DEPP AND PENÉLOPE CRU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42840" y="762120"/>
            <a:ext cx="7258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ABOUT AN ALL-BLACK REGIMENT IN THE CIVIL WAR STARRED MATHEW BRODERICK AND DENZEL WAS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5720" y="762120"/>
            <a:ext cx="797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PRIATE NAME OF THE HORSE RIDDEN BY PISTOL PETE, THE MASCOT OF THE OKLAHOMA STATE COWB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65280" y="762120"/>
            <a:ext cx="781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PRESIDENT WAS ULYSSES S. G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4960" y="762120"/>
            <a:ext cx="753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PECIES OF BIRD THAT MANKIND DOMESTI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17720" y="762120"/>
            <a:ext cx="7108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OF CAR ABSORBS THE MOST ENERGY FROM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9880" y="762120"/>
            <a:ext cx="7464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CENTRAL BUSINESS DISTRICT OF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OL)  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KHMER ROUGE LEADER LARGELY RESPONSIBLE FOR THE CAMBODIAN GENOC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8720" y="762120"/>
            <a:ext cx="730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ABOUT AN ALL-BLACK REGIMENT IN THE CIVIL WAR STARRED MATHEW BRODERICK AND DENZEL WAS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14480" y="762120"/>
            <a:ext cx="7113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YMPIC SPORT  HAD ONLY 4 DIFFERENT EVENTS IN 1896, BUT HAD 37 EVENTS IN 20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3840" y="762120"/>
            <a:ext cx="709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DRUG TRAFFICKING STARRED JOHNNY DEPP AND PENÉLOPE CRU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85800" y="4952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HOL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PRIATE NAME OF THE HORSE RIDDEN BY PISTOL PETE, THE MASCOT OF THE OKLAHOMA STATE COWB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4520" y="762120"/>
            <a:ext cx="7914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PRESIDENT WAS ULYSSES S. G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PECIES OF BIRD THAT MANKIND DOMESTI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OF CAR ABSORBS THE MOST ENERGY FROM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CENTRAL BUSINESS DISTRICT OF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KHMER ROUGE LEADER LARGELY RESPONSIBLE FOR THE CAMBODIAN GENOC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YMPIC SPORT HAD ONLY 4 DIFFERENT EVENTS IN 1896, BUT HAD 37 EVENTS IN 20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5-06T12:54:09Z</dcterms:modified>
  <cp:revision>470</cp:revision>
  <dc:subject/>
  <dc:title>Slide 1</dc:title>
</cp:coreProperties>
</file>