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894C-40B9-4BC5-80CF-DE78B97A9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5F75-DF92-48A8-AEB9-DB48634C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768-30F3-4721-B376-E8A126A16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63C-5C10-49DC-9C75-4403D9FC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C31-F46A-4FF3-B505-5664F70A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571-23B6-48D1-BAFB-4EAF082A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439-420A-4DA8-BACF-DA7A4AC5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D6A-9763-4047-9A14-D1BE3BEF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7D6-B9DD-4C7E-B84E-AB29CCE6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243F-9614-4297-B855-12893F4D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2D2-BCFF-4EA6-9B24-31FEE3D5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B380-171B-4A92-B257-74E9AD96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FB7-B5BA-4530-B221-3C86FFE7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DF8-BF76-472A-A99D-03FAC688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093E-794C-4B34-8D2F-DDB88F82F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89F-9789-46DF-9965-00E4F150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A38-375A-42D1-9C34-F0A2F865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B36-A7B2-452E-A0A0-561B924C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8CD-E3B7-4923-978E-1CC09027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C376-EA0B-435A-B031-B86CAF6F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39E-E1B5-4227-8837-977DC529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1AD0-A9AB-41A9-864D-234E5484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AB7-0B18-4D85-A569-2138A23D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ABOUT AN ALL-BLACK REGIMENT IN THE CIVIL WAR STARRED MATHEW BRODERICK AND DENZEL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HORSE RIDDEN BY PISTOL PETE, THE MASCOT OF THE OKLAHOMA STATE COW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5280" y="762120"/>
            <a:ext cx="781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PRESIDENT WAS ULYSSES S.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4960" y="762120"/>
            <a:ext cx="753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PECIES OF BIRD THAT MANKIND DOMESTI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9880" y="762120"/>
            <a:ext cx="746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CENTRAL BUSINESS DISTRICT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OL)  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KHMER ROUGE LEADER LARGELY RESPONSIBLE FOR THE CAMBODIAN GENOC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ABOUT AN ALL-BLACK REGIMENT IN THE CIVIL WAR STARRED MATHEW BRODERICK AND DENZEL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14480" y="762120"/>
            <a:ext cx="711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SPORT  HAD ONLY 4 DIFFERENT EVENTS IN 1896, BUT HAD 37 EVENTS IN 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3840" y="762120"/>
            <a:ext cx="70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5800" y="4952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L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HORSE RIDDEN BY PISTOL PETE, THE MASCOT OF THE OKLAHOMA STATE COW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4520" y="762120"/>
            <a:ext cx="7914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PRESIDENT WAS ULYSSES S.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PECIES OF BIRD THAT MANKIND DOMESTI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CENTRAL BUSINESS DISTRICT OF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KHMER ROUGE LEADER LARGELY RESPONSIBLE FOR THE CAMBODIAN GENOC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SPORT HAD ONLY 4 DIFFERENT EVENTS IN 1896, BUT HAD 37 EVENTS IN 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06T12:54:09Z</dcterms:modified>
  <cp:revision>470</cp:revision>
  <dc:subject/>
  <dc:title>Slide 1</dc:title>
</cp:coreProperties>
</file>