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2B75-260B-438D-A787-923637E4F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EF6F-2192-4C96-ACB7-2D6B3E6AB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6B4A-A4A3-4392-99AC-D13E2FAB4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5FC1-CB93-4B5A-8E9E-8625F260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978B-50DD-4A68-9028-E537ED7E7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BA2B-A9E9-434B-89CA-375151B25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045A-3159-404B-8A07-FF968EF4E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E0F7-9FEA-441F-A041-C65E56019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738C-398A-4E2B-8E4F-B68D7B1D7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DAD7-AC91-4654-855A-E19F3A840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3641-CE1E-42A2-8074-A269A1AF5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312A-85E4-4F81-B48D-E6E89FADF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D4CA-AEF4-410A-8314-E7D381D84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8CCA-8B5E-4267-8FF8-FD1AE9ADC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74C3-80B5-4243-B2F4-6780F91D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A39D-DBBC-409D-8DB0-8A9E5560F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1DF0-FA13-42F9-8A68-2A656B76B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F0C0-E6AE-41F4-BE8D-2AEEA44FE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6B06-7A9D-4514-802E-D90497D57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A900-8728-4118-85CE-DDA33458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FC0F-C3D0-4BC4-B4B5-36202021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5B5D-4183-48A4-9CE2-8F686E4C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A764-AF77-4B07-9B2E-04F5F7B0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RROSIVE MOLECULE CAPABLE OF DONATING A PROTON IS TYPICALLY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T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NIMATED CHARACTER KNOWN FOR SAYING "AY, CARAMBA" WAS NAMED ONE OF THE MOST IMPORTANT PEOPLE OF THE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1 SONG BECAME A WORLDWIDE #1 HIT BY THE MARCELS IN 1961, ALSO MEANING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ULL MOON IN A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 MILITARY AWARD STILL GIVEN TO U.S. TROO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GHTY  QU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TITLE OF THE BOB DYLAN SONG ABOUT AN ESKIMO MADE FAMOUS BY MANFRED MA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LOW  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ONOVAN SONG DOES HE SING ABOUT AN "ELECTRICAL BAN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57120" y="762120"/>
            <a:ext cx="842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NAME WAS GIVEN TO A PARTIAL SKELETON OF AUSTRALOPITHECUS AFARENSIS FOUND IN ETHIOPIA IN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  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MOORS CALL THE WARLORD RODRIGO DÍAZ DE VIVAR, ALSO THE NAME OF A FILM STARRING CHARLTON HESTON AND SOPHIA LO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NIMATED CHARACTER KNOWN FOR SAYING "AY, CARAMBA" WAS NAMED ONE OF THE MOST IMPORTANT PEOPLE OF THE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NEY  T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SHORT ANIMATED FILMS INTRODUCED BUGS BUNNY, DAFFY DUCK, PORKY PIG,  TWEETY, AND SYLVE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RROSIVE MOLECULE CAPABLE OF DONATING A PROTON IS TYPICALLY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NG  TERMS  FOR  LS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1 SONG BECAME A WORLDWIDE #1 HIT BY THE MARCELS IN 1961, ALSO MEANING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ULL MOON IN A MON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 MILITARY AWARD STILL GIVEN TO U.S. TROO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TITLE OF THE BOB DYLAN SONG ABOUT AN ESKIMO MADE FAMOUS BY MANFRED MA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ONOVAN SONG DOES HE SING ABOUT AN "ELECTRICAL BAN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NAME WAS GIVEN TO A PARTIAL SKELETON OF AUSTRALOPITHECUS AFARENSIS FOUND IN ETHIOPIA IN 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MOORS CALL THE WARLORD RODRIGO DÍAZ DE VIVAR, ALSO THE NAME OF A FILM STARRING CHARLTON HESTON AND SOPHIA LO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SHORT ANIMATED FILMS INTRODUCED BUGS BUNNY, DAFFY DUCK, PORKY PIG,  TWEETY, AND SYLVE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6-02T13:02:31Z</dcterms:modified>
  <cp:revision>466</cp:revision>
  <dc:subject/>
  <dc:title>Slide 1</dc:title>
</cp:coreProperties>
</file>