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96C0-07D1-4AC6-8CF7-9834ACE5C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6C77-CF69-4705-9F4C-E362066AC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B980-48BA-442D-82D1-8029114F8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0F46-6599-4A90-A3ED-082DEFC83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C321-3B01-4FB7-8D1E-B546F7E53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D8D5-6A52-4A71-A9D0-E005BE05D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5DD1-82D5-4CD2-9008-4A16325EF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7201-7CB8-4C6E-9939-0C7A634CF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CE47-73C6-4D57-96CA-5F96AC801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78B6-7D7D-4A8C-9D84-DCA15E7BB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B500-FB55-4312-9134-B03E4262A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D746-8CA8-4B87-8A30-E49C01F2A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86B6-536E-4128-B9F8-A8236C851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5E95-1890-4476-BF0B-E35B2E43C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1771-925B-418A-BCB0-09B0DE66C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CE90-A4C3-4329-BAB9-0A1E6ECBA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AE73-C906-44E8-941D-CC744E5B1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9557-92D3-4F8A-BB7B-8D7F21EA1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76F5-90A6-45DC-A0D8-3ABAC1F0F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F3BC-9E30-4AF9-8D4F-3DC1BEF43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4D0C-8529-44CB-8885-0BC59E20C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6BA2-3BE2-423A-82A0-E5F3745F4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1EA7-A638-41DA-9E58-0514EDF58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RROSIVE MOLECULE CAPABLE OF DONATING A PROTON IS TYPICALLY CALLED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T  SI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00160" y="762120"/>
            <a:ext cx="8743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NIMATED CHARACTER KNOWN FOR SAYING "AY, CARAMBA" WAS NAMED ONE OF THE MOST IMPORTANT PEOPLE OF THE 2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ENTURY BY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MAGAZI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1 SONG BECAME A WORLDWIDE #1 HIT BY THE MARCELS IN 1961, ALSO MEANING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ULL MOON IN A MON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RPLE 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LDEST  MILITARY AWARD STILL GIVEN TO U.S. TROO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GHTY  QUI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RIGINAL TITLE OF THE BOB DYLAN SONG ABOUT AN ESKIMO MADE FAMOUS BY MANFRED MAN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LOW  YE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90720" y="762120"/>
            <a:ext cx="7162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DONOVAN SONG DOES HE SING ABOUT AN "ELECTRICAL BANA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57120" y="762120"/>
            <a:ext cx="842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NAME WAS GIVEN TO A PARTIAL SKELETON OF AUSTRALOPITHECUS AFARENSIS FOUND IN ETHIOPIA IN 197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  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38120" y="762120"/>
            <a:ext cx="8267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MOORS CALL THE WARLORD RODRIGO DÍAZ DE VIVAR, ALSO THE NAME OF A FILM STARRING CHARLTON HESTON AND SOPHIA LO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NIMATED CHARACTER KNOWN FOR SAYING "AY, CARAMBA" WAS NAMED ONE OF THE MOST IMPORTANT PEOPLE OF THE 2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ENTURY BY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MAGAZIN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ONEY  TU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ES OF SHORT ANIMATED FILMS INTRODUCED BUGS BUNNY, DAFFY DUCK, PORKY PIG,  TWEETY, AND SYLVE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04880" y="762120"/>
            <a:ext cx="7734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RROSIVE MOLECULE CAPABLE OF DONATING A PROTON IS TYPICALLY CALL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ANG  TERMS  FOR  LS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1 SONG BECAME A WORLDWIDE #1 HIT BY THE MARCELS IN 1961, ALSO MEANING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ULL MOON IN A MON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LDEST  MILITARY AWARD STILL GIVEN TO U.S. TROO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RIGINAL TITLE OF THE BOB DYLAN SONG ABOUT AN ESKIMO MADE FAMOUS BY MANFRED MAN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DONOVAN SONG DOES HE SING ABOUT AN "ELECTRICAL BANAN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4000" y="761760"/>
            <a:ext cx="8496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NAME WAS GIVEN TO A PARTIAL SKELETON OF AUSTRALOPITHECUS AFARENSIS FOUND IN ETHIOPIA IN 197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MOORS CALL THE WARLORD RODRIGO DÍAZ DE VIVAR, ALSO THE NAME OF A FILM STARRING CHARLTON HESTON AND SOPHIA LOR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ES OF SHORT ANIMATED FILMS INTRODUCED BUGS BUNNY, DAFFY DUCK, PORKY PIG,  TWEETY, AND SYLVE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2-06-02T13:02:31Z</dcterms:modified>
  <cp:revision>466</cp:revision>
  <dc:subject/>
  <dc:title>Slide 1</dc:title>
</cp:coreProperties>
</file>