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14AB-ED5D-42A7-BBB4-BBA4AB09D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E568-9007-4EB1-A48F-BF97D461E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C266-A259-44EB-9891-56799BD8C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4E2C-10B3-4B8A-8297-CCD0CDAC3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CCE5-BF04-4605-B396-95F6791A2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F7C1-75D1-47A8-9CB9-8DC6CAB2F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F6C3-3938-4348-B63B-DD37932A0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B4710-0C16-4193-84ED-EB07B5C8B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8BF1-E672-4D18-8D23-490C4C2EA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ABE6-3124-4012-A656-8FDB45F34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E664-F622-4A04-A6B1-C863456D4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7534-C26D-406A-BFF6-15183BDC8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D7B7-D080-410D-89CA-B8C0F425E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C89A-50D3-4451-840B-A4FA8BD6D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24F2-6B1F-4414-939C-516A7BADA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34E9-EB02-4218-B596-021280F33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A316-C64C-4041-B4D4-492586324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C2C8-F69A-4FDD-AA2C-C91D189BE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1A2A-20E6-4477-A50C-FBC979C48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D014-8EC9-4881-B22D-DF95DAE43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4201-E046-43BB-9882-3C575D1BB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BF03-066F-41E6-B0A8-9F136A7B8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D367-5776-4B19-AC59-9DD574326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9250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ILLAIN DID UMA THURMAN PORTRAY IN THE FILM "BATMAN &amp; ROB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ISY  RID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22360" y="762120"/>
            <a:ext cx="8099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PLAYED THE PROTAGONIST REY IN 3 RECENT "STAR WAR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600" y="49528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PY  MONTGOM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85720" y="762120"/>
            <a:ext cx="7796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BI AGENT SAMANTHA SPADE ON TV'S "WITHOUT A TRACE" AND DETECTIVE CARRIE WELLS ON "UNFORGETTAB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6676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HER  GRA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THE FILMS "COMMITTED", "SAY IT ISN'T SO", AND "GRAY MATT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DY  H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30160" y="762120"/>
            <a:ext cx="7483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EGGY SUE" AND "THAT'LL BE THE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  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52480" y="762120"/>
            <a:ext cx="7439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NCINNATI RED WON 3 WORLD SERIES AND 3 BATTING TITLES, BUT IS INELIGIBLE FOR THE BASEBALL HALL OF F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LY  TOM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68480" y="762120"/>
            <a:ext cx="7007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FRANKIE IN THE NETFLIX SHOW "GRACE AND FRANK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OLET  P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8120" y="762120"/>
            <a:ext cx="826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ELDEST CHILD IN THE FILM "THE INCREDIBLES" WHO HAS THE ABILITY TO BE INVISI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PLAYED THE PROTAGONIST REY IN 3 RECENT "STAR WAR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BE  S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25560" y="762120"/>
            <a:ext cx="7291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OETRY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ISON  I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70040" y="762120"/>
            <a:ext cx="7602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ILLAIN DID UMA THURMAN PORTRAY IN THE FILM "BATMAN &amp; ROB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604880" y="4419720"/>
            <a:ext cx="5934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NAMES  CONTAIN  PLANTS  OR  FL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BI AGENT SAMANTHA SPADE ON TV'S "WITHOUT A TRACE" AND DETECTIVE CARRIE WELLS ON "UNFORGETTAB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58960" y="762120"/>
            <a:ext cx="742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THE FILMS "COMMITTED", "SAY IT ISN'T SO", AND "GRAY MATT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44120" y="762120"/>
            <a:ext cx="7653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EGGY SUE" AND "THAT'LL BE THE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90560" y="761760"/>
            <a:ext cx="756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NCINNATI RED WON 3 WORLD SERIES AND 3 BATTING TITLES, BUT IS INELIGIBLE FOR THE BASEBALL HALL OF F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69480" y="761760"/>
            <a:ext cx="720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FRANKIE IN THE NETFLIX SHOW "GRACE AND FRANK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6560" y="761760"/>
            <a:ext cx="8210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ELDEST CHILD IN THE FILM "THE INCREDIBLES" WHO HAS THE ABILITY TO BE INVISI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76320" y="762120"/>
            <a:ext cx="7189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OETRY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5-06T12:47:37Z</dcterms:modified>
  <cp:revision>476</cp:revision>
  <dc:subject/>
  <dc:title>Slide 1</dc:title>
</cp:coreProperties>
</file>