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CD19-E0C6-45BD-8E4E-797AA2E76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8C8E-B4A3-4984-890E-223B0974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676-1BDC-4621-B7B9-3C69B519D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4EC9-74A3-4D37-8F50-C70785D6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AB42-F892-469B-85CC-5E83E0E41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149F-B14D-40C9-AF5D-07F623E6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C0B6-408B-4B74-B3B7-DF0181D37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C71F-8BA9-4D4A-8C3D-15E4E0272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D32D-9B11-4A74-9915-4D878A92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88B5-6648-40A5-8FA4-5D04BC829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D37E-525A-499B-A69F-A5AB05BE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4A6A-8FA6-4E93-AF5C-57C81EA7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700F-F72A-44DC-B6BC-5A526DA59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F4B3-7EE2-4220-9338-FBF7B88B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A170-3A0B-4BEE-8EF0-1A364FB2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86A-AB41-471E-952E-C37D55AE4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0A09-D1A6-4539-88E8-A55A7A093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B279-BBEB-4DC2-9EF4-9AE362D7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E7BD-27DD-4D18-8633-22A74415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AF2C-D94F-4D46-803E-9E06C8EBE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AC4-53D8-4382-82FC-5A06A154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E6D3-8B46-4B9A-B070-074ACA50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C021-7476-45C1-87E7-2ED535EE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LLAIN DID UMA THURMAN PORTRAY IN THE FILM "BATMAN &amp; ROB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ISY  RID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22360" y="762120"/>
            <a:ext cx="8099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REY IN 3 RECENT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PY  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5720" y="762120"/>
            <a:ext cx="77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BI AGENT SAMANTHA SPADE ON TV'S "WITHOUT A TRACE" AND DETECTIVE CARRIE WELLS ON "UNFORGETTAB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ER  GRA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COMMITTED", "SAY IT ISN'T SO", AND "GRAY MAT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0160" y="762120"/>
            <a:ext cx="7483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2480" y="762120"/>
            <a:ext cx="7439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 WON 3 WORLD SERIES AND 3 BATTING TITLES, BUT IS INELIGIBLE FOR THE BASEBA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  TOM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68480" y="762120"/>
            <a:ext cx="700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FRANKIE IN THE NETFLIX SHOW "GRACE AND FRANK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OLET  P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ELDEST CHILD IN THE FILM "THE INCREDIBLES" WHO HAS THE ABILITY TO BE INVIS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REY IN 3 RECENT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25560" y="762120"/>
            <a:ext cx="729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SON  I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70040" y="762120"/>
            <a:ext cx="760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LLAIN DID UMA THURMAN PORTRAY IN THE FILM "BATMAN &amp; ROB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04880" y="4419720"/>
            <a:ext cx="593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NAMES  CONTAIN  PLANTS  OR 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BI AGENT SAMANTHA SPADE ON TV'S "WITHOUT A TRACE" AND DETECTIVE CARRIE WELLS ON "UNFORGETTAB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8960" y="762120"/>
            <a:ext cx="742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COMMITTED", "SAY IT ISN'T SO", AND "GRAY MAT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 WON 3 WORLD SERIES AND 3 BATTING TITLES, BUT IS INELIGIBLE FOR THE BASEBA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69480" y="761760"/>
            <a:ext cx="720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FRANKIE IN THE NETFLIX SHOW "GRACE AND FRANK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ELDEST CHILD IN THE FILM "THE INCREDIBLES" WHO HAS THE ABILITY TO BE INVIS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5-06T12:47:37Z</dcterms:modified>
  <cp:revision>476</cp:revision>
  <dc:subject/>
  <dc:title>Slide 1</dc:title>
</cp:coreProperties>
</file>