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163-657F-4DB5-A75E-0DCE9A17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F2C-8D43-46A9-9D40-65B469AC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62F-FA6D-48BC-978F-258F5252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98E-73D4-4269-8F29-F2CE0923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119-D037-4257-85AC-AFBBA26E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E52-AA04-4671-936B-FD269A81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EA7-7D77-4219-ABA6-103A15FB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08C-4D61-4DF5-8705-ED47E8F4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95DF-4427-4115-A3BB-E737B736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08FC-911C-4271-949D-3C47AE1B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1CA-221F-4A1F-8D8D-742E7D0CE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3784-EB3E-4E8C-AAF8-D1A0C655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C52-0FCA-45C6-9C0C-E05B15B8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C45-5F82-43A3-805C-0DEE69761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2AE-1EC7-4D63-9CAD-ACEF86DE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0FAA-135F-477B-A12B-7EB4ECEA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D0EC-BA8F-44B3-A4FA-138CBD96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02B-2912-4E86-BA87-98BBED1F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8B06-23CC-4607-9231-C71F67F7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03EB-91CC-46D2-BCDC-AA46AF82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A8DC-C18A-4DFE-ABA3-C9169838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925-5C95-4ACF-8C61-668C4835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7C5-731A-4071-97E2-1D8E31FD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72CE-5319-421B-99A4-CB902062C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____ GO TO HEA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1240" y="761760"/>
            <a:ext cx="712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OL ____ LU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09720" y="762120"/>
            <a:ext cx="732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Y LEF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23880" y="762120"/>
            <a:ext cx="794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X, ____, AND VIDEOT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8040" y="765000"/>
            <a:ext cx="79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ND DEL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2120" y="774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LL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ELEPHA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2520" y="762120"/>
            <a:ext cx="823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____ OF FIR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FILM TIT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7760" y="762120"/>
            <a:ext cx="844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AD MEN DON'T ____ PL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92000" y="762120"/>
            <a:ext cx="75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____ GO TO HEA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74600" y="762120"/>
            <a:ext cx="6993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OL ____ LU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UND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2120"/>
            <a:ext cx="7234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Y LEF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X, ____, AND VIDEOT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27120" y="762120"/>
            <a:ext cx="788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ND DEL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7840" y="762120"/>
            <a:ext cx="698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LL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7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ELEPHA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2280" y="76176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____ OF FIR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AD MEN DON'T ____ PL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16T20:28:13Z</dcterms:modified>
  <cp:revision>510</cp:revision>
  <dc:subject/>
  <dc:title>Slide 1</dc:title>
</cp:coreProperties>
</file>