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A99F-85BC-4158-B168-36DF2A9C8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D521-2AB3-4F10-938C-49BC94963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171D-2C04-4D22-91BD-87C85F91B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B654-BB4F-478A-A85D-7CF729A1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8D21-7902-44ED-8D0D-E618CFBF3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E820-2F28-4566-BB99-D52148C6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1B6-5853-4F61-A59A-65A37676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2F50-AA87-4045-8EEA-77B1A94B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3B81-FEEE-44D5-B0B3-295EE305A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1DDF-CC5E-4540-943E-AD78C0D0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A9C6-A9F7-4123-8224-A36198DD3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520C-D190-4DE1-9C1C-30130951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C1D8-5916-43F1-A527-EADB14E8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41D7-8A3A-43C7-B671-AAB75107C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FDE9-C2E3-41E1-A603-6B14C4D1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6C15-5AED-49CC-87DA-689CC3293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A8CA2-1AE2-404D-A4C9-80E8C7299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01ED-FD23-42DF-9573-D331AEAD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2907-77C3-474A-98E3-88D55D23E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7565-9411-41E2-8F9C-9DF8D545B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D0A9-CD0F-4003-BF75-613A53AE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2B0E0-FB5B-4B92-B1FD-C9AC8D4DC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3A89-C556-42C7-ACF0-AB6A4F098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1A6A-77B8-47C3-9C64-36E096385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35120" y="762120"/>
            <a:ext cx="7672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____ GO TO HEA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11240" y="761760"/>
            <a:ext cx="712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OL ____ LUK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09720" y="762120"/>
            <a:ext cx="732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Y LEFT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23880" y="762120"/>
            <a:ext cx="794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X, ____, AND VIDEOTAP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08040" y="765000"/>
            <a:ext cx="792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ND DEL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62120" y="774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LL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ELEPHA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2520" y="762120"/>
            <a:ext cx="8238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____ OF FIRE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LETE THE FILM TIT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47760" y="762120"/>
            <a:ext cx="844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AD MEN DON'T ____ PL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92000" y="762120"/>
            <a:ext cx="75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LL ____ GO TO HEA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74600" y="762120"/>
            <a:ext cx="6993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COOL ____ LUK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19040" y="48769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UND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53640" y="762120"/>
            <a:ext cx="7234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Y LEFT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EX, ____, AND VIDEOTAP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27120" y="762120"/>
            <a:ext cx="788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AND DEL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77840" y="762120"/>
            <a:ext cx="698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ALL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8040" y="762120"/>
            <a:ext cx="7927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__ FOR ELEPHA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2280" y="761760"/>
            <a:ext cx="8299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N THE ____ OF FIRE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5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EAD MEN DON'T ____ PL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16T20:28:13Z</dcterms:modified>
  <cp:revision>510</cp:revision>
  <dc:subject/>
  <dc:title>Slide 1</dc:title>
</cp:coreProperties>
</file>