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D6F8-4F59-44D0-A030-37C3A74F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8F02-76BD-437C-927D-40DEBCAD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040-A237-40E2-B52A-D0ADBABA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CC3E-F465-4852-957E-4396E991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76B-4FD7-4AB3-8EBC-2FA650BA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B63-20E0-4565-8DE2-DE0ABA51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BF4-22EC-43DD-9056-35033F09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3E6-89B3-444E-8640-A80735DA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8E1-BA91-486F-8E2E-857CDD3F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780-04EC-4AF1-9C0B-0475D98C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C51-2C97-4283-99D3-1654674C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1A3-FBBD-4745-9005-D929130C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73C6-E5D2-46C7-8ABF-1C4D69738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8E60-9CE8-4D23-9BCC-71A02BB4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8E6-3B63-4349-B245-8091744AE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742E-DEB8-4FF6-9886-220C3F69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9883-CD3B-4979-8F51-ADC759A2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9E3-E700-496D-8C39-00EC6CA2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63C-DCA3-49EF-BF9A-9F88CA38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73C-7450-44F4-9CBA-BD71F115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D830-5C20-4A42-93EA-68E79EAF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181A-9D10-472F-9216-60A3BA7C0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92DF-E61D-4A69-B054-220BA989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28680" y="762120"/>
            <a:ext cx="668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APPEARS ON EXACTLY 12 SCRABBLE T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08000" y="762120"/>
            <a:ext cx="716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GANIC CHEMISTRY, WHAT SUFFIX IS USED FOR AN UNSATURATED HYDROCARBON BY A CARBON DOUBLE B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  (NEBRASK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STAL ABBREVIATION OF THE ONLY U.S. STATE THAT HAS A UNICAMERAL LEGISL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836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SW  (WOMAN  SEEKING  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IS OFTEN USED AT THE BEGINNING OF PERSONAL ADS FOR LESB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SE  (SUM  OF  SQUARED  ERR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WHAT 3-LETTER ABBREVIATION IS USED FOR THE SUM OF THE SQUARED RESIDU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SYMBOL FOR TUNGSTEN, THE METAL WITH THE HIGHEST MELTING POINT (619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 AND BOILING POINT (1070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TH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GANIC CHEMISTRY, WHAT SUFFIX IS USED FOR AN UNSATURATED HYDROCARBON BY A CARBON DOUBLE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  (SIGOURNEY  WEA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KNOWN AS "THE SCI-FI QUEEN" FOR HER APPEARANCE IN "ALIENS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52360" y="762120"/>
            <a:ext cx="6839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APPEARS ON EXACTLY 12 SCRABBLE T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SS 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5760" y="762120"/>
            <a:ext cx="6972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STAL ABBREVIATION OF THE ONLY U.S. STATE THAT HAS A UNICAMERAL LEGISL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IS OFTEN USED AT THE BEGINNING OF PERSONAL ADS FOR LESB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WHAT 3-LETTER ABBREVIATION IS USED FOR THE SUM OF THE SQUARED RESIDU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SYMBOL FOR TUNGSTEN, THE METAL WITH THE HIGHEST MELTING POINT (619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 AND BOILING POINT (1070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TH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KNOWN AS "THE SCI-FI QUEEN" FOR HER APPEARANCE IN "ALIENS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0:08Z</dcterms:modified>
  <cp:revision>430</cp:revision>
  <dc:subject/>
  <dc:title>Slide 1</dc:title>
</cp:coreProperties>
</file>