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FBAD-F48D-455D-92EC-F1657A4E3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41E6-67A9-46FE-A62E-45946A69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75CB-D958-4A66-9D8F-B58C63634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5983-8F5A-4583-BF4C-E8927DF8F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D282-B569-4AF7-BBA5-9CA6EABBE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67A-0583-457E-ADF1-FA11F518A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BFC1-8B04-412A-B27F-C5AE242AD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D41-FEFC-4AC9-BDAF-17B391FFA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9862-BAE9-4CC0-B4FA-4568077A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6606-AA90-428C-A5DE-9BB9D732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030C-EBF4-43D8-A27D-2F0A20CD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EAB0-AD06-4C99-874B-89153D5A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BA44-7EA0-4793-8E0B-1D7E575A0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4F2F-40A9-49CF-9924-3E0B388FA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9C5A-5ACE-4466-8C64-0F9820811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C780-D90A-4D31-92F2-D0E8A5F4B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076E-C4F8-4632-AB67-5E97870AF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688B-0B00-4C4B-9C57-02AD70313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4930-9D54-429A-A9B4-24F33FD5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0781-FCE6-473F-B894-8426AE3C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9631-8D3E-4805-BD43-941591FEB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AECC-8234-47D2-A4A1-AEF6BF73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A2CC-9074-4343-951D-F9C07D748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28680" y="762120"/>
            <a:ext cx="668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APPEARS ON EXACTLY 12 SCRABBLE T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08000" y="762120"/>
            <a:ext cx="716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GANIC CHEMISTRY, WHAT SUFFIX IS USED FOR AN UNSATURATED HYDROCARBON BY A CARBON DOUBLE B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  (NEBRASK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762120"/>
            <a:ext cx="7086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STAL ABBREVIATION OF THE ONLY U.S. STATE THAT HAS A UNICAMERAL LEGISL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836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SW  (WOMAN  SEEKING  WOM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IS OFTEN USED AT THE BEGINNING OF PERSONAL ADS FOR LESB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SE  (SUM  OF  SQUARED  ERR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WHAT 3-LETTER ABBREVIATION IS USED FOR THE SUM OF THE SQUARED RESIDU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SYMBOL FOR TUNGSTEN, THE METAL WITH THE HIGHEST MELTING POINT (619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 AND BOILING POINT (1070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09800" y="762120"/>
            <a:ext cx="7124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THA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GANIC CHEMISTRY, WHAT SUFFIX IS USED FOR AN UNSATURATED HYDROCARBON BY A CARBON DOUBLE B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  (SIGOURNEY  WEAV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KNOWN AS "THE SCI-FI QUEEN" FOR HER APPEARANCE IN "ALIENS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52360" y="762120"/>
            <a:ext cx="6839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APPEARS ON EXACTLY 12 SCRABBLE T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ASS 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5760" y="762120"/>
            <a:ext cx="6972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OSTAL ABBREVIATION OF THE ONLY U.S. STATE THAT HAS A UNICAMERAL LEGISL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BBREVIATION IS OFTEN USED AT THE BEGINNING OF PERSONAL ADS FOR LESB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TATISTICS, WHAT 3-LETTER ABBREVIATION IS USED FOR THE SUM OF THE SQUARED RESIDU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HEMICAL SYMBOL FOR TUNGSTEN, THE METAL WITH THE HIGHEST MELTING POINT (619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 AND BOILING POINT (1070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THA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INITIALS OF THE ACTRESS KNOWN AS "THE SCI-FI QUEEN" FOR HER APPEARANCE IN "ALIENS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3:10:08Z</dcterms:modified>
  <cp:revision>430</cp:revision>
  <dc:subject/>
  <dc:title>Slide 1</dc:title>
</cp:coreProperties>
</file>