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5F8C-FD52-47F2-A2DC-D26412960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7C64-4F25-4E79-B25B-191F2DD04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627A-38C1-46D3-AA6A-4D943EC9A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E2A6-0F5E-47E9-AF7A-8B64EA158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6F93-138F-4464-A5B0-2F2467772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B428-98B6-492C-B722-55F51897B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688B6-3125-4956-BA88-EE88F66F0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00BF-75E6-4857-9BC8-367D8EFE1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8F42-C13B-4F54-AD4A-2856BC207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D714-1BE9-42D9-BE7D-5AD639097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8227-91B9-43D6-AF77-842D64F8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D1FC-17BF-479C-A83C-871FF8098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49EF-51A3-4878-91C5-5A36FA35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ECF6-CECC-4030-ABBC-190138A53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87B5-CE1F-4A35-A541-42EA6A7A7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EF13-9783-4C30-915C-E60B5924A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E6EE-9B8A-4A3A-8481-157BA2AA1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E1E8-C59B-4C11-80CA-BF6DEF9AA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97AA-1C19-4F5C-921E-39EED279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EDC3-B65B-45CB-BE36-879E572D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2FD9-F499-47E3-82A0-AF0615E88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272D-A9BA-4F44-8596-F5F02F1D8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D532-DC90-4542-B301-64989D69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52520" y="990360"/>
            <a:ext cx="6438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98320" y="762120"/>
            <a:ext cx="7947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 COUNTRY WAS THE FIRST COUNTRY IN THE WORLD TO GIVE EVERY SCHOOLCHILD A LAPTOP AND WI-FI ACC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66840" y="762120"/>
            <a:ext cx="8410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UROPEAN COUNTRY TO HAVE A PHYSICAL BORDER WITH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25520" y="762120"/>
            <a:ext cx="6491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IAN COUNTRY SPANS 11 TIME Z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30200" y="762120"/>
            <a:ext cx="828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ASTERNMOST COUNTRY ON THE ARABIAN PENINS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ZAMB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1560" y="762120"/>
            <a:ext cx="7940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COUNTRY, THAT BOB DYLAN HAS A SONG NAMED AFTER, IS DUE WEST OF MADAGAS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ARAG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RAL AMERICAN COUNTRY IS KNOWN AS "THE LAND OF LAKES AND VOLCANO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HILIPP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81040" y="762120"/>
            <a:ext cx="7981920" cy="38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EAST ASIAN COUNTRY CONSISTS OF OVER 7500 IS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1880" y="762120"/>
            <a:ext cx="8220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SPANISH-SPEAKING COUNTR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8840" y="762120"/>
            <a:ext cx="8624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EUROPEAN COUNTRY TO HAVE A PHYSICAL BORDER WITH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WHAT AFRICAN NATION WAS FOUNDED AS A PLACE TO WHICH FREED AMERICAN SLAVES COULD SET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80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58800" y="762120"/>
            <a:ext cx="7826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 AMERICAN  COUNTRY WAS THE FIRST COUNTRY IN THE WORLD TO GIVE EVERY SCHOOLCHILD A LAPTOP AND WI-FI ACC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47840" y="4876920"/>
            <a:ext cx="8248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CAPITALS  BEGIN  WITH  "M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COUNTRI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IAN COUNTRY SPANS 11 TIME Z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8360" y="762120"/>
            <a:ext cx="8205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ASTERNMOST COUNTRY ON THE ARABIAN PENINS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FRICAN COUNTRY, THAT BOB DYLAN HAS A SONG NAMED AFTER, IS DUE WEST OF MADAGAS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8040" y="762120"/>
            <a:ext cx="7386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NTRAL AMERICAN COUNTRY IS KNOWN AS "THE LAND OF LAKES AND VOLCANO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57280" y="761760"/>
            <a:ext cx="802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THEAST ASIAN COUNTRY CONSISTS OF OVER 7500 IS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4600" y="762120"/>
            <a:ext cx="82533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OUS SPANISH-SPEAKING COUNTRY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ITS NAME IMPLIES, WHAT AFRICAN NATION WAS FOUNDED AS A PLACE TO WHICH FREED AMERICAN SLAVES COULD SET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2-06-02T13:11:28Z</dcterms:modified>
  <cp:revision>449</cp:revision>
  <dc:subject/>
  <dc:title>Slide 1</dc:title>
</cp:coreProperties>
</file>