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5EC9-91FC-40A3-BDA1-4E8B177F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A656-A73D-4AB2-B59C-B38403BE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34D-5408-4FC4-B869-E680C8CC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B696-0B2A-4125-8015-77A8ED8A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AF0-3CEE-4CAB-B98C-F3D71082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366D-226A-4367-B8F1-7669CEFF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35A-F3EE-4005-9B6F-9643E252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B99-0691-408B-A1F4-093AC4BB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2EE-8545-409E-8C66-BA7920D9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2055-95BD-4E88-BF64-5B742B37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928-0C42-4F7B-AC71-8D9C585A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9CD-E4FE-42B6-B443-2794F970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579A-E62A-4FA0-9ECD-67F34D08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4916-E80A-4233-8E44-1E1F086A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B31-1613-4C86-BBFE-16D92B9C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FE6-4595-40F3-B49E-269FD4FBD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D87F-EC90-43DE-A05F-29336C48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603-5F72-47F6-ADAB-00B1867E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D28B-7412-499B-BD7F-5306010F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ED43-BE2D-4E66-8265-53EC398A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B69-C6BE-4372-B48C-C2F5F157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4B98-B1B7-4E48-88D4-9CB95F03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9575-6AF3-4E38-BC1B-86760EFD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990360"/>
            <a:ext cx="6438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 COUNTRY WAS THE FIRST COUNTRY IN THE WORLD TO GIVE EVERY SCHOOLCHILD A LAPTOP AND WI-FI AC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6840" y="762120"/>
            <a:ext cx="84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UROPEAN COUNTRY TO HAVE A PHYSICAL BORDER WI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25520" y="762120"/>
            <a:ext cx="6491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IAN COUNTRY SPANS 11 TIME Z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ASTERNMOST COUNTRY ON TH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ZAMB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1560" y="762120"/>
            <a:ext cx="794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, THAT BOB DYLAN HAS A SONG NAMED AFTER, IS DUE WEST OF MADAG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A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RAL AMERICAN COUNTRY IS KNOWN AS "THE LAND OF LAKES AND VOLCAN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HILIP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81040" y="762120"/>
            <a:ext cx="798192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EAST ASIAN COUNTRY CONSISTS OF OVER 7500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1880" y="762120"/>
            <a:ext cx="8220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UROPEAN COUNTRY TO HAVE A PHYSICAL BORDER WI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WHAT AFRICAN NATION WAS FOUNDED AS A PLACE TO WHICH FREED AMERICAN SLAVES COULD SET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 COUNTRY WAS THE FIRST COUNTRY IN THE WORLD TO GIVE EVERY SCHOOLCHILD A LAPTOP AND WI-FI AC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47840" y="4876920"/>
            <a:ext cx="82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APITALS  BEGIN  WITH  "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IAN COUNTRY SPANS 11 TIME Z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ASTERNMOST COUNTRY ON TH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, THAT BOB DYLAN HAS A SONG NAMED AFTER, IS DUE WEST OF MADAG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RAL AMERICAN COUNTRY IS KNOWN AS "THE LAND OF LAKES AND VOLCAN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EAST ASIAN COUNTRY CONSISTS OF OVER 7500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4600" y="762120"/>
            <a:ext cx="82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WHAT AFRICAN NATION WAS FOUNDED AS A PLACE TO WHICH FREED AMERICAN SLAVES COULD SE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1:28Z</dcterms:modified>
  <cp:revision>449</cp:revision>
  <dc:subject/>
  <dc:title>Slide 1</dc:title>
</cp:coreProperties>
</file>