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684F-B2EE-4D43-8E8D-B57812993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87D0-07D0-4DF3-9356-3B0FD26A0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8D1D-D1C2-4AFD-869C-6204EC02C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FDDF-CFEB-4DA4-805B-A12E7D53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D4AE-D85C-424D-B22E-134E2A76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182A-3433-456C-B16C-52F967AA2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073C-B488-40C3-A080-40AB8CE69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9BAF-7C22-42C7-87DA-CD6554B0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BC2A-453B-4B17-A6FD-785B6AFE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8FE-584A-4E8A-8100-B3885FA2A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6993-3F3E-49E3-A54B-34E69971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FBC7-B354-4FFF-A5E0-40CCD844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7E75-755F-49CF-857D-48AEBB83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144E-C500-4331-89D2-BD3594414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7A13-4B27-4361-86AE-A34D2EFDB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9B79-5A17-4021-8916-07E4F375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0B13-562B-452E-8DA6-7A6DC7FAB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761A-59BC-4C60-A9E2-CE241BC1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AB39-F90C-41FE-A6ED-CAF030370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5484-1620-4653-8091-C7FFDC2D7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EFC1-7DA8-4959-B2A6-195167B4F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8FD7-1C8E-4EC1-8E7A-78132F4C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EF4A-4F76-4E3D-9254-37F8FDC7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98320" y="762120"/>
            <a:ext cx="794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BOTH BRUCE SPRINGSTEEN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598320" y="4191120"/>
            <a:ext cx="2254320" cy="2241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6319800" y="4191120"/>
            <a:ext cx="225432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OR  (EXERCI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81040" y="762120"/>
            <a:ext cx="7981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YMNASTICS, ONE OF THE EVENTS IS ABBREVIATED "FX". 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(AND  THE  TRAM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6320" y="914400"/>
            <a:ext cx="533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DOG WHO STARRED IN A 1955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62720" y="447840"/>
            <a:ext cx="322560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ARE HORSE HEIGHTS MEASURED IN, ESPECIALLY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3120" y="4876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3600" y="762120"/>
            <a:ext cx="84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THE NAMES OF THE 6 FLAVORS OF QUARK ARE UP, TOP, BOTTOM, CHARM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DJUSTABLE)  RATE  (MORTGA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2400" y="762120"/>
            <a:ext cx="763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ES THE "R" STAND FOR IN "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OO GOO DOLLS' BIGGEST HIT SONG, WHICH IS ALSO CONTAINED IN THIS C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2320" y="762120"/>
            <a:ext cx="783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 AND x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YMNASTICS, ONE OF THE EVENTS IS ABBREVIATED "FX". 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(...TO  RUN, ...IN  THE  U.S.A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24000" y="762120"/>
            <a:ext cx="85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BOTH BRUCE SPRINGSTEEN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71520" y="4876920"/>
            <a:ext cx="840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FIRS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320" y="914040"/>
            <a:ext cx="533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DOG WHO STARRED IN A 1955 DISNE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562720" y="447840"/>
            <a:ext cx="322560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ARE HORSE HEIGHTS MEASURED IN, ESPECIALLY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THE NAMES OF THE 6 FLAVORS OF QUARK ARE UP, TOP, BOTTOM, CHARM, STRANG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ES THE "R" STAND FOR IN "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GOO GOO DOLLS' BIGGEST HIT SONG, WHICH IS ALSO CONTAINED IN THIS C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35040" y="762120"/>
            <a:ext cx="78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 AND x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3:16:00Z</dcterms:modified>
  <cp:revision>452</cp:revision>
  <dc:subject/>
  <dc:title>Slide 1</dc:title>
</cp:coreProperties>
</file>