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A938-C296-4A2D-852C-743FEB33E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5DB2-0965-4AE9-ABFB-A881844C4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8DF-6B84-4943-BB36-5E5986B3C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4F8E-42DE-4310-BDED-C2ED9BEE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B75-B0C9-42A1-A79C-54D79CA32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3F5A-72C6-472F-98AF-4926333DF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64BD-94AE-4105-AFF9-9CA3BC24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F68E-8C87-45F7-9BE2-7430BD41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EF37-2D25-4DA4-A455-C70E793FD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74DC-08AA-45C2-8F69-A136F5852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9DDA-9B64-4194-81BE-34952C36F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B8D6-8ABF-4369-9E47-E9C4A4E5A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7E29-3EC9-43D5-81E6-734C4B8F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CE92-C4B4-4019-BCC4-3C1EB990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1ABF-999F-408A-8998-728EC1258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6AC6-7C41-44C6-A600-6CCA0A28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981F-9909-41AC-A8CF-DB409C8EC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EB1B-E0DE-440D-8650-C940FE499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4FDB-A4C5-4215-8233-79656157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FEF0-95D2-4771-9613-CB90351C4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7577-4B85-4241-86AF-1255B5712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D0E6-E297-4B7C-B220-29DE4EB14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8274-1797-44DE-9E70-33A4467F6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98320" y="762120"/>
            <a:ext cx="794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BOTH BRUCE SPRINGSTEEN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8320" y="4191120"/>
            <a:ext cx="2254320" cy="224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319800" y="4191120"/>
            <a:ext cx="2254320" cy="22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OR  (EXERC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81040" y="762120"/>
            <a:ext cx="7981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YMNASTICS, ONE OF THE EVENTS IS ABBREVIATED "FX".  WHAT DOES THE "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(AND  THE  TRAM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6320" y="914400"/>
            <a:ext cx="533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DOG WHO STARRED IN A 1955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62720" y="447840"/>
            <a:ext cx="322560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0200" y="762120"/>
            <a:ext cx="828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ARE HORSE HEIGHTS MEASURED IN, ESPECIALLY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03120" y="48769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3600" y="762120"/>
            <a:ext cx="84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THE NAMES OF THE 6 FLAVORS OF QUARK ARE UP, TOP, BOTTOM, CHARM, STRANG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DJUSTABLE)  RATE  (MORTGA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2400" y="762120"/>
            <a:ext cx="7639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DOES THE "R" STAND FOR IN "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OO GOO DOLLS' BIGGEST HIT SONG, WHICH IS ALSO CONTAINED IN THIS C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52320" y="762120"/>
            <a:ext cx="783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 AND x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YMNASTICS, ONE OF THE EVENTS IS ABBREVIATED "FX".  WHAT DOES THE "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(...TO  RUN, ...IN  THE  U.S.A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24000" y="762120"/>
            <a:ext cx="85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BOTH BRUCE SPRINGSTEEN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71520" y="4876920"/>
            <a:ext cx="840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FIRS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320" y="914040"/>
            <a:ext cx="533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DOG WHO STARRED IN A 1955 DISNE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562720" y="447840"/>
            <a:ext cx="322560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762120"/>
            <a:ext cx="820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ARE HORSE HEIGHTS MEASURED IN, ESPECIALLY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THE NAMES OF THE 6 FLAVORS OF QUARK ARE UP, TOP, BOTTOM, CHARM, STRANG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4480" y="762120"/>
            <a:ext cx="765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DOES THE "R" STAND FOR IN "A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OO GOO DOLLS' BIGGEST HIT SONG, WHICH IS ALSO CONTAINED IN THIS CL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35040" y="762120"/>
            <a:ext cx="787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 AND x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3:16:00Z</dcterms:modified>
  <cp:revision>452</cp:revision>
  <dc:subject/>
  <dc:title>Slide 1</dc:title>
</cp:coreProperties>
</file>