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FCB6-70F9-41BE-BE60-776D16D7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19F-1950-46CA-A213-A11A50F9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A68A-CF43-40E4-A463-62323E766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8661-7B93-4F46-88CC-8408AA0D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745E-6ABD-49E6-8747-7F1B080F3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2F89-B2EC-4616-8C1B-EDF220395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C80F-57B7-46F4-9A77-0DE997706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21A8-C9B1-4EF0-86DA-21CA2439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0C7-BBF3-4956-89DF-2FD3D4E2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52C9-2A3A-4498-9632-DD10A49AE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822-BB86-4EBF-BDB4-9BEEA247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4EC-7BAB-4F8F-9FF7-0C9A8DFB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CF68-1E05-481D-9672-1AE8BCF2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245F-255F-4F8C-B556-52E333F26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166C-398D-422C-9FAF-D2985D52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C59-91EB-4DDE-B97B-BC603981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714-13A9-43D5-9FEE-11DA24E0C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FFC-41B4-4E31-AA5C-98E47CFC0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A050-6FC1-41ED-892F-623537260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181B-075C-4BC6-9E9E-05E10EF8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DCEE-6719-43D7-BC03-E54FA6AD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D196-A121-4346-9024-AD118ABF8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F569-11BF-4F6E-A929-C00A04881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560" y="762120"/>
            <a:ext cx="903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A FOUL IS SIGNALED WITH A FLAG.  WITH WHAT IS A FOUL SIGNALED IN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NE  (TROY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81040" y="762120"/>
            <a:ext cx="798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2'8" ACTOR WHO PLAYED MINI-ME IN THE "AUSTIN POWE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ERT  (HOO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71400" y="762120"/>
            <a:ext cx="780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3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, WHO SERVED DURING THE BEGINNING OF THE GREAT DEPR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COMPANY MAKES THE FAMOUS LES PAUL GU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  (LUNAR  EXCLUSION  MODU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ACRONYM WAS THE APOLLO LUNAR MODULE KNOWN BY FROM 1962-1966, EXPLAINING HOW "LM" WAS PRONOUNCED THERE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BEAU BRIDGES OLDER OR YOUNGER THAN HIS BROTHER JEFF BRID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RDERER IN MARY ROBERT RINEHART'S 1930 MYSTERY NOVEL "THE DOOR", BECOMING A DETECTIVE STORY T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(K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23760" y="762120"/>
            <a:ext cx="7724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SUPERMAN'S ALTER-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2'8" ACTOR WHO PLAYED MINI-ME IN THE "AUSTIN POWE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SON IS THE NATIONAL ANIMAL OF THE U.S.  WHAT IS THE NATIONAL ANIMAL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520" y="762120"/>
            <a:ext cx="911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A FOUL IS SIGNALED WITH A FLAG.  WITH WHAT IS A FOUL SIGNALED IN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95320" y="4343400"/>
            <a:ext cx="7353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SCIENCE  FICTION  WRI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3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, WHO SERVED DURING THE BEGINNING OF THE GREAT DEPR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COMPANY MAKES THE FAMOUS LES PAUL GU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ACRONYM WAS THE APOLLO LUNAR MODULE KNOWN BY FROM 1962-1966, EXPLAINING HOW "LM" WAS PRONOUNCED THERE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BEAU BRIDGES OLDER OR YOUNGER THAN HIS BROTHER JEFF BRID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RDERER IN MARY ROBERT RINEHART'S 1930 MYSTERY NOVEL "THE DOOR", BECOMING A DETECTIVE STORY T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SUPERMAN'S ALTER-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SON IS THE NATIONAL ANIMAL OF THE U.S.  WHAT IS THE NATIONAL ANIMAL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5-06T17:55:58Z</dcterms:modified>
  <cp:revision>444</cp:revision>
  <dc:subject/>
  <dc:title>Slide 1</dc:title>
</cp:coreProperties>
</file>