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AFBD-54AF-4E72-8A83-FE878DCAB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B389-C505-448E-9ED3-B7BC4DCD6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1E61-8F1E-4359-A764-0075863C5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1EF5-8CD9-4E07-8867-7A87F83DA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0045-F0B8-407E-92CE-A4873BEC3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79DF-9001-4629-8319-29F3EF03E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F8A6-0457-4CB5-9693-6EF363673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EA80-0826-4989-B908-019DE77EF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F697-3384-495D-80C3-B1C3C8352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CB3D-91B1-45D8-9D28-98DD48B2E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EEE6-945E-4E7E-AE20-E2C90D67E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7D30-094A-4FD2-97D4-0B66A4811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745A-02C2-4706-A3FE-318A89620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8D60-F394-4029-BAB4-4B6319C5F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7914-4A9D-47B9-B665-C13DDB375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3F88-135E-408A-95AE-F4C8F85C4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4918-1EB4-4B98-BF85-162C92378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DE4A-DE01-477C-85E6-2D260A4D0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FF26-59F5-4DA9-9AFA-DED6FBFA8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FE7F-F2A7-43C9-BD3E-CFE8DC7EF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AFF0-BF91-4842-8D98-3BAEE33E2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7C79-B160-4CBB-BC31-D8E88D409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12DD-A1DE-4E59-B65B-9AA868655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52520" y="1523880"/>
            <a:ext cx="6438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2560" y="762120"/>
            <a:ext cx="9037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FOOTBALL, A FOUL IS SIGNALED WITH A FLAG.  WITH WHAT IS A FOUL SIGNALED IN SOCC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ERNE  (TROY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81040" y="762120"/>
            <a:ext cx="7981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2'8" ACTOR WHO PLAYED MINI-ME IN THE "AUSTIN POWERS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BERT  (HOOV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71400" y="762120"/>
            <a:ext cx="7801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3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.S. PRESIDENT, WHO SERVED DURING THE BEGINNING OF THE GREAT DEPRESS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B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30200" y="762120"/>
            <a:ext cx="8283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INSTRUMENT COMPANY MAKES THE FAMOUS LES PAUL GUIT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M  (LUNAR  EXCLUSION  MODU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76360" y="762120"/>
            <a:ext cx="799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WHAT ACRONYM WAS THE APOLLO LUNAR MODULE KNOWN BY FROM 1962-1966, EXPLAINING HOW "LM" WAS PRONOUNCED THEREAF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19040" y="4876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95320" y="762120"/>
            <a:ext cx="7353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BEAU BRIDGES OLDER OR YOUNGER THAN HIS BROTHER JEFF BRIDG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T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24000" y="762120"/>
            <a:ext cx="8496000" cy="38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MURDERER IN MARY ROBERT RINEHART'S 1930 MYSTERY NOVEL "THE DOOR", BECOMING A DETECTIVE STORY TRO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9536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RK  (K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923760" y="762120"/>
            <a:ext cx="7724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SUPERMAN'S ALTER-E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19120" y="762120"/>
            <a:ext cx="8105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2'8" ACTOR WHO PLAYED MINI-ME IN THE "AUSTIN POWERS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ISON IS THE NATIONAL ANIMAL OF THE U.S.  WHAT IS THE NATIONAL ANIMAL OF RUSS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80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0520" y="762120"/>
            <a:ext cx="9118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FOOTBALL, A FOUL IS SIGNALED WITH A FLAG.  WITH WHAT IS A FOUL SIGNALED IN SOCC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95320" y="4343400"/>
            <a:ext cx="7353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ST  NAMES  OF  FAMOUS SCIENCE  FICTION  WRI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3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.S. PRESIDENT, WHO SERVED DURING THE BEGINNING OF THE GREAT DEPRESS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68360" y="762120"/>
            <a:ext cx="8205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INSTRUMENT COMPANY MAKES THE FAMOUS LES PAUL GUIT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42880" y="762120"/>
            <a:ext cx="8058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WHAT ACRONYM WAS THE APOLLO LUNAR MODULE KNOWN BY FROM 1962-1966, EXPLAINING HOW "LM" WAS PRONOUNCED THEREAF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78040" y="762120"/>
            <a:ext cx="7386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BEAU BRIDGES OLDER OR YOUNGER THAN HIS BROTHER JEFF BRIDG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57280" y="761760"/>
            <a:ext cx="8029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MURDERER IN MARY ROBERT RINEHART'S 1930 MYSTERY NOVEL "THE DOOR", BECOMING A DETECTIVE STORY TROP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00200" y="762120"/>
            <a:ext cx="7743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SUPERMAN'S ALTER-E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ISON IS THE NATIONAL ANIMAL OF THE U.S.  WHAT IS THE NATIONAL ANIMAL OF RUSS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2-05-06T17:55:58Z</dcterms:modified>
  <cp:revision>444</cp:revision>
  <dc:subject/>
  <dc:title>Slide 1</dc:title>
</cp:coreProperties>
</file>