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59DF-524A-44B2-A0B4-B426E5E61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759E-E4CF-4BAE-AADC-7C372250C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E378-A91D-4CE0-B177-57ECB1B91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F077-AD3E-4005-AC27-FFAEB028C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6D97-0C1A-4494-A7BA-F40027C94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7068-E225-4A68-AA2E-D2180D287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8D80-4E67-47C7-BFDC-CECCA80B2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5C18-772A-40DC-A452-B783D5C91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2970-C8E5-405D-9105-78409EAA1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CB91-64B6-45B5-BAD1-1074685B9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11B9-BC82-4EA2-ABF4-246FF79C9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8157-4B00-40CB-A327-84CC617AB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3632-EA46-42D2-859E-CC45BAE67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2A44-E767-4937-96F1-33323A78B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1E83-9A01-4B98-B24E-5D207B58F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3791-878D-4716-B01C-C4A49DDF9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BA80-E2C2-4973-B7E8-901A88C3E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70AA-CC35-4FF2-9DE8-358343D52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46DF-A626-4428-B973-CC2F7C534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9FCD-9496-4C1C-B8DE-D5C2EC264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9D71-132A-4E2C-9789-5056F0373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E0DB-32AA-43E1-896A-38B9ED46F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FDA9-E5DD-4D74-895A-EEF10FA99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80BA-725B-4795-A44A-BD354C80D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39680" y="762120"/>
            <a:ext cx="70646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OTHER COMPACT CAR MADE BY VOLKSWAGEN BESIDES THE BEE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4920" y="1074240"/>
            <a:ext cx="470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BRAND LOGO CONTAINS THIS IN THE MIDDLE OF ITS NAM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334120" y="1074600"/>
            <a:ext cx="3384360" cy="294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OUL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43080" y="762120"/>
            <a:ext cx="8458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PARTS OF THE BODY, WHICH JAY-Z INSTRUCTED FANS TO BRUSH OFF, DO THE SCAPULAE MEET THE HUMER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COHOLICS  ANONYM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382760" y="762120"/>
            <a:ext cx="6378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A" IS SHORT FOR WHAT ORGANIZ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S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OTH THE ORIGINAL AND REMAKE OF "OCEANS 11", THE TEAM STEALS MONEY FROM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66680" y="771480"/>
            <a:ext cx="88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Y GROVE FOUNDED WHAT TECH COMPANY, FAMOUS FOR ITS "INSIDE" LOGO AND JI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LL  HOUSE  COOK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81080" y="762120"/>
            <a:ext cx="8781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KED GOODS ARE NAMED FOR THE MASSACHUSETTS INN WHERE RUTH GRAVES WAKEFIELD USED A NESTLE BAR TO INVENT THEM IN 193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61800" y="762120"/>
            <a:ext cx="8420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CROSOFT GRAPHICS EDITOR HAS BEEN INCLUDED WITH ALL VERSIONS OF WINDOW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E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65120" y="762120"/>
            <a:ext cx="8213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ARDEST PART OF THE HUMAN BO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43120" y="762120"/>
            <a:ext cx="7456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OTHER COMPACT CAR MADE BY VOLKSWAGEN BESIDES THE BEE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STI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304920" y="1066680"/>
            <a:ext cx="47768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BRAND LOGO CONTAINS THIS IN THE MIDDLE OF ITS NA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5334120" y="1074600"/>
            <a:ext cx="3384360" cy="294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585720" y="4876920"/>
            <a:ext cx="79725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WITH  C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2760" y="762120"/>
            <a:ext cx="8535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PARTS OF THE BODY, WHICH JAY-Z INSTRUCTED FANS TO BRUSH OFF, DO THE SCAPULAE MEET THE HUMER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405080" y="761760"/>
            <a:ext cx="6333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A" IS SHORT FOR WHAT ORGANIZ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733320" y="762120"/>
            <a:ext cx="7677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OTH THE ORIGINAL AND REMAKE OF "OCEANS 11", THE TEAM STEALS MONEY FROM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75760" y="762120"/>
            <a:ext cx="8589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Y GROVE FOUNDED WHAT TECH COMPANY, FAMOUS FOR ITS "INSIDE" LOGO AND JING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76040" y="762120"/>
            <a:ext cx="8791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KED GOODS ARE NAMED FOR THE MASSACHUSETTS INN WHERE RUTH GRAVES WAKEFIELD USED A NESTLE BAR TO INVENT THEM IN 193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97000" y="761760"/>
            <a:ext cx="8550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CROSOFT GRAPHICS EDITOR HAS BEEN INCLUDED WITH ALL VERSIONS OF WINDOW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46040" y="761760"/>
            <a:ext cx="8251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ARDEST PART OF THE HUMAN BO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7-14T18:29:06Z</dcterms:modified>
  <cp:revision>419</cp:revision>
  <dc:subject/>
  <dc:title>Slide 1</dc:title>
</cp:coreProperties>
</file>