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713D-7D63-4E9C-AA8E-19E6C7E1D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8BAF-62ED-47FF-9C99-40E054EA4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3C3E-62C4-49D0-AFCB-27A9A5A9D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2978-E304-4F5B-9498-939EDE0D5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5D9A-5CA7-4B3C-855B-5039335E9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3C21-1210-4C74-B299-1F1C5819C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8D19-15A5-46D5-98A6-1F804AD46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B9A5-F462-4506-9FDE-2BDE1DA90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9BA4-5409-40F2-8DD2-30C790E0B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E7C8-0B3B-4F51-B6CC-32825F569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EFD6-C84D-4709-8B8F-0534F8A12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FF80-0663-4ED5-8EE2-76F11F8E8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359D-872D-4AF2-B793-EC1B395FD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1756-91DC-4B5A-8E3E-2BA0ACE96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1C78-9A0C-4CBE-B567-3F1F7571E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D896-298C-4A9A-9996-BEBEC087B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5C10-87A5-4D0C-ACC7-A411F07DF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223A-FB91-4EBD-858D-06553D52F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F509-2295-4796-8C49-B58DCDE22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7C73-DB0E-47B7-BDE4-3135E5C61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131B-7B68-440A-AECC-839F219CB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4021-841A-4B15-8D36-3F35AE543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CE25-4823-4E82-829C-DFFC5F9B6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E554-CE20-4CD7-B42B-EDDE724F5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39680" y="762120"/>
            <a:ext cx="7064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THER COMPACT CAR MADE BY VOLKSWAGEN BESIDES THE BEE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074240"/>
            <a:ext cx="470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BRAND LOGO CONTAINS THIS IN THE MIDDLE OF ITS NA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334120" y="1074600"/>
            <a:ext cx="3384360" cy="29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UL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4308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PARTS OF THE BODY, WHICH JAY-Z INSTRUCTED FANS TO BRUSH OFF, DO THE SCAPULAE MEET THE HUMER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COHOLICS  ANONYM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82760" y="762120"/>
            <a:ext cx="6378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A" IS SHORT FOR WHAT ORGAN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TH THE ORIGINAL AND REMAKE OF "OCEANS 11", THE TEAM STEALS MONEY FROM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66680" y="771480"/>
            <a:ext cx="88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Y GROVE FOUNDED WHAT TECH COMPANY, FAMOUS FOR ITS "INSIDE" LOGO AND JI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LL  HOUSE  COOK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81080" y="762120"/>
            <a:ext cx="8781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KED GOODS ARE NAMED FOR THE MASSACHUSETTS INN WHERE RUTH GRAVES WAKEFIELD USED A NESTLE BAR TO INVENT THEM IN 193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ROSOFT GRAPHICS EDITOR HAS BEEN INCLUDED WITH ALL VERSIONS OF WINDO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5120" y="762120"/>
            <a:ext cx="821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ARDEST PART OF THE HUMAN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43120" y="762120"/>
            <a:ext cx="7456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THER COMPACT CAR MADE BY VOLKSWAGEN BESIDES THE BEE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ST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04920" y="1066680"/>
            <a:ext cx="4776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BRAND LOGO CONTAINS THIS IN THE MIDDLE OF ITS N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334120" y="1074600"/>
            <a:ext cx="3384360" cy="29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WITH  C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2760" y="762120"/>
            <a:ext cx="8535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PARTS OF THE BODY, WHICH JAY-Z INSTRUCTED FANS TO BRUSH OFF, DO THE SCAPULAE MEET THE HUMER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405080" y="761760"/>
            <a:ext cx="6333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A" IS SHORT FOR WHAT ORGAN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33320" y="762120"/>
            <a:ext cx="7677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TH THE ORIGINAL AND REMAKE OF "OCEANS 11", THE TEAM STEALS MONEY FROM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75760" y="762120"/>
            <a:ext cx="8589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Y GROVE FOUNDED WHAT TECH COMPANY, FAMOUS FOR ITS "INSIDE" LOGO AND JI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040" y="762120"/>
            <a:ext cx="8791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KED GOODS ARE NAMED FOR THE MASSACHUSETTS INN WHERE RUTH GRAVES WAKEFIELD USED A NESTLE BAR TO INVENT THEM IN 193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ROSOFT GRAPHICS EDITOR HAS BEEN INCLUDED WITH ALL VERSIONS OF WINDO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ARDEST PART OF THE HUMAN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7-14T18:29:06Z</dcterms:modified>
  <cp:revision>419</cp:revision>
  <dc:subject/>
  <dc:title>Slide 1</dc:title>
</cp:coreProperties>
</file>