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C58-B24F-4FC2-8CBA-C09FA437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DFE8-AFF0-4ACB-9731-6338D3F7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4DA6-81B2-4FA9-A686-405D3EE05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7CEA-3623-41AA-A26C-E0E0559F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FBE9-C714-452B-AD2F-C2AA2F653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6632-A3E4-425D-BDE1-410A2BEE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EEB5-D3A2-47FD-9F65-459DA83EE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2C2B-3341-4CC4-9E50-E447CC0BC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A73F-B5A2-49AD-8933-210531AB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389-6744-4864-8A81-17355DF1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C27D-0987-4145-B177-1F64A277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FE5-BEB8-41A7-8F3D-CD5EC3E7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AB1F-172B-454C-A7A4-50F63F5F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25C1-C22D-4B72-8017-08A34333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B69-8AA5-4632-9B16-C0FEFD90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261-EA67-4D43-B618-C89B6654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D90B-A61F-4DD3-8A37-F3EB99858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4085-9875-48EF-A7B5-9CE787A50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F212-F608-452D-98ED-ED9463E8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50B8-E026-4A3B-90E3-DE5D232F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A91B-BAF9-4651-8B2C-957206A9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B95-8E1E-4BF7-8E42-1FE2AFA9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DB53-D14A-4DE8-994C-7014F1F5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 SIDEWAYS 8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R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URN ME LOOSE" AND "WORKING FOR THE WEEK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ECTLY EDIBLE FOOD HAS BEEN FOUND IN 3000-YEAR-OLD EGYPTIAN PYRAM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XAR FILM "INSIDE OUT" WAS BASED ON PSYCHOLOGIST PAUL EKMAN'S THEORY OF THE "SIX UNIVERSAL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HOLIDAY ARE THE MOST FIREWORK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BASED ON A BOOK BY ERICH SEGAL STARRED RYAN O'NEAL AND ALI MACGR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28880" y="80028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RK FANTASY TV SERIES ON THE WB HAS RUN FOR 1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DISASTER FILM STARRED HELEN HUNT AND BILL PAX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URN ME LOOSE" AND "WORKING FOR THE WEEKE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 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DENVER SONG BEGINS WITH THE LYRICS "ALL OF HER DAYS HAVE GONE SOFT AND CLOU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I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 SIDEWAYS 8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ARIAH  CAREY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ECTLY EDIBLE FOOD HAS BEEN FOUND IN 3000-YEAR-OLD EGYPTIAN PYRAMI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XAR FILM "INSIDE OUT" WAS BASED ON PSYCHOLOGIST PAUL EKMAN'S THEORY OF THE "SIX UNIVERSAL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HOLIDAY ARE THE MOST FIREWORKS S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BASED ON A BOOK BY ERICH SEGAL STARRED RYAN O'NEAL AND ALI MACGR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RK FANTASY TV SERIES ON THE WB HAS RUN FOR 1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DISASTER FILM STARRED HELEN HUNT AND BILL PAX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DENVER SONG BEGINS WITH THE LYRICS "ALL OF HER DAYS HAVE GONE SOFT AND CLOU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13:37Z</dcterms:created>
  <dc:creator>Jennifer Budzinski</dc:creator>
  <dc:description/>
  <dc:language>en-US</dc:language>
  <cp:lastModifiedBy>Erich Friedman</cp:lastModifiedBy>
  <dcterms:modified xsi:type="dcterms:W3CDTF">2022-06-17T17:49:51Z</dcterms:modified>
  <cp:revision>416</cp:revision>
  <dc:subject/>
  <dc:title>Slide 1</dc:title>
</cp:coreProperties>
</file>