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55FD-CD37-4E38-A088-ED3944A8E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1AF4-7115-448D-AFC7-E00DF85B8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1496-52FD-46AC-89C9-3B8A8866B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3403-2CD9-4BF5-A28E-FA209EE97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3E79-2E75-493E-9DEF-62EF34F67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511F-ACA3-4C2C-808F-57CA31E94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52A4-3AAB-4A0D-A903-E1B1831F2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B1C9-F172-4BE3-80DA-58C6D42D1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D474-41A8-4F6F-8D6E-DDC2E3E57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5A3C-3A9B-4B0C-837B-ADD385D66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4234-A0BB-42B0-A65F-FE6305D28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DA7A-2D7E-4BB1-8BFE-D8FB36921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94CF-43CC-453D-ABDE-7072C3BA2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9FC4-05A9-42B8-8161-678B64102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304B-1E57-410B-8A94-6D38EB375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151A-25E4-4C2E-817A-EBD6409BB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AF2B-73B0-420D-88E1-1331C486F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BEF9-7F9C-4ED9-8701-5E1168609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5973-716C-4D26-9861-CAF45326A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9E0B-3AB5-4F34-A180-FA6C7952B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C8A0-DED3-401D-89FA-31E81F4F4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4E16-CDD5-493B-BBA1-6A3DF9059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3E5A-1B51-4B47-B0BF-245FD3B49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 SIDEWAYS 8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R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TURN ME LOOSE" AND "WORKING FOR THE WEEKE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FECTLY EDIBLE FOOD HAS BEEN FOUND IN 3000-YEAR-OLD EGYPTIAN PYRAMI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O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XAR FILM "INSIDE OUT" WAS BASED ON PSYCHOLOGIST PAUL EKMAN'S THEORY OF THE "SIX UNIVERSAL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HOLIDAY ARE THE MOST FIREWORKS S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FILM BASED ON A BOOK BY ERICH SEGAL STARRED RYAN O'NEAL AND ALI MACGR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28880" y="800280"/>
            <a:ext cx="7086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RK FANTASY TV SERIES ON THE WB HAS RUN FOR 15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DISASTER FILM STARRED HELEN HUNT AND BILL PAX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TURN ME LOOSE" AND "WORKING FOR THE WEEKE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Y 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DENVER SONG BEGINS WITH THE LYRICS "ALL OF HER DAYS HAVE GONE SOFT AND CLOU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FI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A SIDEWAYS 8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MARIAH  CAREY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FECTLY EDIBLE FOOD HAS BEEN FOUND IN 3000-YEAR-OLD EGYPTIAN PYRAMI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XAR FILM "INSIDE OUT" WAS BASED ON PSYCHOLOGIST PAUL EKMAN'S THEORY OF THE "SIX UNIVERSAL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HOLIDAY ARE THE MOST FIREWORKS S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FILM BASED ON A BOOK BY ERICH SEGAL STARRED RYAN O'NEAL AND ALI MACGRA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RK FANTASY TV SERIES ON THE WB HAS RUN FOR 15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DISASTER FILM STARRED HELEN HUNT AND BILL PAX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 DENVER SONG BEGINS WITH THE LYRICS "ALL OF HER DAYS HAVE GONE SOFT AND CLOU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3:13:37Z</dcterms:created>
  <dc:creator>Jennifer Budzinski</dc:creator>
  <dc:description/>
  <dc:language>en-US</dc:language>
  <cp:lastModifiedBy>Erich Friedman</cp:lastModifiedBy>
  <dcterms:modified xsi:type="dcterms:W3CDTF">2022-06-17T17:49:51Z</dcterms:modified>
  <cp:revision>416</cp:revision>
  <dc:subject/>
  <dc:title>Slide 1</dc:title>
</cp:coreProperties>
</file>