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0C5E-AA52-45EB-A1EC-C5F849C5B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D897-CE84-4EEC-A5E8-67081D290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54D5-664C-44CF-A876-1D9FA11C4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B8F4-6702-4A71-A247-513254C76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70B1-3541-4FAB-AC43-14893F4DE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7B5D-374A-42D8-8F13-944A02527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7B40-4A59-4A99-9195-1048F0C65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1CE3-C407-43AC-BA75-6004A6E18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EC54-45B2-4208-85C4-57D765547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530F-A2A8-4980-B831-A5457E9C0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A581-CEA6-4EA3-90E0-442735DC2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5106-EC45-4AEC-956E-4E34CA7CD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3D68-D4C2-40E5-AAC1-55DBBA5D3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8D85-4BC3-4587-A7B7-29E8DB974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9544-746C-4B36-9123-9C0EE941E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3F6F-2552-4B9D-B3A9-AFC59217F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82DC-DEE1-4046-A39B-92D925CF6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B3E0-CB33-47B5-A342-6C6DCDC02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72ED-682F-4682-8355-CBD88BFB2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519B-2080-4D27-8D9E-670EE4A45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C83F-08D0-4725-81EC-24B3C04C9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9E5D-440C-4236-B539-1A02552BE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47DD-0A66-4FC1-88F9-5BB148E94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 UNIVERSITY IN THE DISTRICT OF COLUMB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OKLY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THE DODGERS PLAY BEFORE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06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30080"/>
            <a:ext cx="7086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TIE, SKETCH, OR T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068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  (NEWT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QUARTERBACK FOR THE CAROLINA PANTHERS 2011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160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GENESIS, WHAT DID THE PEOPLE OF BABEL TRY TO BUI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ACK)  LON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"CALL OF THE W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SP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VEHICLE, WHAT IS THE SYSTEM OF TIRES, SPRINGS, AND SHOCK ABSORBER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4-LETTER ENDING OF WORLD COUNTRY NAM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THE DODGERS PLAY BEFORE LOS ANGE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R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WRITTEN AGREEMENT OR TO DECREASE IN S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 UNIVERSITY IN THE DISTRICT OF COLUMB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95280" y="4343400"/>
            <a:ext cx="6629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BE  FOLLOWED   BY  THE  WORD  "BRIDG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TIE, SKETCH, OR T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95320" y="762120"/>
            <a:ext cx="7353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QUARTERBACK FOR THE CAROLINA PANTHERS 2011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GENESIS, WHAT DID THE PEOPLE OF BABEL TRY TO BUI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"CALL OF THE WI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VEHICLE, WHAT IS THE SYSTEM OF TIRES, SPRINGS, AND SHOCK ABSORBER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4-LETTER ENDING OF WORLD COUNTRY NAM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WRITTEN AGREEMENT OR TO DECREASE IN SIZ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18:41:57Z</dcterms:created>
  <dc:creator>Jennifer Budzinski</dc:creator>
  <dc:description/>
  <dc:language>en-US</dc:language>
  <cp:lastModifiedBy>Erich Friedman</cp:lastModifiedBy>
  <dcterms:modified xsi:type="dcterms:W3CDTF">2020-08-25T13:08:32Z</dcterms:modified>
  <cp:revision>376</cp:revision>
  <dc:subject/>
  <dc:title>Slide 1</dc:title>
</cp:coreProperties>
</file>