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CEE6-2438-4528-B45D-F34641B91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5C1-EB04-4B82-BE0E-7768F67F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CC58-CF6A-43A4-B6C2-712174B8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6E44-DCD0-4076-A124-271F9437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A0F1-AEEE-4C34-AE06-44C60DA3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2061-0C16-45E3-8870-F66B26B09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9C3B-6F74-494E-8E75-E4175AB4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BAF3-6676-4FF9-A5D6-E0D34CAB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88A0-E014-4A8A-AEB4-C9153490A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3167-3D5C-4F45-8730-87A058B5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5A9-AE30-4982-8CAB-FCDEEA2C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4473-6F24-47B9-9FCE-31B43CEB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9B1A-6136-4596-813B-3896D344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7395-C63D-4BCD-A903-28A7F4AA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71B-B12E-4E59-B7C0-2321CD08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4D51-CE80-4BC2-A410-6B3BD6D6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9A5B-EBF5-4420-96E1-EAF6A1E0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A27F-3EA6-4876-88F8-8041FD4B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A636-73DA-48E0-9A51-8DF20669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9296-EF20-44D4-91D3-16F45FE5F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CF3-3FF2-423D-9D18-1292EDAA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6CAC-A138-4AF7-91C0-4715EB5CF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2DF0-8347-4F39-A0DD-0AEA84D9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 UNIVERSITY IN THE DISTRICT OF COLUM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DODGERS PLAY BEFORE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06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30080"/>
            <a:ext cx="708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IE, SKETCH, OR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6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(NEW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, WHAT DID THE PEOPLE OF BABEL TRY TO BU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VEHICLE, WHAT IS THE SYSTEM OF TIRES, SPRINGS, AND SHOCK ABSORBER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WORLD COUNTRY NA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DODGERS PLAY BEFORE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WRITTEN AGREEMENT OR TO DECREASE I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 UNIVERSITY IN THE DISTRICT OF COLU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 BY  THE  WORD  "BRIDG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IE, SKETCH, OR 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, WHAT DID THE PEOPLE OF BABEL TRY TO BU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VEHICLE, WHAT IS THE SYSTEM OF TIRES, SPRINGS, AND SHOCK ABSORBER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WORLD COUNTRY NAM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WRITTEN AGREEMENT OR TO DECREASE IN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8:41:57Z</dcterms:created>
  <dc:creator>Jennifer Budzinski</dc:creator>
  <dc:description/>
  <dc:language>en-US</dc:language>
  <cp:lastModifiedBy>Erich Friedman</cp:lastModifiedBy>
  <dcterms:modified xsi:type="dcterms:W3CDTF">2020-08-25T13:08:32Z</dcterms:modified>
  <cp:revision>376</cp:revision>
  <dc:subject/>
  <dc:title>Slide 1</dc:title>
</cp:coreProperties>
</file>