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4EC-51F7-42E9-9AF6-F69FA1507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001-861A-443B-9E3A-D5E3E4F0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EC33-A917-472A-9C69-249D4ACA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A64-58EF-4ECB-B5E0-2A5381B9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500-C18E-4973-9AAA-8764FA79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3E5-65A3-4324-AFF5-E36C7D0D2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A7E9-279B-4E1B-A541-A81D5F18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B01C-DE67-4724-93B8-F0AFEEC9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000-6828-463C-A058-261BADD8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36AB-5BDC-45C3-8F23-630739D5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14B-27CF-47B6-8C63-0B9BDE0C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85D-5C8A-4065-B742-E4A1C6C0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1F4-C30E-43AB-AA0E-977D3CAD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25D2-D36F-4C29-B8EC-665D75CE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D53-D8A4-4A52-9889-2A104752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5D0-1B07-4642-8735-7C3CA4341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60A1-D3C6-4B99-AACF-52FF5902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BD9-C456-481C-8D2F-D5E79D29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EFB-670F-4FB0-8927-59FD7A3E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3DE-6DB9-4434-B80D-811721DF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7899-EB1A-4367-BF9E-D91DFE9E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1BB-E64D-4ACA-9796-0540C2B2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CD9-F2CC-4DE5-B289-4636D8AB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3008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(NEW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 BY  THE  WORD  "BRIDG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8:41:57Z</dcterms:created>
  <dc:creator>Jennifer Budzinski</dc:creator>
  <dc:description/>
  <dc:language>en-US</dc:language>
  <cp:lastModifiedBy>Erich Friedman</cp:lastModifiedBy>
  <dcterms:modified xsi:type="dcterms:W3CDTF">2020-08-25T13:08:32Z</dcterms:modified>
  <cp:revision>376</cp:revision>
  <dc:subject/>
  <dc:title>Slide 1</dc:title>
</cp:coreProperties>
</file>