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A44-90FD-4304-8821-9E8C3CB4B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7E6F-B2A8-4986-A61F-B26EBF99B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C217-6E30-42A6-A26A-8B3C343F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36FE-0B32-48F8-A2F0-A51877AB7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54DE-D68C-4CC4-82F5-E1352136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FDB6-476A-488D-BB4B-865C19448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B721-6392-4D67-AD30-93039297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9D3-02C9-40CF-990A-FD1AF71A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A421-873A-4B1B-918D-4DFCFC2E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45A2-874E-4282-BBDB-30C369D9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1DDE-1930-470A-8B40-6AE4860F7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207E-5738-4EF2-9FF5-6175471F6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277B-F8C3-442B-84C0-F8AE88277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40E-C66D-4A69-91B8-663B8FD0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3381-A14A-4490-AA89-DC4AD3533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7203-619E-4DB3-B3A1-8DC8FFE9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2D593-91CC-4B4A-9DED-978130A6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C822-821C-427E-BC19-36A40CA2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4B90-02EA-4584-8AC6-735047C94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99EF-F8C6-43EC-9B47-C3601D0A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3504-0C27-4EEA-887D-FEAB2BD5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A3AE-9B6C-4D3C-B8BB-75DD8E5F3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F654-6201-456B-9CC0-95A34E0E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FILM BY THE MOVIE POST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897280" y="1295280"/>
            <a:ext cx="3349440" cy="40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KEND  AT  BERNI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09960" y="1284120"/>
            <a:ext cx="312408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  OF  THE  WORLD  PART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191040" y="1222200"/>
            <a:ext cx="2761920" cy="380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STIC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048120" y="1308240"/>
            <a:ext cx="30477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FRANK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878120" y="1295280"/>
            <a:ext cx="538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730600" y="1295280"/>
            <a:ext cx="3682800" cy="36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629080" y="1371600"/>
            <a:ext cx="388620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ET  THE  PAR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908440" y="1295280"/>
            <a:ext cx="332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20960" y="1295280"/>
            <a:ext cx="35020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SUB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914480" y="1319040"/>
            <a:ext cx="5315040" cy="371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3067200" y="1317600"/>
            <a:ext cx="30096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876240" y="3886200"/>
            <a:ext cx="7391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START  WITH  PRONOUNS  (WE,  HIS,  MY,  YOU,  SHE,  I,  ME,  YE,  H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62160" y="1295280"/>
            <a:ext cx="3019680" cy="41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40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35040" y="1295280"/>
            <a:ext cx="60739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40160" y="1295280"/>
            <a:ext cx="406368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68440" y="1371600"/>
            <a:ext cx="44071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619280" y="1295280"/>
            <a:ext cx="5905440" cy="412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5-28T13:28:08Z</dcterms:modified>
  <cp:revision>294</cp:revision>
  <dc:subject/>
  <dc:title>Slide 1</dc:title>
</cp:coreProperties>
</file>