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ECCD-2735-409E-BE9D-BCE03635F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7CA9-6459-4F2B-BB1D-5192EDD7B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96A9-A240-469E-8418-7C692E88A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EF26-F8F7-4884-B1A4-562538010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9A24-CFD0-425D-AD7A-548DA2EB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2CAD-FC3B-49B8-AB2F-AA8B9BD68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C4A0-A2DB-47CF-A37D-FB27CCA9A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C6FC-F67F-495B-B7B7-8E595ABB3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3497-CAED-4192-9FFE-6927D0D0F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4BD0-7343-4D06-AF1C-34B1107F3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29CE-CD67-4AF9-A298-6464B5F88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54E7-92F2-47FD-97C0-8BA159CFB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8EB3-2FB5-43B5-A9BC-6B2339B0B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61DD-881C-4895-8095-073193874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1A89-076C-4F24-BCA5-11B2A70EE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B487-E1C0-451F-81F1-FD6F38E1B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5278-B894-43EE-A2C6-D105BED61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FC27-4A10-4A11-97E4-F588EAE4B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BEF4-D5A3-4E86-8B7D-938479ECC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89FD-A7AB-428F-90B1-2CE0545DA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97EF-37F9-4871-AB10-AE79946C0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CF78-871D-484E-AD22-5A87722D5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B7A8-0A01-4FD2-9FAE-783C1631F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FILM BY THE MOVIE POSTE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897280" y="1295280"/>
            <a:ext cx="334944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EKEND  AT  BERNIE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09960" y="1284120"/>
            <a:ext cx="3124080" cy="36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TORY  OF  THE  WORLD  PART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191040" y="1222200"/>
            <a:ext cx="2761920" cy="380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STIC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048120" y="1308240"/>
            <a:ext cx="3047760" cy="37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NG  FRANKE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878120" y="1295280"/>
            <a:ext cx="53877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LOCK  HOL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730600" y="1295280"/>
            <a:ext cx="3682800" cy="368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EPENDENCE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629080" y="1371600"/>
            <a:ext cx="3886200" cy="35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ET  THE  PAR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908440" y="1295280"/>
            <a:ext cx="3327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20960" y="1295280"/>
            <a:ext cx="35020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  SUBMA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914480" y="1319040"/>
            <a:ext cx="5315040" cy="37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C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067200" y="1317600"/>
            <a:ext cx="300960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76240" y="388620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START  WITH  PRONOUNS  (WE,  HIS,  MY,  YOU,  SHE,  I,  ME,  YE,  H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062160" y="1295280"/>
            <a:ext cx="3019680" cy="41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353040" cy="40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35040" y="1295280"/>
            <a:ext cx="60739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40160" y="1295280"/>
            <a:ext cx="406368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368440" y="1371600"/>
            <a:ext cx="44071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735280" y="1295280"/>
            <a:ext cx="367344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619280" y="1295280"/>
            <a:ext cx="5905440" cy="412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5-28T13:28:08Z</dcterms:modified>
  <cp:revision>294</cp:revision>
  <dc:subject/>
  <dc:title>Slide 1</dc:title>
</cp:coreProperties>
</file>