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6A68-AE3F-422A-B29F-704FDA778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2E10-5233-43A0-83E1-96C4A96D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26E-6C1D-406D-B0BA-6BFB2838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07D2-9E22-45F9-A7EA-C1D114F5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161E-E688-4C1F-AE93-C3D110552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6CAF-C973-4983-9296-0BCC0178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F3E-E427-483A-B76E-7D219E82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22E9-FEEE-42CE-AD6D-E8393BE9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3C34-F1E8-4915-9051-0045F7D36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178C-C7F1-4804-A0D3-55A91F29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E3C-BAD8-45A3-8714-5032AA03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F76-9E8B-4ABA-BCD3-B0069C9F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1467-C518-42DD-9D41-C1C6FC31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0A5-1972-4BE5-A9ED-9511C0C7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BDE-0334-42DD-AB4C-3A83DE55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EE7-26B0-4E14-A052-3E6F3DC0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72BB-F145-4336-B0EE-3C0661EC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7B6D-A7CC-473C-85B5-9A881279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3016-BA8D-42A9-BF4F-68C21233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66C-769A-4ABC-8168-28DAFC94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BBC1-008F-43E6-99F5-1FDFC89C6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2FF-5733-4464-ACFF-358F06E3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628-C97D-4055-BBE9-3D59FE1F8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52680" y="761760"/>
            <a:ext cx="6038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25960" y="2743200"/>
            <a:ext cx="269208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55720" y="762120"/>
            <a:ext cx="743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NURSERY RHYME, WHERE DOES ONE GO TO BUY A FAT PIG, A FAT HOG, AND A PLUM B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D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THE 1967 ALBUM "THE WHO SELL OUT", ROGER DALTREY IS PICTURED IN A BATHTUB FILLED WITH WHAT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25400" y="77148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KC GROUP OF SMALL DOGS WERE ORIGINALLY BRED TO HUNT VERMIN THAT LIVE UNDERG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14280" y="762120"/>
            <a:ext cx="85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SSROOTS POLITICAL MOVEMENT FOUNDED BY MICHELE BACHMANN HAD       60 MEMBERS IN ITS CONGRESSIONAL CAU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EVAL TERM FOR BROWN BEARS DID UCLA ADOPT AS ITS NEW TEAM NAME, REPLACING "GRIZZLIES," IN 19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3680" y="762120"/>
            <a:ext cx="821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DERLY NICKNAME   HAS BEEN THE TITLE OF BIOGRAPHIES OF BOTH LOUIS ARMSTRONG AND BASEBALL LEGEND WILLIE STARG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NURSERY RHYME, WHERE DOES ONE GO TO BUY A FAT PIG, A FAT HOG, AND A PLUM B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71440" y="762120"/>
            <a:ext cx="859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IN 2015 FOR THE SONG "GLORY", WHICH HE RECORDED WITH JOHN LEGEND FOR THE "SELMA" SOUND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87680" y="762120"/>
            <a:ext cx="576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25960" y="2743200"/>
            <a:ext cx="269208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85720" y="4800600"/>
            <a:ext cx="79725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OST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THE 1967 ALBUM "THE WHO SELL OUT", ROGER DALTREY IS PICTURED IN A BATHTUB FILLED WITH WHAT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3200" y="762120"/>
            <a:ext cx="779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KC GROUP OF SMALL DOGS WERE ORIGINALLY BRED TO HUNT VERMIN THAT LIVE UNDER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SSROOTS POLITICAL MOVEMENT FOUNDED BY MICHELE BACHMANN HAD     60 MEMBERS IN ITS CONGRESSIONAL CAUC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EVAL TERM FOR BROWN BEARS DID UCLA ADOPT AS ITS NEW TEAM NAME, REPLACING "GRIZZLIES," IN 19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DERLY NICKNAME   HAS BEEN THE TITLE OF BIOGRAPHIES OF BOTH LOUIS ARMSTRONG AND BASEBALL LEGEND WILLIE STARG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3840" y="762120"/>
            <a:ext cx="871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IN 2015 FOR THE SONG "GLORY", WHICH HE RECORDED WITH JOHN LEGEND FOR THE "SELMA" SOUND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17T17:51:56Z</dcterms:modified>
  <cp:revision>419</cp:revision>
  <dc:subject/>
  <dc:title>Slide 1</dc:title>
</cp:coreProperties>
</file>