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9ADE-35B0-412C-8D12-4312496D4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60D0-A390-4E74-9751-B7DC91A5C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67E2-CC1E-463E-BBFA-0EB74DD66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158A-CD37-4C64-8013-4AF342FE7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4DE7-C66C-4B5B-B8C2-042DC4893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E8A4-FD55-4880-BF9D-10A6A305D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47B1-E891-4A38-8D4F-102618D84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25EF-EFA5-4B70-BFD0-0A965057B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508E-EAA8-4CA5-ACB7-5464B2705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FFDA-C32B-4220-851C-B86A24D74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29C9-99E9-4857-B3C4-0377FB0A3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0A7B-792A-49F5-9158-31A991184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AF74-BB01-4B07-8113-07FE0E982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1BAD-5EFB-4A35-B083-918F1F7B0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2E67-201D-401E-8BE8-ABD1CA164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FC93-941F-40EB-BE5C-1A8CF97DF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F710-18BC-4ECD-9C4E-380F13FA5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963D-A2C4-46AA-AC1E-A6710E149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5406-8B01-41A2-A0B1-C2FE4D6DC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48A4-879A-4AE7-B189-EA7832AB0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2999-62AF-43AA-8C94-9B7067634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A830-378C-47C0-A38C-311C2232E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77D7-0962-4824-AC53-9B6092450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52680" y="761760"/>
            <a:ext cx="6038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25960" y="2743200"/>
            <a:ext cx="2692080" cy="20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55720" y="762120"/>
            <a:ext cx="743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NURSERY RHYME, WHERE DOES ONE GO TO BUY A FAT PIG, A FAT HOG, AND A PLUM B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LONDON THEATER THAT WILLIAM SHAKESPEARE OWNED A 1/8 STAKE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KED  B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COVER OF THE 1967 ALBUM "THE WHO SELL OUT", ROGER DALTREY IS PICTURED IN A BATHTUB FILLED WITH WHAT F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25400" y="77148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KC GROUP OF SMALL DOGS WERE ORIGINALLY BRED TO HUNT VERMIN THAT LIVE UNDERGR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  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14280" y="762120"/>
            <a:ext cx="8515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ASSROOTS POLITICAL MOVEMENT FOUNDED BY MICHELE BACHMANN HAD       60 MEMBERS IN ITS CONGRESSIONAL CAUC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EVAL TERM FOR BROWN BEARS DID UCLA ADOPT AS ITS NEW TEAM NAME, REPLACING "GRIZZLIES," IN 192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63680" y="762120"/>
            <a:ext cx="8216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DERLY NICKNAME   HAS BEEN THE TITLE OF BIOGRAPHIES OF BOTH LOUIS ARMSTRONG AND BASEBALL LEGEND WILLIE STARG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33320" y="762120"/>
            <a:ext cx="767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NURSERY RHYME, WHERE DOES ONE GO TO BUY A FAT PIG, A FAT HOG, AND A PLUM B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71440" y="762120"/>
            <a:ext cx="8599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 WON AN OSCAR IN 2015 FOR THE SONG "GLORY", WHICH HE RECORDED WITH JOHN LEGEND FOR THE "SELMA" SOUNDTR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ATH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687680" y="762120"/>
            <a:ext cx="5768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225960" y="2743200"/>
            <a:ext cx="2692080" cy="20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85720" y="4800600"/>
            <a:ext cx="79725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BOSTO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LONDON THEATER THAT WILLIAM SHAKESPEARE OWNED A 1/8 STAKE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COVER OF THE 1967 ALBUM "THE WHO SELL OUT", ROGER DALTREY IS PICTURED IN A BATHTUB FILLED WITH WHAT F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3200" y="762120"/>
            <a:ext cx="7797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KC GROUP OF SMALL DOGS WERE ORIGINALLY BRED TO HUNT VERMIN THAT LIVE UNDERGR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3720" y="762120"/>
            <a:ext cx="829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ASSROOTS POLITICAL MOVEMENT FOUNDED BY MICHELE BACHMANN HAD     60 MEMBERS IN ITS CONGRESSIONAL CAUC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76160" y="761760"/>
            <a:ext cx="7591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EVAL TERM FOR BROWN BEARS DID UCLA ADOPT AS ITS NEW TEAM NAME, REPLACING "GRIZZLIES," IN 192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DERLY NICKNAME   HAS BEEN THE TITLE OF BIOGRAPHIES OF BOTH LOUIS ARMSTRONG AND BASEBALL LEGEND WILLIE STARG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13840" y="762120"/>
            <a:ext cx="871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 WON AN OSCAR IN 2015 FOR THE SONG "GLORY", WHICH HE RECORDED WITH JOHN LEGEND FOR THE "SELMA" SOUNDTR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17T17:51:56Z</dcterms:modified>
  <cp:revision>419</cp:revision>
  <dc:subject/>
  <dc:title>Slide 1</dc:title>
</cp:coreProperties>
</file>