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BAB-ECB1-4D4A-B2E9-DB722821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A13D-5F13-4CFD-9DEB-4E1655FC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45E-6791-4010-868E-10B6BC6D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7080-5B2D-4BF6-835C-B8D7AB2B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3B3-5767-4102-A4D4-75D6BC06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972B-0BA8-4C1C-BCF3-0BF46ED6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55D0-9741-4A01-A73A-1263D6243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76D-C924-4ECA-9127-538F226B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062-627B-444E-80CC-BCB373AE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70C-A08A-466F-9F09-19196AA4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E1FD-2AE2-42E7-9794-574D7FA3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0DAB-12CC-46B9-A080-488B64DE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BE51-C9C6-4019-AD2D-2C686896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8BA-6856-4834-81B5-C44CC7C0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3D39-9542-4B53-8C0E-FC177397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03E-625D-4375-8449-DD3AEB7E5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B69-885E-4473-9781-A0E98EB0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B0E3-F8CD-4C18-8845-548895C5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399B-437B-4903-91CF-DA00A747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4D1-3E66-4220-970B-5618791D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5412-670C-43C5-9B5B-821FD02F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14A-B234-452F-A562-F02E838B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28D-EAE6-4CC4-9964-69D543AB8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761760"/>
            <a:ext cx="851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OVERNMENT OFFICIALS ARE ADDRESSED AS "EXCELLENCY" IN MOST COUNTRIES, BUT "THE HONORABLE" WHEN THEY ARE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M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IE MANDEL WAS THE VOICE OF THE MOGWAI CALLED "GIZMO" IN WHAT 1984 HORROR / COMED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VA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24000" y="762120"/>
            <a:ext cx="6694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EVELAND    TEAM WON THE NBA CHAMPIONSHIP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NESS-RACING HORSES INSPIRED THE NAME OF INDIANA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6680" y="771480"/>
            <a:ext cx="88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ACK AND FIELD" ITEM HAS BEEN THROWN 100 METERS ONLY ONCE IN COMPETITION,  BY UWE HOHN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CARTER'S NOVEL ABOUT THE REVOLUTIONARY WAR IN THE CAROLINAS WAS NAMED FOR A NEST OF WHAT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OFF PAUL MCCARTNEY'S ALBUM "BAND ON THE RUN" WHOSE TITLE BEGINS WITH "J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8 ANIMATED STAR WARS TV SERIES KILLED OFF THE MAIN CHARACTER JEDI KNIGHT KANAN JAR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5760" y="762120"/>
            <a:ext cx="823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IE MANDEL WAS THE VOICE OF THE MOGWAI CALLED "GIZMO" IN WHAT 1984 HORROR / COMED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MOST KOSHER WINE IS MADE FROM WHAT VARIETY OF G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ASSA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77920" y="762120"/>
            <a:ext cx="858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OVERNMENT OFFICIALS ARE ADDRESSED AS "EXCELLENCY" IN MOST COUNTRIES, BUT "THE HONORABLE" WHEN THEY ARE AMERIC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C 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00240" y="761760"/>
            <a:ext cx="6743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EVELAND    TEAM WON THE NBA CHAMPIONSHIP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NESS-RACING HORSES INSPIRED THE NAME OF INDIANA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7000" y="762120"/>
            <a:ext cx="8874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ACK AND FIELD" ITEM HAS BEEN THROWN 100 METERS ONLY ONCE IN COMPETITION,  BY UWE HOHN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CARTER'S NOVEL ABOUT THE REVOLUTIONARY WAR IN THE CAROLINAS WAS NAMED FOR A NEST OF WHAT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OFF PAUL MCCARTNEY'S ALBUM "BAND ON THE RUN" WHOSE TITLE BEGINS WITH "J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8 ANIMATED STAR WARS TV SERIES KILLED OFF THE MAIN CHARACTER JEDI KNIGHT KANAN JAR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MOST KOSHER WINE IS MADE FROM WHAT VARIETY OF G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8T14:48:35Z</dcterms:modified>
  <cp:revision>416</cp:revision>
  <dc:subject/>
  <dc:title>Slide 1</dc:title>
</cp:coreProperties>
</file>