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786F-C341-4D8D-A45D-8D6EE8C28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12C3-421C-40BD-849C-CD9406438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53F3-F364-4376-BDEF-BF0D89DE0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315B-C2AE-45A2-98FC-A8A81172A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6B87-2F3B-44B1-8BF4-10428B9D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10BC-FE7F-4254-829D-689D174F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B721-DC85-4C14-BAF8-7B908D6AA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A39A-53FD-47CE-AA95-3EA41C86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9403-EA17-40AF-969C-7955B4FAD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3BCF-EFD3-4212-AF45-B5F9440E2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DA1F-EB83-45BD-88F7-66B3ACBE1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D66-857E-4788-9BB1-611C8CF2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CB93-CE02-4721-8926-62047830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A772-66C5-4976-A95A-4F0C3EA13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FE67-1DC0-41D0-B764-363F52CF2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D884-642D-4E01-A6F3-4A8B4383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B7ED-F2AD-45EF-87B3-E66DDE751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1CB1-F8CF-4612-9793-395723FB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A302-D7FD-4F3E-848D-430A6877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1607-3506-4873-B97F-FA0F361AD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EE352-289B-468E-99C4-842D3829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13D8-37F4-402A-B1DE-0A52DE1A0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B9E6-28F8-43A5-8DF5-4CEAED4A0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3640" y="761760"/>
            <a:ext cx="851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GOVERNMENT OFFICIALS ARE ADDRESSED AS "EXCELLENCY" IN MOST COUNTRIES, BUT "THE HONORABLE" WHEN THEY ARE AMERICA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M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IE MANDEL WAS THE VOICE OF THE MOGWAI CALLED "GIZMO" IN WHAT 1984 HORROR / COMED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VAL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24000" y="762120"/>
            <a:ext cx="6694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EVELAND    TEAM WON THE NBA CHAMPIONSHIP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NESS-RACING HORSES INSPIRED THE NAME OF INDIANA'S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V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66680" y="771480"/>
            <a:ext cx="88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ACK AND FIELD" ITEM HAS BEEN THROWN 100 METERS ONLY ONCE IN COMPETITION,  BY UWE HOHN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MY CARTER'S NOVEL ABOUT THE REVOLUTIONARY WAR IN THE CAROLINAS WAS NAMED FOR A NEST OF WHAT ANI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OFF PAUL MCCARTNEY'S ALBUM "BAND ON THE RUN" WHOSE TITLE BEGINS WITH "J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8 ANIMATED STAR WARS TV SERIES KILLED OFF THE MAIN CHARACTER JEDI KNIGHT KANAN JAR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5760" y="762120"/>
            <a:ext cx="823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IE MANDEL WAS THE VOICE OF THE MOGWAI CALLED "GIZMO" IN WHAT 1984 HORROR / COMED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MOST KOSHER WINE IS MADE FROM WHAT VARIETY OF GR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ASSA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77920" y="762120"/>
            <a:ext cx="858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GOVERNMENT OFFICIALS ARE ADDRESSED AS "EXCELLENCY" IN MOST COUNTRIES, BUT "THE HONORABLE" WHEN THEY ARE AMERIC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C  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00240" y="761760"/>
            <a:ext cx="6743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EVELAND    TEAM WON THE NBA CHAMPIONSHIP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NESS-RACING HORSES INSPIRED THE NAME OF INDIANA'S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7000" y="762120"/>
            <a:ext cx="8874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ACK AND FIELD" ITEM HAS BEEN THROWN 100 METERS ONLY ONCE IN COMPETITION,  BY UWE HOHN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MY CARTER'S NOVEL ABOUT THE REVOLUTIONARY WAR IN THE CAROLINAS WAS NAMED FOR A NEST OF WHAT ANI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OFF PAUL MCCARTNEY'S ALBUM "BAND ON THE RUN" WHOSE TITLE BEGINS WITH "J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8 ANIMATED STAR WARS TV SERIES KILLED OFF THE MAIN CHARACTER JEDI KNIGHT KANAN JARR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MOST KOSHER WINE IS MADE FROM WHAT VARIETY OF GR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28T14:48:35Z</dcterms:modified>
  <cp:revision>416</cp:revision>
  <dc:subject/>
  <dc:title>Slide 1</dc:title>
</cp:coreProperties>
</file>