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730A-F840-4697-BE06-A270C71DF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B0CE-BE94-4C5E-A2D3-432DFBD40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76E6-FC38-4DB2-B7D5-9C7D55071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381F-B7EA-4918-9CDB-82ED19164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7875-C3B5-407E-B3AA-EFB655E9C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A48F-B4F6-47A2-B02D-5B18A3DB0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1993-C940-4227-854E-0541C58DF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7571-A171-48D6-8D8F-296D87BD7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1ECB-A355-4B34-8CAB-4834B5FE7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0976-826B-4574-AE44-4E94875E4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0CDE-6773-427E-B185-FFAB7AA68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A5C8-CADE-418A-929B-72381DE66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0EDF-9B27-4FE3-84DD-058D0DC00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AD90-CD45-4E3A-920D-1EB5F9CF4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F3FF-BD1B-4E74-92ED-49F18240B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5CC6-C123-4AB0-ABC9-B217075E6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7898-4508-44DE-A92E-83098A904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86FC-8FF5-44C7-A3B5-74114DEB1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063F-3771-4E6F-84D9-E539D4155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E59A-262C-4E0A-8459-6E65F98D7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B01E-141E-4FD1-B498-FB359A54C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2FDB-3E6C-4F59-926C-95F1FD069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02CE-1102-4827-9010-F249571E9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5440" y="761760"/>
            <a:ext cx="849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AME OF MARBLES, WHAT IS A LARGER MARBLE USED FOR SHOOTING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68580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00280" y="762120"/>
            <a:ext cx="7543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TATION IS THE PROMINENT NETWORK TARGETING AFRICAN-AMERICAN AUDI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49440" y="762120"/>
            <a:ext cx="7845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NOUN BECOMES ITS OPPOSITE IF AN "S" IS ADDED TO THE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Ê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71640" y="76500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IMPORTANT HOLIDAY IN VIETNAM, CELEBRATING THE BEGINNING OF THE LUNAR NEW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Y(P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04920" y="914400"/>
            <a:ext cx="4638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DARK BLUE "P" IN THIS LOGO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257800" y="762120"/>
            <a:ext cx="3403440" cy="393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3560" y="4876920"/>
            <a:ext cx="8153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12800" y="762120"/>
            <a:ext cx="771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PART OF THE BODY IS THE TIBIA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M(PH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61800" y="762120"/>
            <a:ext cx="8420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RST 3 LETTERS IN THE NAME OF THE SECOND LARGEST CITY IN TENNESSEE, AFTER NASHVIL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ATKINS WHO WON CMA "INSTRUMENTALIST OF THE YEAR" IN '67, '68, '69, '81, '82, '83, '84, '85, AND '8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TATION IS THE PROMINENT NETWORK TARGETING AFRICAN-AMERICAN AUDIENC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57240" y="762120"/>
            <a:ext cx="72295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1992 FILM, WHOOPI GOLDBERG PLAYS A LOUNGE SINGER PLACED IN WITNESS PROTECTION AS WHAT PROFE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14280" y="762120"/>
            <a:ext cx="8515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AME OF MARBLES, WHAT IS A LARGER MARBLE USED FOR SHOOTING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585720" y="4876920"/>
            <a:ext cx="79725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HEBREW  LE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38280" y="761760"/>
            <a:ext cx="786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NOUN BECOMES ITS OPPOSITE IF AN "S" IS ADDED TO THE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IMPORTANT HOLIDAY IN VIETNAM, CELEBRATING THE BEGINNING OF THE LUNAR NEW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240" y="990720"/>
            <a:ext cx="4653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DARK BLUE "P" IN THIS LOGO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257800" y="762120"/>
            <a:ext cx="3403440" cy="39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76160" y="762120"/>
            <a:ext cx="7591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PART OF THE BODY IS THE TIBIA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RST 3 LETTERS IN THE NAME OF THE SECOND LARGEST CITY IN TENNESSEE, AFTER NASHVIL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ATKINS WHO WON CMA "INSTRUMENTALIST OF THE YEAR" IN '67, '68, '69, '81, '82, '83, '84, '85, AND '8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11080" y="762120"/>
            <a:ext cx="7521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1992 FILM, WHOOPI GOLDBERG PLAYS A LOUNGE SINGER PLACED IN WITNESS PROTECTION AS WHAT PROFES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5-28T14:52:58Z</dcterms:modified>
  <cp:revision>384</cp:revision>
  <dc:subject/>
  <dc:title>Slide 1</dc:title>
</cp:coreProperties>
</file>