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CEA-FB8A-4132-83DB-4F977122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6031-6F65-4CA7-8730-1E4DE8D1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FAF-357A-49B0-807A-489B6668B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BBDB-3F45-4249-86EF-74D2EB38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9EFB-011B-4192-B4E0-A6D5867A8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1B34-251F-44C5-AFBA-B29EDC57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445E-0351-4343-9BA6-777243525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411-852C-4123-9750-02D69E474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1992-BB5A-451E-9FF3-9F9733E97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2E9E-4695-4A6F-A014-B3F71BFC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7194-56A6-4046-8A3B-86E04F02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676A-9CE0-4EFF-84E1-3EB865F4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DB6A-4ABE-4B99-A772-2A2690A7C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19CF-6C1F-49DB-B115-4AE45BD6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988-0B37-4E26-B191-B74DF97B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30E7-79EB-4E61-AB40-EB016B86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4065-786B-41BE-A16E-5091B1BF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23C-881B-43FC-BD0F-8177CF94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9FE0-081B-491E-A70A-005E67DB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BA7-DDBF-48FD-810D-80936E19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5193-41A3-4CBF-8791-E234F4E6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AE57-940C-4825-A6EA-0A7042FF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D94F-91D7-4D12-9CD4-7207FFBAF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RBLES, WHAT IS A LARGER MARBLE USED FOR SHOOT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BECOMES ITS OPPOSITE IF AN "S" IS ADDED TO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Ê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IMPORTANT HOLIDAY IN VIETNAM, CELEBRATING THE BEGINNING OF THE LUNAR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(P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914400"/>
            <a:ext cx="463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DARK BLUE "P" IN THIS LOGO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03440" cy="393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2800" y="762120"/>
            <a:ext cx="771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BODY IS THE TIBIA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M(PH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NAME OF THE SECOND LARGEST CITY IN TENNESSEE, AFTER NASH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TKINS WHO WON CMA "INSTRUMENTALIST OF THE YEAR" IN '67, '68, '69, '81, '82, '83, '84, '85, AND '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7240" y="762120"/>
            <a:ext cx="72295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92 FILM, WHOOPI GOLDBERG PLAYS A LOUNGE SINGER PLACED IN WITNESS PROTECTION AS WHAT PROF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14280" y="762120"/>
            <a:ext cx="851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RBLES, WHAT IS A LARGER MARBLE USED FOR SHOOT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EBREW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BECOMES ITS OPPOSITE IF AN "S" IS ADDED TO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IMPORTANT HOLIDAY IN VIETNAM, CELEBRATING THE BEGINNING OF THE LUNAR NEW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4653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DARK BLUE "P" IN THIS LOGO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257800" y="762120"/>
            <a:ext cx="3403440" cy="39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2120"/>
            <a:ext cx="7591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BODY IS THE TIBIA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NAME OF THE SECOND LARGEST CITY IN TENNESSEE, AFTER NASH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TKINS WHO WON CMA "INSTRUMENTALIST OF THE YEAR" IN '67, '68, '69, '81, '82, '83, '84, '85, AND '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92 FILM, WHOOPI GOLDBERG PLAYS A LOUNGE SINGER PLACED IN WITNESS PROTECTION AS WHAT PROF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52:58Z</dcterms:modified>
  <cp:revision>384</cp:revision>
  <dc:subject/>
  <dc:title>Slide 1</dc:title>
</cp:coreProperties>
</file>