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D6EB-C9A7-4E3A-9DA6-D1050F1E7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B9E5-17D6-47D3-89AE-D572ABB67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05D2-997B-433D-BFCC-57A987350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9F37-61FE-487C-801A-F49B1AE74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CAB3-54DE-4836-B861-045A94325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60C2-4C60-497F-A702-75280818E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5031-D12B-494C-9354-27F81BCAC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4C76-DF56-44E0-A71D-9C4524DA9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2945-713A-452F-B328-758BB9BE6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BAC9-11B9-486F-87D5-66F1E7A69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7820-1816-4BD7-BA06-E334FF881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76A6-A7AF-4DEC-8D4A-F3B362438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81B7-8EAD-4D09-BE44-A5C178192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108B-FE6B-4C50-B9C0-0246AB7E6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C670-9C0D-4720-A82A-269C5AB63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9678-A989-420E-988C-3146E17A8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D1B5-9D10-4DA5-9618-89BB56E1B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1379-8DE2-4024-9B1F-60C051B04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C7ED-344A-42D0-891D-65C8D0AF8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7AB7-580D-4107-8F84-0AD2F4950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EDDD-0194-40B5-B9A8-245678964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BDA7-5C9A-492A-9212-11F47B8F0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70D3-8830-41BA-BE5A-6D0108F6A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57280" y="761760"/>
            <a:ext cx="8029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TIN QUOTATION ATTRIBUTED TO BRUTUS DID JOHN WILKES BOOTH SHOUT AFTER ASSASSINATING ABRAHAM LINCOL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US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69720" y="762120"/>
            <a:ext cx="8404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GERMAN SUBMARINE, AN APOLLO COMMAND MODULE, AND A COAL MINE CAN BE FOUND IN CHICAGO'S MUSEUM OF SCIENCE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U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68360" y="762120"/>
            <a:ext cx="8205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IDE IN THE U.S. CIVIL WAR WORE BLUE UNIFOR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QUAL  RIGHTS  (AMEND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68480" y="762120"/>
            <a:ext cx="7005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"ER" STAND FOR IN "ER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PE  (HICK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14320" y="771480"/>
            <a:ext cx="751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 OF THE FORMER WHITE HOUSE COMMUNICATIONS DIRECTOR THAT WAS SUBPOENAED IN MAY 201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43080" y="716040"/>
            <a:ext cx="8458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HL'S FRANK J. SELKE TROPHY IS GIVEN TO THE PLAYER WHO HAS THE BEST DEFENSIVE GAME DESPITE PLAYING AT WHAT POSI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  GOD  WE  TR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RASE FIRST APPEARED ON U.S. CURRENCY WHEN THE SHORT-LIVED 2-CENT PIECE WAS FIRST MINTED IN 186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URE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82520" y="762120"/>
            <a:ext cx="8778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ARCHIMEDES SUPPOSEDLY EXCLAIM WHEN HE DISCOVERED THE PRINCIPLE OF WATER DISPLACEMENT IN HIS BATHTU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50840" y="762120"/>
            <a:ext cx="8842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GERMAN SUBMARINE, AN APOLLO COMMAND MODULE, AND A COAL MINE CAN BE FOUND IN CHICAGO'S MUSEUM OF SCIENCE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XCELSI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06320" y="762120"/>
            <a:ext cx="7731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CKING PRODUCT MADE FROM WOOD SLIVERS WAS ALSO THE TRADEMARK SIGN-OFF OF MARVEL COMICS' STAN L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C  SEMPER  TYRANN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44680" y="762120"/>
            <a:ext cx="8053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TIN QUOTATION ATTRIBUTED TO BRUTUS DID JOHN WILKES BOOTH SHOUT AFTER ASSASSINATING ABRAHAM LINCOL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585720" y="4876920"/>
            <a:ext cx="797256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TE  MOT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IDE IN THE U.S. CIVIL WAR WORE BLUE UNIFOR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90440" y="762120"/>
            <a:ext cx="6961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"ER" STAND FOR IN "ER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04960" y="762120"/>
            <a:ext cx="7534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 OF THE FORMER WHITE HOUSE COMMUNICATIONS DIRECTOR THAT WAS SUBPOENAED IN MAY 201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762120"/>
            <a:ext cx="8496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HL'S FRANK J. SELKE TROPHY IS GIVEN TO THE PLAYER WHO HAS THE BEST DEFENSIVE GAME DESPITE PLAYING AT WHAT POSI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6360" y="761760"/>
            <a:ext cx="8531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RASE FIRST APPEARED ON U.S. CURRENCY WHEN THE SHORT-LIVED 2-CENT PIECE WAS FIRST MINTED IN 186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85760" y="761760"/>
            <a:ext cx="8772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ARCHIMEDES SUPPOSEDLY EXCLAIM WHEN HE DISCOVERED THE PRINCIPLE OF WATER DISPLACEMENT IN HIS BATHTU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51960" y="762120"/>
            <a:ext cx="78375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CKING PRODUCT MADE FROM WOOD SLIVERS WAS ALSO THE TRADEMARK SIGN-OFF OF MARVEL COMICS' STAN LE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05-28T14:55:14Z</dcterms:modified>
  <cp:revision>406</cp:revision>
  <dc:subject/>
  <dc:title>Slide 1</dc:title>
</cp:coreProperties>
</file>