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2366-EB96-43EF-ADD7-54173CFAF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FBCC8-DE0D-4BA5-B73A-460250AB1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D834-6025-4D71-AA3D-C099784D2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BFE1-B2AF-47FA-A09A-07919789E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D1D9-946F-4C28-A20C-1E570D8CA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1D7A-CE79-4618-BCEF-D27CD4460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5AC9-28A6-419A-9270-A1111A5A9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2477-EE3E-4CFC-A55D-2879BCAE7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6E17-B246-4FB8-A1C5-25B41CE29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22E6-6381-497E-BAAA-33FEADE74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371A-8785-4F37-B0BE-F281C5119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B5EE-5DC7-4552-B595-CB87C562D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A9BF-E888-4311-AD9E-C78F8DF33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0126-44F0-4840-ACC0-CBCD95AEC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B78E-28F4-4B69-8D6B-D0988DD2A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FF6C-3C33-45F3-B167-CB2ED6F3F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08F3-BDEB-4B49-8C22-1DA96BD46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04DB-4B47-444A-B28A-3DBAF20E2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BEE2-9387-4A15-841D-A27B77F35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0A63-E7A2-4FC1-B2DA-945E8FB08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BBA5-0D5F-4D5E-8B2A-EB2EE43AC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034D-9D03-4AD3-93F7-CFE4E1D80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A5A9-2538-41B8-B32B-CDB0170F3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57280" y="761760"/>
            <a:ext cx="8029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TIN QUOTATION ATTRIBUTED TO BRUTUS DID JOHN WILKES BOOTH SHOUT AFTER ASSASSINATING ABRAHAM LINCOL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US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69720" y="762120"/>
            <a:ext cx="8404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GERMAN SUBMARINE, AN APOLLO COMMAND MODULE, AND A COAL MINE CAN BE FOUND IN CHICAGO'S MUSEUM OF SCIENCE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68360" y="762120"/>
            <a:ext cx="8205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IDE IN THE U.S. CIVIL WAR WORE BLUE UNIFOR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QUAL  RIGHTS  (AMEND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68480" y="762120"/>
            <a:ext cx="7005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"ER" STAND FOR IN "ER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PE  (HICK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14320" y="771480"/>
            <a:ext cx="751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 OF THE FORMER WHITE HOUSE COMMUNICATIONS DIRECTOR THAT WAS SUBPOENAED IN MAY 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43080" y="716040"/>
            <a:ext cx="8458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HL'S FRANK J. SELKE TROPHY IS GIVEN TO THE PLAYER WHO HAS THE BEST DEFENSIVE GAME DESPITE PLAYING AT WHAT POSI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  GOD  WE  TR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RASE FIRST APPEARED ON U.S. CURRENCY WHEN THE SHORT-LIVED 2-CENT PIECE WAS FIRST MINTED IN 186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URE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82520" y="762120"/>
            <a:ext cx="8778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ARCHIMEDES SUPPOSEDLY EXCLAIM WHEN HE DISCOVERED THE PRINCIPLE OF WATER DISPLACEMENT IN HIS BATHTU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0840" y="762120"/>
            <a:ext cx="8842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GERMAN SUBMARINE, AN APOLLO COMMAND MODULE, AND A COAL MINE CAN BE FOUND IN CHICAGO'S MUSEUM OF SCIENCE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XCELSI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06320" y="762120"/>
            <a:ext cx="7731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CKING PRODUCT MADE FROM WOOD SLIVERS WAS ALSO THE TRADEMARK SIGN-OFF OF MARVEL COMICS' STAN L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C  SEMPER  TYRANN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44680" y="762120"/>
            <a:ext cx="8053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ATIN QUOTATION ATTRIBUTED TO BRUTUS DID JOHN WILKES BOOTH SHOUT AFTER ASSASSINATING ABRAHAM LINCOL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85720" y="4876920"/>
            <a:ext cx="79725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TE  MOT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IDE IN THE U.S. CIVIL WAR WORE BLUE UNIFOR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90440" y="762120"/>
            <a:ext cx="6961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"ER" STAND FOR IN "ER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04960" y="762120"/>
            <a:ext cx="7534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 OF THE FORMER WHITE HOUSE COMMUNICATIONS DIRECTOR THAT WAS SUBPOENAED IN MAY 201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HL'S FRANK J. SELKE TROPHY IS GIVEN TO THE PLAYER WHO HAS THE BEST DEFENSIVE GAME DESPITE PLAYING AT WHAT POSI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6360" y="761760"/>
            <a:ext cx="8531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RASE FIRST APPEARED ON U.S. CURRENCY WHEN THE SHORT-LIVED 2-CENT PIECE WAS FIRST MINTED IN 186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85760" y="761760"/>
            <a:ext cx="8772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ARCHIMEDES SUPPOSEDLY EXCLAIM WHEN HE DISCOVERED THE PRINCIPLE OF WATER DISPLACEMENT IN HIS BATHTU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51960" y="762120"/>
            <a:ext cx="7837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CKING PRODUCT MADE FROM WOOD SLIVERS WAS ALSO THE TRADEMARK SIGN-OFF OF MARVEL COMICS' STAN LE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5-28T14:55:14Z</dcterms:modified>
  <cp:revision>406</cp:revision>
  <dc:subject/>
  <dc:title>Slide 1</dc:title>
</cp:coreProperties>
</file>