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5EA55-9979-4280-9047-D70A94379F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19453-01C7-4903-9CF1-DC46F3851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79C9C-E21A-4F2C-B0B9-C71AB0DF6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59B7D-F3C4-4282-8A31-BDD3DD3B6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13942-C6DE-479A-B34A-B11194E47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2B7EE-1B52-4EDC-B3C1-B02537210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F616D-3819-4A1C-9538-7E1261D9C9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DCFB3-64F2-4C66-8E27-C130F7E2E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2718B-2BF6-487D-BB9E-021E0BD2B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0A3DE-5A00-4484-9837-BDAA687FF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6AF97-9EE7-4F39-A0C7-04AF7EFBF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AE48F-BA57-466B-8604-4ADEF9CAC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56C59-2BB4-40EB-A4F3-C299520BD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1F02A-9A5C-4E53-A556-9E986B122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89C43-986D-446D-9450-F359A63B6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53754-AD2B-4B12-AED6-503BE2DD30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46162-9703-4401-BF16-B7F4BACE84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A71C6-EC06-4DEF-B387-7267C12A1E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95C4D-F58D-42A2-9F9C-837185D3A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05164-C319-4206-B5B2-CB495F249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8BCB7-C9EA-4BCF-AAB3-1A87A295B8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E35C7-50B2-42C3-80E6-6A8512E52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DCED8-DFFA-4B1F-91B4-E16E45780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GRILLED SANDWICHES ARE MADE OF CORNED BEEF, SWISS CHEESE, SAUERKRAUT, AND RUSSIAN DRESS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RV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795240" y="762120"/>
            <a:ext cx="7553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50 MOVIE DOES JIMMY STEWART SAY, "HERE WAS THIS BIG 6-FOOT RABBIT LEANING UP AGAINST A LAMPPOS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N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233280" y="762120"/>
            <a:ext cx="86756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THE FALKLAND ISLANDS, NAMED FOR THE SAME LORDLY BRITISH FAMILY ALSO HONORED BY A FAMOUS HOCKEY TROPH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M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ILTON BRADLEY TOY OF THE 1970'S USED THE SLOGAN "THINK FAST! REPEAT MY FLASHING LIGHTS AND SOUND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977760" y="4875120"/>
            <a:ext cx="7188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YAN  (GOSLING)  (REYNOLD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254160" y="760320"/>
            <a:ext cx="8635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SHARED BY THE DIFFERENT ACTORS WHO STARRED IN "THE NOTEBOOK" AND "DEADPOO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"HAWKEYE")  PIER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419040" y="762120"/>
            <a:ext cx="8305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ST NAME OF THE CHARACTER ALAN ALDA PORTRAYED ON "M*A*S*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L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295200" y="762120"/>
            <a:ext cx="8553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OST COMMON USE OF TENNIS BALLS BY THE ELDERLY IS ATTACHING THEM TO THE LEGS OF WHAT DEVI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238400" y="4876920"/>
            <a:ext cx="6667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G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465120" y="762120"/>
            <a:ext cx="8213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RADITIONAL NAVAJO HOME ALWAYS HAS ITS DOOR FACING EAST, TO HONOR THE RISING SUN AND RECEIVE ITS BLESSING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21800" y="762120"/>
            <a:ext cx="7659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50 MOVIE DOES JIMMY STEWART SAY, "HERE WAS THIS BIG 6-FOOT RABBIT LEANING UP AGAINST A LAMPPOS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W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388800" y="762120"/>
            <a:ext cx="8382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THE CHARACTERS ON SEINFELD DREAMT OF A JOB TRANSFER TO HAWAII, "THE MOST SOUGHT-AFTER POSTAL ROUTE OF THEM AL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UBE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804960" y="762120"/>
            <a:ext cx="75326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GRILLED SANDWICHES ARE MADE OF CORNED BEEF, SWISS CHEESE, SAUERKRAUT, AND RUSSIAN DRESS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523880" y="4267080"/>
            <a:ext cx="612000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ST  NAMES  OF  PEOPLE  NAMED  PA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09520" y="761760"/>
            <a:ext cx="8724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THE FALKLAND ISLANDS, NAMED FOR THE SAME LORDLY BRITISH FAMILY ALSO HONORED BY A FAMOUS HOCKEY TROPH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552600" y="762120"/>
            <a:ext cx="8038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ILTON BRADLEY TOY OF THE 1970'S USED THE SLOGAN "THINK FAST! REPEAT MY FLASHING LIGHTS AND SOUND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36520" y="762120"/>
            <a:ext cx="86709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SHARED BY THE DIFFERENT ACTORS WHO STARRED IN "THE NOTEBOOK" AND "DEADPOO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00040" y="762120"/>
            <a:ext cx="8143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ST NAME OF THE CHARACTER ALAN ALDA PORTRAYED ON "M*A*S*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97000" y="761760"/>
            <a:ext cx="8550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OST COMMON USE OF TENNIS BALLS BY THE ELDERLY IS ATTACHING THEM TO THE LEGS OF WHAT DEVI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46040" y="761760"/>
            <a:ext cx="8251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RADITIONAL NAVAJO HOME ALWAYS HAS ITS DOOR FACING EAST, TO HONOR THE RISING SUN AND RECEIVE ITS BLESSING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53880" y="762120"/>
            <a:ext cx="84362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THE CHARACTERS ON SEINFELD DREAMT OF A JOB TRANSFER TO HAWAII, "THE MOST SOUGHT-AFTER POSTAL ROUTE OF THEM AL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2-06-17T17:57:58Z</dcterms:modified>
  <cp:revision>416</cp:revision>
  <dc:subject/>
  <dc:title>Slide 1</dc:title>
</cp:coreProperties>
</file>