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A230-9FAA-4341-BA2C-EF395BAC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F4D2-F494-46A7-95A4-964B8C57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A319-F6BC-456B-B236-938F58660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F94-AD03-40DE-AF5F-E0ACD1B8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498D-2973-460F-9D6A-8163B278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BAE5-C0B4-4B52-A35A-7C7B35BB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5B7E-D729-41E6-9C89-612F65CB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25F5-B4FA-4E56-859B-CC1010859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FAD3-15B4-410B-A6E5-5FD326CC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D6CA-1229-4B28-8510-EE80A163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D015-D172-423C-84BE-3E88647DB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F447-CD3C-4AA1-8634-DFE199BFE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6926-42DB-4D69-88C9-3417B446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6620-226A-498C-8C26-23FB5275E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B092-21F7-4CEA-994E-B8614B9C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C07B-4E74-45B4-9D20-4B2FD2D1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17A7-5F94-4754-8E4A-C930BB14E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1D1B-30AC-45B8-8183-27018F52C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06D4-B576-472B-83D4-749556492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5516-CE40-41F4-BD86-5D7972B47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4BA-27A4-41CC-8102-701DA965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B883-F3CA-4D10-A7E6-04E0851A4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28ED-A402-4E62-B223-B9F15DE9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GRILLED SANDWICHES ARE MADE OF CORNED BEEF, SWISS CHEESE, SAUERKRAUT, AND RUSSIAN DRES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95240" y="762120"/>
            <a:ext cx="7553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50 MOVIE DOES JIMMY STEWART SAY, "HERE WAS THIS BIG 6-FOOT RABBIT LEANING UP AGAINST A LAMPP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328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HE FALKLAND ISLANDS, NAMED FOR THE SAME LORDLY BRITISH FAMILY ALSO HONORED BY A FAMOUS HOCKEY TRO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TON BRADLEY TOY OF THE 1970'S USED THE SLOGAN "THINK FAST! REPEAT MY FLASHING LIGHTS AND SOU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(GOSLING)  (REYNOL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4160" y="760320"/>
            <a:ext cx="863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FFERENT ACTORS WHO STARRED IN "THE NOTEBOOK" AND "DEADPO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"HAWKEYE")  PI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ALAN ALDA PORTRAYED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95200" y="762120"/>
            <a:ext cx="855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USE OF TENNIS BALLS BY THE ELDERLY IS ATTACHING THEM TO THE LEGS OF WHAT DEV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NAVAJO HOME ALWAYS HAS ITS DOOR FACING EAST, TO HONOR THE RISING SUN AND RECEIVE ITS BLESS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1800" y="762120"/>
            <a:ext cx="765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50 MOVIE DOES JIMMY STEWART SAY, "HERE WAS THIS BIG 6-FOOT RABBIT LEANING UP AGAINST A LAMPP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880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CHARACTERS ON SEINFELD DREAMT OF A JOB TRANSFER TO HAWAII, "THE MOST SOUGHT-AFTER POSTAL ROUTE OF THEM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U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GRILLED SANDWICHES ARE MADE OF CORNED BEEF, SWISS CHEESE, SAUERKRAUT, AND RUSSIAN DRE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3880" y="4267080"/>
            <a:ext cx="61200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HE FALKLAND ISLANDS, NAMED FOR THE SAME LORDLY BRITISH FAMILY ALSO HONORED BY A FAMOUS HOCKEY TROP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260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TON BRADLEY TOY OF THE 1970'S USED THE SLOGAN "THINK FAST! REPEAT MY FLASHING LIGHTS AND SOU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6520" y="762120"/>
            <a:ext cx="867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FFERENT ACTORS WHO STARRED IN "THE NOTEBOOK" AND "DEADPO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ALAN ALDA PORTRAYED ON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USE OF TENNIS BALLS BY THE ELDERLY IS ATTACHING THEM TO THE LEGS OF WHAT DE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NAVAJO HOME ALWAYS HAS ITS DOOR FACING EAST, TO HONOR THE RISING SUN AND RECEIVE ITS BLESS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CHARACTERS ON SEINFELD DREAMT OF A JOB TRANSFER TO HAWAII, "THE MOST SOUGHT-AFTER POSTAL ROUTE OF THEM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17T17:57:58Z</dcterms:modified>
  <cp:revision>416</cp:revision>
  <dc:subject/>
  <dc:title>Slide 1</dc:title>
</cp:coreProperties>
</file>