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D12D-C543-49BA-BCF9-34D8C98A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D916-AC47-443E-AE49-268425346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8F30-40D9-4265-9FDB-4F167A97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D5C2-1249-4651-8602-66B5654A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586-96F3-4B9A-8B70-DAD0F032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9F88-943C-4230-85CC-2E24AA61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DE25-9E09-4A16-9405-C51C2CD5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1C3-E4BD-4EE6-AD9F-5DB178A9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B24-5EEF-44F4-9985-F490D424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520-8114-43BC-AA85-F993E7D9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F9F7-57EB-4DB0-92C2-3F788810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6376-D8E8-47F6-A330-7A569F3E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529-5665-4A42-AD66-47DF9EB6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04FD-19B6-4196-BA43-7FB38E83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A0A-130A-4340-A8FD-5644EE20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E0BF-8F8D-420C-A1C2-E3B46307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7D41-AFAF-4986-88E6-DF920299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E41B-5BC3-4BDC-8793-40100F4F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F61C-10D7-46E1-A3BF-A832E9B85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404B-4584-447A-B9E0-989EAEA1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E6E-99EB-4963-9D5F-9634A2F2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12A-3434-46C4-BD96-5F6F79F0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254E-7AC9-40D0-B6C8-BA6190BA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68320" y="762120"/>
            <a:ext cx="74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KER MOVEMENT BEGAN AROUND 1647 WHEN GEORGE FOX FOUNDED THE "RELIGIOUS SOCIETY OF" WH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AND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TORIAN NOVELIST FRANK SMEDLEY FIRST WROTE "ALL'S FAIR IN" WHAT TWO ARE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6080" y="4952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79440" y="762120"/>
            <a:ext cx="838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R OF LUXURY HANDBAGS AND ACCESSORIES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29080" y="3241800"/>
            <a:ext cx="3886200" cy="17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3880" y="762120"/>
            <a:ext cx="78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PLEY'S FIRST NAME IN THE "ALIEN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EATS A FLUSH BUT LOSES TO  4-OF-A-K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26920" y="762120"/>
            <a:ext cx="749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HNNY CASH'S ELDEST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ABOUT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LINDA CARLISLE'S FIRST HIT AFTER LEAVING THE GO-G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9760" y="762120"/>
            <a:ext cx="81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70'S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TORIAN NOVELIST FRANK SMEDLEY FIRST WROTE "ALL'S FAIR IN" WHAT TWO AREN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  (EMMA  ROBER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WHO PLAYED THE TITLE ROLES IN "NANCY DREW" AND "WILD CH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3400" y="762120"/>
            <a:ext cx="747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KER MOVEMENT BEGAN AROUND 1647 WHEN GEORGE FOX FOUNDED THE "RELIGIOUS SOCIETY OF" WH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90'S  TV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R OF LUXURY HANDBAGS AND ACCESSORIES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629080" y="3276720"/>
            <a:ext cx="3886200" cy="17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PLEY'S FIRST NAME IN THE "ALIEN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EATS A FLUSH BUT LOSES TO  4-OF-A-K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HNNY CASH'S ELDEST DAUGH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LINDA CARLISLE'S FIRST HIT AFTER LEAVING THE GO-G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70'S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WHO PLAYED THE TITLE ROLES IN "NANCY DREW" AND "WILD CH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5-28T22:03:35Z</dcterms:modified>
  <cp:revision>449</cp:revision>
  <dc:subject/>
  <dc:title>Slide 1</dc:title>
</cp:coreProperties>
</file>