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18B-3FB7-4DAC-A435-BDCACF66B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1EB7-BE14-47C0-908C-A9EDF5DAA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0C9A-7444-4057-89E7-8F6F1DBCC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5DC1-1C88-42F8-A1AD-1210CDC22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6873-20BD-4161-BA6D-12D8C4B39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5129-38DB-43AC-B556-44C326806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552A-C2D2-4C5B-AAB3-867C3A52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6B92C-5C3E-47D9-ABA9-1EBEDCC7C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0EF1-BA94-4013-9C73-3DB4EC023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3DC-26D9-41F6-A868-019305381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8A7E-83C2-48D0-8DA1-20B671C3B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1506-D245-443C-A331-53F151DA3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9826-2794-4E60-97DA-F90342D8B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3867-1197-493A-8CBD-7D9D55A49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FA2-315C-4C8C-8FAA-95B7BBB1D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050D-AFAB-4D27-B681-868FECADC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1396-3FEF-4682-A6A5-1C88D7005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C3A2-6145-4B01-B7B7-A4451A708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E23-A991-423F-9AC3-6430880D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57F5-7ECA-4A8C-8194-171DBCE8B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DE9D-55CA-4581-AB39-9329BAA2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7197-FD08-4D20-B32E-E94F67977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EA55-9D88-489F-80F2-A4010A3F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68320" y="762120"/>
            <a:ext cx="74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KER MOVEMENT BEGAN AROUND 1647 WHEN GEORGE FOX FOUNDED THE "RELIGIOUS SOCIETY OF" WH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AND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TORIAN NOVELIST FRANK SMEDLEY FIRST WROTE "ALL'S FAIR IN" WHAT TWO ARE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6080" y="4952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79440" y="762120"/>
            <a:ext cx="838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R OF LUXURY HANDBAGS AND ACCESSORIES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629080" y="3241800"/>
            <a:ext cx="3886200" cy="17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3880" y="762120"/>
            <a:ext cx="78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PLEY'S FIRST NAME IN THE "ALIEN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EATS A FLUSH BUT LOSES TO  4-OF-A-K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26920" y="762120"/>
            <a:ext cx="749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HNNY CASH'S ELDEST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ABOUT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LINDA CARLISLE'S FIRST HIT AFTER LEAVING THE GO-G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9760" y="762120"/>
            <a:ext cx="81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70'S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CTORIAN NOVELIST FRANK SMEDLEY FIRST WROTE "ALL'S FAIR IN" WHAT TWO AREN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  (EMMA  ROBER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WHO PLAYED THE TITLE ROLES IN "NANCY DREW" AND "WILD CH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3400" y="762120"/>
            <a:ext cx="747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QUAKER MOVEMENT BEGAN AROUND 1647 WHEN GEORGE FOX FOUNDED THE "RELIGIOUS SOCIETY OF" WH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90'S  TV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R OF LUXURY HANDBAGS AND ACCESSORIES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629080" y="3276720"/>
            <a:ext cx="3886200" cy="171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PLEY'S FIRST NAME IN THE "ALIEN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HAND BEATS A FLUSH BUT LOSES TO  4-OF-A-K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HNNY CASH'S ELDEST DAUGH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LINDA CARLISLE'S FIRST HIT AFTER LEAVING THE GO-G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70'S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WHO PLAYED THE TITLE ROLES IN "NANCY DREW" AND "WILD CH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5-28T22:03:35Z</dcterms:modified>
  <cp:revision>449</cp:revision>
  <dc:subject/>
  <dc:title>Slide 1</dc:title>
</cp:coreProperties>
</file>