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140C-26A3-4D59-887E-F07AFCAE6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BCB6-5D64-4BAA-BC56-6108E543F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ADC-EBD7-4834-A0AE-2C72C609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7CFE-04C3-4EA7-A777-8915AE42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C995-EB54-4989-AB07-18B69653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4BC-AB2A-4B88-9D2D-29BB07BB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36AB-C547-41DD-BA46-298D110B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F9E0-9008-49BD-BAC9-42CD50DA8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C453-1835-400B-8F8D-849022FA4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4D61-7580-4CFC-A3F4-0834A9C4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0801-37BC-45DA-857B-84CAC66F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4EE0-7784-4D04-8FE6-D5BCAFE24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2A9D-BF6F-4047-B7CC-1A2E984A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829F-894C-425F-B104-ECEF97DB1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D062-13F6-4C5D-AFBB-F3EFF5121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43A0-E314-421D-9FF9-84E73F9A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E005-E56A-40C3-B5C0-6C089C503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0D65-CC6E-4FAF-96DA-A59699614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1196-3298-4919-BBB3-02BEBE6F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703D-FFFD-4F09-9B71-F331604A1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C8F-1230-4055-AB5C-7F64D756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C2A5-92E1-4491-AE5D-CB37406C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14C8-E17B-4724-820D-4D9A74D98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CAN'T SURVIVE WITHOUT AIR FOR 3 MINUTES, WATER FOR 3 DAYS, AND WHAT FOR 3 WEE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5 COMEDY SERIES ABOUT A COLORADO COLLEGE STARRED AN ENSEMBLE CAST INCLUDING CHEVY CHASE AND KEN JE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2200" y="762120"/>
            <a:ext cx="849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8080" y="762120"/>
            <a:ext cx="872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5 FILM DID BRIE LARSON WIN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7960" y="762120"/>
            <a:ext cx="812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  IS THE MOST COMMON 4-LETTER WORD ENDING IN "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T WHO DIES AND IS REBORN IN STEPHEN KING'S NOVEL "PET SEMA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63680" y="762120"/>
            <a:ext cx="641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5800" y="762120"/>
            <a:ext cx="7808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    3-LETTER BODY PARTS: ARM, EAR, EYE, GUM, HIP, JAW, LEG, RIB, TO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4760" y="762120"/>
            <a:ext cx="8751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5 COMEDY SERIES ABOUT A COLORADO COLLEGE STARRED AN ENSEMBLE CAST INCLUDING CHEVY CHASE AND KEN JE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39560" y="762120"/>
            <a:ext cx="8264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R'S DASHBOARD,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58840" y="762120"/>
            <a:ext cx="862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CAN'T SURVIVE WITHOUT AIR FOR 3 MINUTES, WATER FOR 3 DAYS, AND WHAT FOR 3 W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ERVI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8040" y="761760"/>
            <a:ext cx="846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5 FILM DID BRIE LARSON WIN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  IS THE MOST COMMON 4-LETTER WORD ENDING IN "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T WHO DIES AND IS REBORN IN STEPHEN KING'S NOVEL "PET SEMA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20760" y="761760"/>
            <a:ext cx="670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ENYA'S LARGEST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10 DIFFERENT      3-LETTER BODY PARTS: ARM, EAR, EYE, GUM, HIP, JAW, LEG, RIB, TO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AR'S DASHBOARD,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28T22:06:02Z</dcterms:modified>
  <cp:revision>492</cp:revision>
  <dc:subject/>
  <dc:title>Slide 1</dc:title>
</cp:coreProperties>
</file>