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3B52-FCA9-4804-B089-2772029C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76A3-0A86-4B04-BE69-448206FC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4FDD-F0E6-45C0-9994-E1D24831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7A3-110A-4BDF-B735-64581B880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4534-6083-4848-9999-B6D7BDA8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5B0-4C84-4E9B-BAA1-FCCF9EE8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13BB-8658-4D5A-A804-816D9E2CB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29DF-14CB-475C-8F5D-521086F6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2E96-C208-47F4-AA32-76DE2CED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1AC1-F59C-491B-A246-E5365C89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15C-8DA7-408F-948E-A641493F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76BC-207F-45D7-BCA8-329E21AD9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D43B-5BD8-44EE-95F0-8672E88D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45F2-758A-44CA-8B26-524365F9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363-2AFF-47C4-8E1D-72105266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7A7F-EEFA-4902-A38F-EEFA49F5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53F4-9116-4B04-8E01-E6B6700D2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B0E4-0061-4C74-8244-ABDC867B2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D98-50CE-48E9-B5E6-88900181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6D28-781B-4AA1-BC4B-1CF97687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8BB6-CDDF-4F45-A043-034116FB8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23C0-6F1D-46BE-9469-0C2CB0652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CB8-AD4E-41D6-B707-2AE05AC1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CAN'T SURVIVE WITHOUT AIR FOR 3 MINUTES, WATER FOR 3 DAYS, AND WHAT FOR 3 WEE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5 COMEDY SERIES ABOUT A COLORADO COLLEGE STARRED AN ENSEMBLE CAST INCLUDING CHEVY CHASE AND KEN JE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2200" y="762120"/>
            <a:ext cx="849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08080" y="762120"/>
            <a:ext cx="872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5 FILM DID BRIE LARSON WIN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7960" y="762120"/>
            <a:ext cx="812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  IS THE MOST COMMON 4-LETTER WORD ENDING IN "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T WHO DIES AND IS REBORN IN STEPHEN KING'S NOVEL "PET SEMA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63680" y="762120"/>
            <a:ext cx="641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762120"/>
            <a:ext cx="7808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    3-LETTER BODY PARTS: ARM, EAR, EYE, GUM, HIP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4760" y="762120"/>
            <a:ext cx="8751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5 COMEDY SERIES ABOUT A COLORADO COLLEGE STARRED AN ENSEMBLE CAST INCLUDING CHEVY CHASE AND KEN JE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39560" y="762120"/>
            <a:ext cx="8264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R'S DASHBOARD,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CAN'T SURVIVE WITHOUT AIR FOR 3 MINUTES, WATER FOR 3 DAYS, AND WHAT FOR 3 W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ERVIC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8040" y="761760"/>
            <a:ext cx="846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5 FILM DID BRIE LARSON WIN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  IS THE MOST COMMON 4-LETTER WORD ENDING IN "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T WHO DIES AND IS REBORN IN STEPHEN KING'S NOVEL "PET SEMA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20760" y="761760"/>
            <a:ext cx="670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    3-LETTER BODY PARTS: ARM, EAR, EYE, GUM, HIP, JAW, LEG, RIB, TO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R'S DASHBOARD,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28T22:06:02Z</dcterms:modified>
  <cp:revision>492</cp:revision>
  <dc:subject/>
  <dc:title>Slide 1</dc:title>
</cp:coreProperties>
</file>