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45CC-FC5E-44BD-804E-9EB50124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D267-8448-4E9B-B7AD-8D38667D4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DDB4-7B08-4F6D-82FE-9FCF0E527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ABEC-99B3-4DA0-A4F1-3495BE265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E4C0-8C1D-4C9F-96FA-8E30F0BA5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32C0-6C4A-4363-8568-EC5993F8E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D29-B471-4871-BE21-8BAA2825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3B00-7D25-40AF-9B01-52C5C856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F120-4D50-4EBF-9EB5-BB23FFD31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FEC-ACA4-4965-8899-F880EB4FF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DA10-75E0-4E0E-B6E4-2C29A7D4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46F9-A0C0-4C78-A73F-EAF7AA707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0694-F1A5-4640-94AD-053B4684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0127-03E5-464A-A1F0-741B08372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5AE-C867-4448-BCAE-DA666D0FA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23F2-C190-49AB-B81E-4A936DBD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F25A-2659-4841-9A60-7776F462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85A-7CF7-40AD-91D1-85E87B6F4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77A5-D088-42A5-AB8E-B05235055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49A4-0BF9-44FB-B584-0299601D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CB55-AD48-4D9E-BA58-260C00489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7547-555D-43EF-9AE8-07ACF001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FE9C-94E9-400F-A5F8-244ACDF0B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ST-SELLING SINGLE OF STEVIE WONDER, THAT TOPPED THE CHARTS IN 17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S  FOR  THE 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B HOPE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THE  RAIN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DY GARLAND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YOU  WISH  UPON  A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WALT DISNEY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,  IT'S  COLD  OUT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5600" y="762120"/>
            <a:ext cx="8092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SONG WAS ELIMINATED FROM MANY RADIO STATION PLAYLISTS IN 2018 BECAUSE OF LYRICS OF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419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  SERA  SERA           (WHATEVER  WILL  BE  WILL  B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1720" y="762120"/>
            <a:ext cx="754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FOREIGN TITLE WAS DORIS DAY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OF ANDY WILLI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OB HOPE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62040" y="43434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DROPS  KEEP  FALLIN'  ON  M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3440" y="762120"/>
            <a:ext cx="8815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B. J. THOMAS, BEFORE "I JUST CAN'T HELP BELIEVING" AND "ROCK AND ROLL LULL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4480" y="495288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JUST  CALLED  TO  SAY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ST-SELLING SINGLE OF STEVIE WONDER, THAT TOPPED THE CHARTS IN 17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23760" y="4343400"/>
            <a:ext cx="7296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WON  OSCARS  FOR  "BEST  ORIGINAL  SON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DY GARLAND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3080" y="762120"/>
            <a:ext cx="71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WALT DISNEY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SONG WAS ELIMINATED FROM MANY RADIO STATION PLAYLISTS IN 2018 BECAUSE OF LYRICS OF SEXUAL HARASS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FOREIGN TITLE WAS DORIS DAY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IGNATURE SONG OF ANDY WILLI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05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B. J. THOMAS, BEFORE "I JUST CAN'T HELP BELIEVING" AND "ROCK AND ROLL LULL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28T22:09:14Z</dcterms:modified>
  <cp:revision>473</cp:revision>
  <dc:subject/>
  <dc:title>Slide 1</dc:title>
</cp:coreProperties>
</file>