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1EF6-E877-4F08-A908-E1DC1DD5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4B7C-0C35-49A1-A37C-DF5CF9401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6DD1-BEF8-489F-A484-6250FD565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78D3-AD64-49D1-965C-D204EA37E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95E3-1206-4DC7-8E95-C485BB83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DBDB-7C05-49D6-A923-2B0FDCCC4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1F96-D41C-46CF-89C3-9A15A0BFC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40F7-685D-4DD3-804E-D3095A455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E0EF-A7C3-4282-8A9B-65F5D9330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11CD-04BE-47A5-BF0E-E956F03C8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117F-3C29-4831-BB68-0B2171EE3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D69C-8807-4E17-AC3A-C75B08D9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C66B-272E-4A30-AD73-54DE3B17E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D7F4-FB29-44E0-8E97-A435A177B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9DE6-2B85-45AD-B062-259EFDB0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E185-F47D-4042-B974-C303F0D9E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D42E-A3C2-4901-8E98-2758CEBF4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B136-59C5-4E45-9290-14816F5C5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C82A-34D6-4F6B-9538-1AB20F656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8275-E5BC-42A7-A23A-2747C96ED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E240-3392-4384-A826-D6A440B0F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883D-0AB2-4BA7-A177-7522D6383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B071-6025-42BD-86D6-A4093357B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5320" y="1523880"/>
            <a:ext cx="7353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ST-SELLING SINGLE OF STEVIE WONDER, THAT TOPPED THE CHARTS IN 17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KS  FOR  THE 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OB HOPE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  THE  RAIN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UDY GARLAND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YOU  WISH  UPON  A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GNATURE SONG OF THE WALT DISNEY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NG CROSBY SONG IS THE BEST-SELLING SINGL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,  IT'S  COLD  OUT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5600" y="762120"/>
            <a:ext cx="8092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SONG WAS ELIMINATED FROM MANY RADIO STATION PLAYLISTS IN 2018 BECAUSE OF LYRICS OF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419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  SERA  SERA           (WHATEVER  WILL  BE  WILL  B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1720" y="762120"/>
            <a:ext cx="754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ITH A FOREIGN TITLE WAS DORIS DAY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1920" y="762120"/>
            <a:ext cx="847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IGNATURE SONG OF ANDY WILLI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5280" y="76212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OB HOPE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62040" y="4343400"/>
            <a:ext cx="6019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DROPS  KEEP  FALLIN'  ON  MY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3440" y="762120"/>
            <a:ext cx="8815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B. J. THOMAS, BEFORE "I JUST CAN'T HELP BELIEVING" AND "ROCK AND ROLL LULL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14480" y="495288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JUST  CALLED  TO  SAY  I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ST-SELLING SINGLE OF STEVIE WONDER, THAT TOPPED THE CHARTS IN 17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23760" y="4343400"/>
            <a:ext cx="7296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WON  OSCARS  FOR  "BEST  ORIGINAL  SON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UDY GARLAND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3080" y="762120"/>
            <a:ext cx="7196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GNATURE SONG OF THE WALT DISNEY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60480" y="762120"/>
            <a:ext cx="722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NG CROSBY SONG IS THE BEST-SELLING SINGL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SONG WAS ELIMINATED FROM MANY RADIO STATION PLAYLISTS IN 2018 BECAUSE OF LYRICS OF SEXUAL HARASS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08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ITH A FOREIGN TITLE WAS DORIS DAY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IGNATURE SONG OF ANDY WILLI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05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B. J. THOMAS, BEFORE "I JUST CAN'T HELP BELIEVING" AND "ROCK AND ROLL LULL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5-28T22:09:14Z</dcterms:modified>
  <cp:revision>473</cp:revision>
  <dc:subject/>
  <dc:title>Slide 1</dc:title>
</cp:coreProperties>
</file>