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2F09-523B-46A5-B82C-5660ACF2B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0DCE-58A5-40D9-B85F-D7FA9D378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CB47-EEDD-4217-8CF6-BD95D91C3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27CC-0F2F-4251-B908-729CCFCDB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EA2D-364C-480D-87B3-CB2B22CBD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47A3-91D5-4C59-9556-92AC8AB3C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3683-7641-4EEF-B9D8-4271F84AD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BD28-90EA-4B9D-B2CD-893588229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BFE9-EDC2-4AB9-BE93-B51ECF5E7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06BC-6712-41C3-88D3-5E55D4B11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0BCC-8145-430E-9007-26AD084F2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7A34-9E97-4F99-AD3D-B313C5BD6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31AB-0D7F-47D5-91DB-190A8D8BB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9F73-0318-4E7E-A548-5F73F6FE8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FF4D-DC4D-424D-9B69-6BDD1F058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0428-1425-4DBE-B425-811E94EEA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E973-F717-4CD7-AAEA-E004FA01C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4569-B19C-4563-AF10-35FF5FBE0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87C3-562A-4A99-B7AC-5F6B88BD1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EF58-5B78-4BEC-BFCF-B19ED7498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D4A3-7503-4B7C-A727-8D95760F7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B5C9-0B12-4AA4-98F5-DEEB41765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2593-5659-4F32-86BF-CABD330E9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19000" y="1523880"/>
            <a:ext cx="750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92160" y="761760"/>
            <a:ext cx="715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TRIPES", "SCROOGED", AND "GROUNDHOG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LPH  FIEN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THE MAIN CHARACTERS IN "THE CONSTANT GARDENER", "QUIZ SHOW", AND "THE ENGLISH PATI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.  MURRAY  ABRA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35000" y="762120"/>
            <a:ext cx="8874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LAYING ITALIAN COMPOSER  ANTONIO SALIERI IN "AMADE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RIEN  BR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14480" y="768240"/>
            <a:ext cx="711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ACTOR TO EVER WIN AN OSCAR FOR BEST ACTOR, FOR "THE PIAN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866960" y="4876920"/>
            <a:ext cx="5410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EM  DAF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31800" y="762120"/>
            <a:ext cx="788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OSCARS FOR "PLATOON", "SHADOW OF THE VAMPIRE", "THE FLORIDA PROJECT", AND "AT ETERNITY'S GA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GOLDB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14320" y="762120"/>
            <a:ext cx="751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JURASSIC PARK", "INDEPENDENCE DAY", AND 3 SEQU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Y  KEIT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00040" y="762120"/>
            <a:ext cx="8142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WITH ROBERT DE NIRO IN "MEAN STREETS", "TAXI DRIVER", AND "COP 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E 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14520" y="762120"/>
            <a:ext cx="791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WATSON    IN THE 2009 AND 2011 "SHERLOCK HOLM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8640" y="762120"/>
            <a:ext cx="7685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THE MAIN CHARACTERS IN "THE CONSTANT GARDENER", "QUIZ SHOW", AND "THE ENGLISH PATI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ARD  NO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33360" y="762120"/>
            <a:ext cx="847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THE HULK" AND "THE ILLUSIONIST, AND NARRATED "FIGHT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66960" y="762120"/>
            <a:ext cx="7210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TRIPES", "SCROOGED", AND "GROUNDHOG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76240" y="4343400"/>
            <a:ext cx="7391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RED  IN  THE  FILM  "THE  GRAND  BUDAPEST  HOTE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2680" y="761760"/>
            <a:ext cx="891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LAYING ITALIAN COMPOSER  ANTONIO SALIERI IN "AMADE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ACTOR TO EVER WIN AN OSCAR FOR BEST ACTOR, FOR "THE PIAN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OSCARS FOR "PLATOON", "SHADOW OF THE VAMPIRE", "THE FLORIDA PROJECT", AND "AT ETERNITY'S GA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77880" y="723960"/>
            <a:ext cx="77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JURASSIC PARK", "INDEPENDENCE DAY", AND 3 SEQU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12800" y="761760"/>
            <a:ext cx="7718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WITH ROBERT DE NIRO IN "MEAN STREETS", "TAXI DRIVER", AND "COP 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1560" y="761760"/>
            <a:ext cx="7940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WATSON    IN THE 2009 AND 2011 "SHERLOCK HOLME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5120" y="762120"/>
            <a:ext cx="8212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THE HULK" AND "THE ILLUSIONIST, AND NARRATED "FIGHT CLU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1:16:21Z</dcterms:created>
  <dc:creator>Jennifer Budzinski</dc:creator>
  <dc:description/>
  <dc:language>en-US</dc:language>
  <cp:lastModifiedBy>Erich Friedman</cp:lastModifiedBy>
  <dcterms:modified xsi:type="dcterms:W3CDTF">2022-05-28T22:12:58Z</dcterms:modified>
  <cp:revision>380</cp:revision>
  <dc:subject/>
  <dc:title>Slide 1</dc:title>
</cp:coreProperties>
</file>