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3A38-D960-4EBA-BCEC-C13713103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E407-FBBC-4DEC-A1A7-C61CF77D2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D7B1-9997-4CC3-A085-B5A5DA288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DFA6-722A-4F69-816A-662EDC691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C3DD-B803-47CA-A8DA-91A76A2A1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9536-44D8-4A50-8187-04591614C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1D46-7D2D-4327-920C-846170D89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6E692-98AA-42FA-ADE8-AF4AEC2A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2C3A-F3CB-4547-85AC-263C58BD7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E558-A3B0-4407-9CB9-AAFF19DB2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E9FF-502D-4DA8-B181-1D3A80A3B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49B4-D9B6-4258-B0DB-3B6CDC68A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6A33-BD6C-419B-9765-4E5E2543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B327-ACB3-4ADC-A475-000ADDBA8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386E-E70B-45F6-BA34-CDC32DC4D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B080-5390-40FA-AEFD-5396D3576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A455-24F1-4E1C-8FE9-316AA583C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FED6-06F9-4A00-85ED-04FABBDA9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F9BA-BA50-4A41-A99C-838F27EFC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DE54-46BD-4250-B2F9-6731A5275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B6FD-FA8D-47DE-9F31-32976DE4B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161D-AD6D-4DB1-B3D6-AC2BBAB29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6289-CC79-4362-8EA9-39B896EF4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19000" y="1523880"/>
            <a:ext cx="750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2160" y="761760"/>
            <a:ext cx="715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IPES", "SCROOGED", AND "GROUNDHOG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LPH  FIE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MAIN CHARACTERS IN "THE CONSTANT GARDENER", "QUIZ SHOW", AND "THE ENGLISH PATI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.  MURRAY  ABRA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5000" y="762120"/>
            <a:ext cx="8874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ITALIAN COMPOSER  ANTONIO SALIERI IN "AMADE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RIEN  BR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14480" y="768240"/>
            <a:ext cx="711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ACTOR TO EVER WIN AN OSCAR FOR BEST ACTOR, FOR "THE PIAN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866960" y="4876920"/>
            <a:ext cx="5410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EM  DAF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31800" y="762120"/>
            <a:ext cx="788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"PLATOON", "SHADOW OF THE VAMPIRE", "THE FLORIDA PROJECT", AND "AT ETERNITY'S G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LDB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4320" y="762120"/>
            <a:ext cx="751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URASSIC PARK", "INDEPENDENCE DAY", AND 3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VEY  KEIT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00040" y="762120"/>
            <a:ext cx="814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ROBERT DE NIRO IN "MEAN STREETS", "TAXI DRIVER", AND "COP 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E  L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14520" y="762120"/>
            <a:ext cx="79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   IN THE 2009 AND 2011 "SHERLOCK HOLM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8640" y="762120"/>
            <a:ext cx="768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THE MAIN CHARACTERS IN "THE CONSTANT GARDENER", "QUIZ SHOW", AND "THE ENGLISH PATI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N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33360" y="762120"/>
            <a:ext cx="84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HULK" AND "THE ILLUSIONIST, AND NARRATED "FIGHT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66960" y="762120"/>
            <a:ext cx="7210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STRIPES", "SCROOGED", AND "GROUNDHOG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76240" y="4343400"/>
            <a:ext cx="7391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RED  IN  THE  FILM  "THE  GRAND  BUDAPEST  HOTE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680" y="761760"/>
            <a:ext cx="891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PLAYING ITALIAN COMPOSER  ANTONIO SALIERI IN "AMADE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ACTOR TO EVER WIN AN OSCAR FOR BEST ACTOR, FOR "THE PIAN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"PLATOON", "SHADOW OF THE VAMPIRE", "THE FLORIDA PROJECT", AND "AT ETERNITY'S GA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77880" y="723960"/>
            <a:ext cx="77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JURASSIC PARK", "INDEPENDENCE DAY", AND 3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12800" y="761760"/>
            <a:ext cx="7718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WITH ROBERT DE NIRO IN "MEAN STREETS", "TAXI DRIVER", AND "COP 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1560" y="761760"/>
            <a:ext cx="7940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DR. WATSON    IN THE 2009 AND 2011 "SHERLOCK HOLM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5120" y="762120"/>
            <a:ext cx="821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HULK" AND "THE ILLUSIONIST, AND NARRATED "FIGHT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2-05-28T22:12:58Z</dcterms:modified>
  <cp:revision>380</cp:revision>
  <dc:subject/>
  <dc:title>Slide 1</dc:title>
</cp:coreProperties>
</file>