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E94E-75E8-4F50-BC16-50ABE930E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2F03-19D6-4235-95B6-485BE8E80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F150-0757-46C3-9989-7E169CD8D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5979-63FF-403A-89D6-17E909725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1525-DD3A-4D7D-A5EF-1988BAEA1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52CD-D5F1-401A-B329-1CB1E696D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7614-5A86-4394-8F6B-4B8808AD0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A621-FE70-44A2-A12A-1B68F3863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0ADB-2F8F-4654-86DD-4C925791F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2DBC-3C1E-4532-9592-AD684EE37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0EC9-5072-469D-A620-1BDBB6DF3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3036-3A73-40C0-934A-E86BDE0CB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52D8-7B86-4FDF-AE4E-7E5E0A7D1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077F-2353-4AB1-AEB0-451957DFC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2854-9171-4D6A-B575-F454559CF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E677-65F0-450A-9FF0-7FCB4569D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FFDB-1991-4086-B092-36E4BCF33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F625-3A6B-478F-A74C-E53506ACD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BF5A-34B8-400E-AC24-1F4A59C5C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1730-B9AD-40FE-AF65-5C91B95AA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ED96-FCC4-4545-8A07-F14837196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1046-384E-4620-83FA-0FC5EC5DF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2AE9-FA73-487D-8BE5-819D18822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DIRECTION IS ATLANTA FROM MIAM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BEC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PHNE DU MAURIER BOOK WAS RECENTLY VOTED THE U.K.'S FAVORITE BOOK OF THE LAST 20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838080" y="48769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MAN IS MENTIONED THE MOST TIMES IN THE NEW TESTAMENT OF THE BI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Y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03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 SANG "TURN! TURN! TURN!" AND "EIGHT MILES HIG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  VOY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PHRASE HAS LITERAL TRANSLATION "GOOD TRI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IDE FROM POISON, WHICH WAS INTRODUCED IN 2008, WHAT IS THE ONLY WEAPON IN THE GAME OF "CLUE" THAT IS NOT MADE OF ME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TOR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BIOPIC IS ABOUT THE LIFE AND 1997 MURDER OF THE RAPPER "BIGGIE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SUPERNATURAL HORROR FILM IS ABOUT A CURSED VIDEOTA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PHNE DU MAURIER BOOK WAS RECENTLY VOTED THE U.K.'S FAVORITE BOOK OF THE LAST 20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P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81160" y="762120"/>
            <a:ext cx="678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VEMBER HAS 2 BIRTHSTONES, CITRINE AND WHAT E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  BY  NORTH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2560" y="762120"/>
            <a:ext cx="7238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DIRECTION IS ATLANTA FROM MIAM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343400"/>
            <a:ext cx="6705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LMS  DIRECTED  BY  ALFRED  HITCHC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MAN IS MENTIONED THE MOST TIMES IN THE NEW TESTAMENT OF THE BI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 SANG "TURN! TURN! TURN!" AND "EIGHT MILES HIG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PHRASE HAS LITERAL TRANSLATION "GOOD TRI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IDE FROM POISON, WHICH WAS INTRODUCED IN 2008, WHAT IS THE ONLY WEAPON IN THE GAME OF "CLUE" THAT IS NOT MADE OF MET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BIOPIC IS ABOUT THE LIFE AND 1997 MURDER OF THE RAPPER "BIGGIE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SUPERNATURAL HORROR FILM IS ABOUT A CURSED VIDEOTA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VEMBER HAS 2 BIRTHSTONES, CITRINE AND WHAT EL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9T23:29:57Z</dcterms:created>
  <dc:creator>Jennifer Budzinski</dc:creator>
  <dc:description/>
  <dc:language>en-US</dc:language>
  <cp:lastModifiedBy>Erich Friedman</cp:lastModifiedBy>
  <dcterms:modified xsi:type="dcterms:W3CDTF">2020-08-25T13:10:44Z</dcterms:modified>
  <cp:revision>358</cp:revision>
  <dc:subject/>
  <dc:title>Slide 1</dc:title>
</cp:coreProperties>
</file>