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B1F2-3385-4BA5-999E-ECC20CD9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6167-9117-4F29-BD1E-E79DD349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80F0-1D6B-41B7-B5EF-8883EC88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A8DF-77AF-4F76-8CA5-07CDD698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4C3A-9067-46EC-A0E9-50F50325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C30-0DE8-474E-8996-53350B27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4A0E-1A07-427D-9E8E-E509378A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BDE-B43F-4F51-B799-9A2F577E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42C-649D-4EA5-A38F-954D8DFC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CF81-B46A-4923-9503-25B75F0E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32B-8A56-4850-B36F-6BDC92C4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5BB-488C-40FF-984B-20FE1033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862B-E4D3-41DE-9C4D-4A66071A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45AA-EC13-492C-AD09-20D748CB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AD36-1129-42E2-B65A-CC411641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4F9-17C3-409A-9C72-FA886A9B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72B-0A71-4040-A33B-B7FE54F8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A88-3298-49CD-882C-9FA9049E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BCBE-9317-47C8-BA4E-ED7C9ABA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19E-288C-4E9D-BD62-F69E69C8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DD4-A3A9-427C-980C-05F4A4610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10FF-741F-4A56-B1C5-EF07F83B7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8821-6509-462E-800E-10F7C3E9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03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VOY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DIRECTED  BY  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3:29:57Z</dcterms:created>
  <dc:creator>Jennifer Budzinski</dc:creator>
  <dc:description/>
  <dc:language>en-US</dc:language>
  <cp:lastModifiedBy>Erich Friedman</cp:lastModifiedBy>
  <dcterms:modified xsi:type="dcterms:W3CDTF">2020-08-25T13:10:44Z</dcterms:modified>
  <cp:revision>358</cp:revision>
  <dc:subject/>
  <dc:title>Slide 1</dc:title>
</cp:coreProperties>
</file>