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BFB6-8A76-46FE-A008-752266247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9EB3-366A-419A-B349-FFEEE1DB5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B40D-9DDA-4745-8A49-747CBBAA4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8AFD-753D-4F6C-B851-23F9F5F3D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F2A6-D303-4737-9E8B-6F3595C62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A62B-3482-4141-8CC4-97E027058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E653-2EEE-4FE5-A31E-54DEFBD21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459D-17CA-40F0-8503-39CBB54E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5ED0-ED12-4AEE-B7E0-BCFB587C5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71BC-928C-4303-BC79-55BF6BE7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C13D-2BCA-4982-88D4-576C2AC6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00D2-A9D5-4009-A382-C8C4354B0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9FBD-CCCB-4BEC-907D-B7D1FBED6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33E8-26A6-43E7-95BC-34F9CBADE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6494-49EC-4F7B-A491-66B2B5C4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BBA37-07E6-4B8D-B59E-865C24E6D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38FA-9D97-45F5-BD2E-FEAD4A0F1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1663-4138-4B37-875F-69F25AE27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745E-B251-4586-B081-E9658053C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DEFE-2EAB-4494-9FAF-DC1466FD1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58FD-B33F-4772-BA7F-6204E83E8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573C-B8BF-4072-A6B0-C9DA9E49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35D0-DC94-4621-ABB3-725F9EEC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PHNE DU MAURIER BOOK WAS RECENTLY VOTED THE U.K.'S FAVORITE BOOK OF THE LAST 2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IS MENTIONED THE MOST TIMES IN THE NEW TESTAMENT OF THE B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Y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03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TURN! TURN! TURN!" AND "EIGHT MILES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  VOY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HRASE HAS LITERAL TRANSLATION "GOOD TRI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POISON, WHICH WAS INTRODUCED IN 2008, WHAT IS THE ONLY WEAPON IN THE GAME OF "CLUE" THAT IS NOT MADE OF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O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BIOPIC IS ABOUT THE LIFE AND 1997 MURDER OF THE RAPPER "BIGGI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IS ABOUT A CURSED VIDEOT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PHNE DU MAURIER BOOK WAS RECENTLY VOTED THE U.K.'S FAVORITE BOOK OF THE LAST 2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HAS 2 BIRTHSTONES, CITRINE AND WHAT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BY 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IRECTION IS ATLANTA FROM MIAM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343400"/>
            <a:ext cx="670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MS  DIRECTED  BY  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AN IS MENTIONED THE MOST TIMES IN THE NEW TESTAMENT OF THE BI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SANG "TURN! TURN! TURN!" AND "EIGHT MILES HI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HRASE HAS LITERAL TRANSLATION "GOOD TRI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POISON, WHICH WAS INTRODUCED IN 2008, WHAT IS THE ONLY WEAPON IN THE GAME OF "CLUE" THAT IS NOT MADE OF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BIOPIC IS ABOUT THE LIFE AND 1997 MURDER OF THE RAPPER "BIGGI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UPERNATURAL HORROR FILM IS ABOUT A CURSED VIDEOT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VEMBER HAS 2 BIRTHSTONES, CITRINE AND WHAT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23:29:57Z</dcterms:created>
  <dc:creator>Jennifer Budzinski</dc:creator>
  <dc:description/>
  <dc:language>en-US</dc:language>
  <cp:lastModifiedBy>Erich Friedman</cp:lastModifiedBy>
  <dcterms:modified xsi:type="dcterms:W3CDTF">2020-08-25T13:10:44Z</dcterms:modified>
  <cp:revision>358</cp:revision>
  <dc:subject/>
  <dc:title>Slide 1</dc:title>
</cp:coreProperties>
</file>