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5821-AC7F-42AB-99BC-4ED35E2CE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BEB9-7C78-467E-BA0F-D57A7E39F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D336-D50E-4CCE-BC08-FE8AF878E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A59B-BBE7-4D5A-9839-485C068AF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8F66-DD17-4848-93D8-26E7907FE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2448-AB75-41FA-89DA-2E8BDE3A2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FA26-6D2B-4737-B14B-2D37B9B4F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F6B3-D3A5-48B5-B200-4983C96A6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8D77-280E-46E2-B21C-83F1D3A92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7343-7595-4F14-A6EB-11EFB2044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C1DF-00D1-4AD4-A510-39EA36909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6879-40C3-433A-B2C3-716540063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C4F8-D3C0-466C-8FA5-4015160B3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395F-CFB6-402F-AADC-3B4009030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974C-926E-41CF-9B77-E8EF8A9A7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71DE-B5F7-475B-9401-00F7C6E1D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79B4-E9FD-4273-B55C-81829B895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F48C-806F-4413-A9E2-0CC18C71D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040E-BAC3-4988-9CAA-6CF20226F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7607-F037-492A-AE51-BE5A8B9FC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FB43-06CB-409A-AC12-A09A37D26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200A-5506-4DE1-9061-6C4A2F877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5FF9-8690-4C5F-9436-B21D47F21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64960" y="761760"/>
            <a:ext cx="861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WASHINGTON, D.C.'S PRO FEMALE SOCCER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H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FANTASY FILM STARRED PATRICK SWAYZE, DEMI MOORE, AND WHOOPI GOLDBE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309680" y="762120"/>
            <a:ext cx="6524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COMES BETWEEN CLASS AND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L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36800" y="762120"/>
            <a:ext cx="7068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OHIO WHOSE NAME DOES    NOT BEGIN WITH "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46320" y="762120"/>
            <a:ext cx="665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DROLOGY IS THE STUDY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49440" y="762120"/>
            <a:ext cx="7843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 SANG "WHY CAN'T WE BE 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AY  CITY)  ROL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92160" y="762120"/>
            <a:ext cx="715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NAME OF THE 70'S GROUP THAT HAD THE #1 HIT "SATURDAY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6680" y="762120"/>
            <a:ext cx="827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ENGLISH 3-LETTER WORD WITH A DOUBLE L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50760" y="762120"/>
            <a:ext cx="7242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FANTASY FILM STARRED PATRICK SWAYZE, DEMI MOORE, AND WHOOPI GOLDBER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KER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24000" y="762120"/>
            <a:ext cx="8496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CONTAINING ABOUT 30 SPECIES OF FISH HAS A NAME COMING FROM THE WORD "MARK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95200" y="762120"/>
            <a:ext cx="855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WASHINGTON, D.C.'S PRO FEMALE SOCCER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76280" y="4952880"/>
            <a:ext cx="819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HOL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71160" y="761760"/>
            <a:ext cx="6599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COMES BETWEEN CLASS AND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3080" y="762120"/>
            <a:ext cx="7196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OHIO WHOSE NAME DOES    NOT BEGIN WITH "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6600" y="762120"/>
            <a:ext cx="667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DROLOGY IS THE STUDY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1280" y="761760"/>
            <a:ext cx="7921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 SANG "WHY CAN'T WE BE 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01880" y="761760"/>
            <a:ext cx="713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NAME OF THE 70'S GROUP THAT HAD THE #1 HIT "SATURDAY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8440" y="761760"/>
            <a:ext cx="8364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ENGLISH 3-LETTER WORD WITH A DOUBLE LET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CONTAINING ABOUT 30 SPECIES OF FISH HAS A NAME COMING FROM THE WORD "MARK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6-20T18:41:36Z</dcterms:modified>
  <cp:revision>467</cp:revision>
  <dc:subject/>
  <dc:title>Slide 1</dc:title>
</cp:coreProperties>
</file>