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7119F-32FA-4B8F-8757-28ADA42439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AF5DC-29D5-4D4F-BE90-EE90EF1DB9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41FF1-24CA-4BAA-B036-B04B141BE4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791A2-2028-4B9A-9608-426CCAEA63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047C0-DFC3-4FF8-8752-DECAAA68B8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EDBBC-1802-49C5-AF9E-828D872965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E726F-2795-463A-A3CD-AEB313F274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151FE-311A-4154-93D3-BD66D14ACC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ADC0E-615B-443A-A0D6-C938B6174E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A319E-64A2-48EA-B57D-B7164F2847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CA25C-7EE6-4C4E-AF8A-402D01102E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AB2C7-C463-46FB-951E-0AFFB93B43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E7710-0EDA-4092-8177-A6809CD9A8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D5416-856D-40BC-A029-8CC1710916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DBD85-46B0-4258-A531-E173459852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66C00-F219-4208-AC07-E9210E0D19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8B96B-62E6-4E67-B507-D3C456D1EF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787ED-468B-4451-A7E6-0A861942EA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5E10D-0E85-4968-9FB0-60141ED6C1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AB4A9-C073-480C-9AA6-E7333597FE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5E88A-C093-428D-85CF-06270800A7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9D255-862D-4A23-AFBE-591CFA7915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B49CB-4E8D-42B4-8CFB-42C30239F1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333440" y="1523880"/>
            <a:ext cx="64771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264960" y="761760"/>
            <a:ext cx="86140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WASHINGTON, D.C.'S PRO FEMALE SOCCER TEA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990720" y="4952880"/>
            <a:ext cx="716256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HO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990720" y="762120"/>
            <a:ext cx="71625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0 FANTASY FILM STARRED PATRICK SWAYZE, DEMI MOORE, AND WHOOPI GOLDBER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1790640" y="4952880"/>
            <a:ext cx="5562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R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1309680" y="762120"/>
            <a:ext cx="65246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AXONOMIC RANK COMES BETWEEN CLASS AND FAMIL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304920" y="4952880"/>
            <a:ext cx="86104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OLED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1036800" y="762120"/>
            <a:ext cx="70689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POPULATED CITY IN OHIO WHOSE NAME DOES    NOT BEGIN WITH "C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04920" y="495288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A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1246320" y="762120"/>
            <a:ext cx="66513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YDROLOGY IS THE STUDY OF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1181160" y="4952880"/>
            <a:ext cx="6781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649440" y="762120"/>
            <a:ext cx="784368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UNK BAND SANG "WHY CAN'T WE BE FRIEND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BAY  CITY)  ROLL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992160" y="762120"/>
            <a:ext cx="71582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WORD IN THE NAME OF THE 70'S GROUP THAT HAD THE #1 HIT "SATURDAY NIGH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719280" y="4952880"/>
            <a:ext cx="77054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E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436680" y="762120"/>
            <a:ext cx="82706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COMMON ENGLISH 3-LETTER WORD WITH A DOUBLE LETT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950760" y="762120"/>
            <a:ext cx="7242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0 FANTASY FILM STARRED PATRICK SWAYZE, DEMI MOORE, AND WHOOPI GOLDBER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380880" y="4952880"/>
            <a:ext cx="838224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CKER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324000" y="762120"/>
            <a:ext cx="84960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AMILY CONTAINING ABOUT 30 SPECIES OF FISH HAS A NAME COMING FROM THE WORD "MARKE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95288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PIR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295200" y="762120"/>
            <a:ext cx="85536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WASHINGTON, D.C.'S PRO FEMALE SOCCER TEA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476280" y="4952880"/>
            <a:ext cx="81914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N  FOLLOW  "HOLY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533520" y="763560"/>
            <a:ext cx="8076960" cy="22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271160" y="761760"/>
            <a:ext cx="65991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AXONOMIC RANK COMES BETWEEN CLASS AND FAMIL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973080" y="762120"/>
            <a:ext cx="71960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POPULATED CITY IN OHIO WHOSE NAME DOES    NOT BEGIN WITH "C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1236600" y="762120"/>
            <a:ext cx="66708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YDROLOGY IS THE STUDY OF WHA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611280" y="761760"/>
            <a:ext cx="79214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UNK BAND SANG "WHY CAN'T WE BE FRIEND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1001880" y="761760"/>
            <a:ext cx="7138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WORD IN THE NAME OF THE 70'S GROUP THAT HAD THE #1 HIT "SATURDAY NIGHT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388440" y="761760"/>
            <a:ext cx="8364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COMMON ENGLISH 3-LETTER WORD WITH A DOUBLE LETT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723960" y="762120"/>
            <a:ext cx="76960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AMILY CONTAINING ABOUT 30 SPECIES OF FISH HAS A NAME COMING FROM THE WORD "MARKED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21T16:48:58Z</dcterms:created>
  <dc:creator>Jennifer Budzinski</dc:creator>
  <dc:description/>
  <dc:language>en-US</dc:language>
  <cp:lastModifiedBy>Erich Friedman</cp:lastModifiedBy>
  <dcterms:modified xsi:type="dcterms:W3CDTF">2022-06-20T18:41:36Z</dcterms:modified>
  <cp:revision>467</cp:revision>
  <dc:subject/>
  <dc:title>Slide 1</dc:title>
</cp:coreProperties>
</file>