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FD3D-CCC5-45C7-8D85-30575DA0D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6105-14CA-4A67-946F-FF0CF3BA2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EA96-E615-4BCB-BBD7-FE40395B2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55F4-061D-4355-AF9D-B79A47E86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8507-583F-4FD7-9BAA-FB8F55349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0B75-906A-44F5-A8DE-40840C9DE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BBC4-BCBE-4D71-AD15-AC2501D20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DF6A-2169-4D26-81D3-9237C97A1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9CCE-D08B-4950-8BDA-8AF953192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7510-6D46-4572-972A-79C29C4F6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9754-96B0-4350-B19B-DE94A00B3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836F-7C6B-4BC9-BC97-27B1AF84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355D-4A28-4DA1-B485-47556657A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676D-620E-4028-BE55-D27757D59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6AA3-FD79-46D1-AFC5-DBB2F6B60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392A-4BC2-4843-A93B-C2C74DF75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E80E-E660-42B0-A196-A1832A4EE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934F-2B12-4B44-B747-9E864255F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A334-470C-44CA-BB3A-B1E11E0A6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BCB2-74C3-40C0-AADE-46D8A5D88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F058-920F-4FEE-A687-2404CB799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9F43-3FD4-4A95-9EAC-CBE53DF49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6D1C-C3F5-4C9E-B8E2-B202D1187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68440" y="761760"/>
            <a:ext cx="80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S CONTAIN PHALANGE, METACARPAL, AND CARPAL B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DID DONALD TRUMP FAMOUSLY LEAVE OUTSIDE AIR FORCE ONE WITHOUT CLOSING IT ON OCTOBER 27,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89080" y="762120"/>
            <a:ext cx="676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THE OBVERSE SIDE OF THE U.S. CENT FOR MORE THAN 1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UE  OF  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42800" y="762120"/>
            <a:ext cx="8258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UE'S COMPLETION WAS MARKED BY NEW YORK'S FIRST TICKER-TAPE PAR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52480" y="762120"/>
            <a:ext cx="7439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 4 LARGEST MAMMALS ALL BELONG TO WHAT INFORMAL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44480" y="762120"/>
            <a:ext cx="765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DWAYNE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82640" y="762120"/>
            <a:ext cx="757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SCORING TWO UNDER PAR ON A GOLF H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8520" y="762120"/>
            <a:ext cx="888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N INDIAN BOY SEPARATED FROM HIS FAMILY FINDING THEM 25 YEARS LATER RECEIVED 6 ACADEMY AWARD NOMIN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65280" y="762120"/>
            <a:ext cx="781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DID DONALD TRUMP FAMOUSLY LEAVE OUTSIDE AIR FORCE ONE WITHOUT CLOSING IT ON OCTOBER 27,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96960" y="762120"/>
            <a:ext cx="7748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CANINE PROTAGONIST IN JACK LONDON'S NOVEL "THE CALL OF TH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3000" y="762120"/>
            <a:ext cx="7396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S CONTAIN PHALANGE, METACARPAL, AND CARPAL B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47800" y="4419720"/>
            <a:ext cx="7448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EMS  PICTURED  IN  LOGOS  OF  INSURANCE  COMPA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31840" y="761760"/>
            <a:ext cx="6880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THE OBVERSE SIDE OF THE U.S. CENT FOR MORE THAN 1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87440" y="762120"/>
            <a:ext cx="8169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UE'S COMPLETION WAS MARKED BY NEW YORK'S FIRST TICKER-TAPE PAR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08200" y="762120"/>
            <a:ext cx="7526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 4 LARGEST MAMMALS ALL BELONG TO WHAT INFORMAL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9880" y="761760"/>
            <a:ext cx="7464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DWAYNE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08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SCORING TWO UNDER PAR ON A GOLF H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5920" y="761760"/>
            <a:ext cx="8910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N INDIAN BOY SEPARATED FROM HIS FAMILY FINDING THEM 25 YEARS LATER RECEIVED 6 ACADEMY AWARD NOMIN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CANINE PROTAGONIST IN JACK LONDON'S NOVEL "THE CALL OF THE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6-20T18:42:14Z</dcterms:modified>
  <cp:revision>473</cp:revision>
  <dc:subject/>
  <dc:title>Slide 1</dc:title>
</cp:coreProperties>
</file>