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AA693-7D5B-4551-ACB3-9953CB4F7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3350-1F77-4F6A-99F9-58F887708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93295-6B9C-44C2-8C15-57BDEB25C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72FC6-9078-4030-93E7-C5F788D6E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4AB5D-2C07-40FB-A628-D8960F687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FAEDD-DF85-4A68-8845-37B32546D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19BF1-0864-4AA6-97AE-A9C16AA4B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DDAFE-DFB1-4300-990C-B366F4EEA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810D3-17E8-4C0A-9527-367C748A7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92141-9875-4750-994D-36665B8D0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8F143-121A-4F55-93AA-78F4C29D3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B63C9-2863-4250-A8B4-799048398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DB871-095B-4AEB-AD4F-483A1C22C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09BFC-2535-412B-8CA5-78030C83B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ABFD5-318F-40BA-981C-1665C805F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67042-82B8-4C49-B296-5B8607A77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6E4CB-8F8F-4276-BB30-24C555266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8BC06-3DCE-49CB-94ED-6216E3A42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C4894-F74A-4F25-AD8A-349E57A31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13A0D-CDC3-43FF-9BD7-EDBA8D6AB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48D7-B798-4FB0-B3FC-C15161FA0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E0F77-15DF-4DA4-908A-6C8DE13BB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DFBA8-055E-492F-AF58-C3F586A50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68440" y="761760"/>
            <a:ext cx="8005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DY PARTS CONTAIN PHALANGE, METACARPAL, AND CARPAL BON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MBREL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TEM DID DONALD TRUMP FAMOUSLY LEAVE OUTSIDE AIR FORCE ONE WITHOUT CLOSING IT ON OCTOBER 27, 201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790640" y="4952880"/>
            <a:ext cx="5562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DIAN  H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189080" y="762120"/>
            <a:ext cx="6765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PICTURED ON THE OBVERSE SIDE OF THE U.S. CENT FOR MORE THAN 100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TUE  OF  LIBE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42800" y="762120"/>
            <a:ext cx="8258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TUE'S COMPLETION WAS MARKED BY NEW YORK'S FIRST TICKER-TAPE PARA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852480" y="762120"/>
            <a:ext cx="7439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OP 4 LARGEST MAMMALS ALL BELONG TO WHAT INFORMAL GRO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R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44480" y="762120"/>
            <a:ext cx="7655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TAGE NAME OF DWAYNE JOHN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A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782640" y="762120"/>
            <a:ext cx="7578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ICKNAME FOR SCORING TWO UNDER PAR ON A GOLF HO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719280" y="4952880"/>
            <a:ext cx="770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28520" y="762120"/>
            <a:ext cx="8886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6 FILM ABOUT AN INDIAN BOY SEPARATED FROM HIS FAMILY FINDING THEM 25 YEARS LATER RECEIVED 6 ACADEMY AWARD NOMIN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65280" y="762120"/>
            <a:ext cx="7812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TEM DID DONALD TRUMP FAMOUSLY LEAVE OUTSIDE AIR FORCE ONE WITHOUT CLOSING IT ON OCTOBER 27, 201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96960" y="762120"/>
            <a:ext cx="77486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CANINE PROTAGONIST IN JACK LONDON'S NOVEL "THE CALL OF THE WIL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73000" y="762120"/>
            <a:ext cx="7396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DY PARTS CONTAIN PHALANGE, METACARPAL, AND CARPAL BO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847800" y="4419720"/>
            <a:ext cx="7448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TEMS  PICTURED  IN  LOGOS  OF  INSURANCE  COMPAN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131840" y="761760"/>
            <a:ext cx="6880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PICTURED ON THE OBVERSE SIDE OF THE U.S. CENT FOR MORE THAN 100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87440" y="762120"/>
            <a:ext cx="81691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TUE'S COMPLETION WAS MARKED BY NEW YORK'S FIRST TICKER-TAPE PARA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08200" y="762120"/>
            <a:ext cx="7526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OP 4 LARGEST MAMMALS ALL BELONG TO WHAT INFORMAL GROU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39880" y="761760"/>
            <a:ext cx="7464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TAGE NAME OF DWAYNE JOHN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66800" y="761760"/>
            <a:ext cx="7608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ICKNAME FOR SCORING TWO UNDER PAR ON A GOLF HO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15920" y="761760"/>
            <a:ext cx="8910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6 FILM ABOUT AN INDIAN BOY SEPARATED FROM HIS FAMILY FINDING THEM 25 YEARS LATER RECEIVED 6 ACADEMY AWARD NOMINATI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81200" y="762120"/>
            <a:ext cx="7581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CANINE PROTAGONIST IN JACK LONDON'S NOVEL "THE CALL OF THE WIL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6-20T18:42:14Z</dcterms:modified>
  <cp:revision>473</cp:revision>
  <dc:subject/>
  <dc:title>Slide 1</dc:title>
</cp:coreProperties>
</file>