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0FAB-D07B-4AAC-8422-C1570B57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6424-AB8C-4DCD-B1BF-CA3ECBF79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2BCC-AA23-4EC5-817D-00EC19BE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E810-C25F-4211-BF1C-39BBE601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8F61-5FDD-47E5-80CF-004DB858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4326-4BB5-4A77-8793-342263DC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E20-F833-4294-9CD9-451AB744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335-1C3A-45C7-BA6B-51142AA0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EE37-8366-45DD-B394-F65084F9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15D-7674-43F2-90DE-C1F706ED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1332-8DCC-4B2C-9965-09D6FEC9F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850-C544-444E-B962-5607C9502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FA64-40DB-4AA9-A97F-3FFDEB81B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158-4085-4820-9859-52D78F06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9111-952A-478C-8EF4-9470AE27D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068-639C-482F-A5AD-5A13CB62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97E-1652-4648-B1CD-12CDE80E0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552-2FBB-496B-807E-A8B36F1C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767-B19D-40A7-83A7-9F32215C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5366-6B9E-4C75-B42E-934A2E87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CADA-0FEA-4396-9CE3-1B2BC8A5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1963-07B7-4B2B-9EA8-C2EF8429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0D9-B57C-41DF-9F81-EE11604F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1760"/>
            <a:ext cx="731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WRITTEN M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26400" y="16765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CLE IN THE HUMAN BODY THAT WORKS WITHOUT ANY SUPPORT FROM THE SKELE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716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74800" y="762120"/>
            <a:ext cx="739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UPPET DR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YAH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08200" y="762120"/>
            <a:ext cx="752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THROUGH CLEVELAND CAUGHT FIRE IN 1969, HELPING TO SPUR THE CREATION OF THE CLEAN WATER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  C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88960" y="762120"/>
            <a:ext cx="796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ED 3-4 DEFENSE OF THE DENVER BRONCOS IN THE LATE 1970'S WAS NAMED AFTER WHAT FRUIT-FLAVORED PEPSICO SO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188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ONCE DATED A MERMAID NAMED LORI LEMARIS, IN ADDITION TO 2 OTHER GIRLFRIENDS WITH THE SAME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  FREE 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8240" y="762120"/>
            <a:ext cx="8867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ORGANIZATION HAS BROADCASTED NEWS AT AUTHORITARIAN COUNTRIES SINCE JULY 4, 19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50800" y="762120"/>
            <a:ext cx="804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TANDARD BLACKJACK STRATEGY, WHAT IS ALWAYS THE CORRECT PLAY IF YOU'RE DEALT AN  ACE AND AN 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2160" y="762120"/>
            <a:ext cx="877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CLE IN THE HUMAN BODY THAT WORKS WITHOUT ANY SUPPORT FROM THE SKELE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09560" y="762120"/>
            <a:ext cx="7723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LM BIOGRAPHY OF ANDY KAUFMA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49528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WRITTEN M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526400" y="16765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49528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.E.M.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UPPET DR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040" y="762120"/>
            <a:ext cx="738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THROUGH CLEVELAND CAUGHT FIRE IN 1969, HELPING TO SPUR THE CREATION OF THE CLEAN WATER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ED 3-4 DEFENSE OF THE DENVER BRONCOS IN THE LATE 1970'S WAS NAMED AFTER WHAT FRUIT-FLAVORED PEPSICO SO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2720" y="761760"/>
            <a:ext cx="791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ONCE DATED A MERMAID NAMED LORI LEMARIS, IN ADDITION TO 2 OTHER GIRLFRIENDS WITH THE SAME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ORGANIZATION HAS BROADCASTED NEWS AT AUTHORITARIAN COUNTRIES SINCE JULY 4, 195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TANDARD BLACKJACK STRATEGY, WHAT IS ALWAYS THE CORRECT PLAY IF YOU'RE DEALT AN  ACE AND AN 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LM BIOGRAPHY OF ANDY KAUFMA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0T18:43:29Z</dcterms:modified>
  <cp:revision>463</cp:revision>
  <dc:subject/>
  <dc:title>Slide 1</dc:title>
</cp:coreProperties>
</file>