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F95E-38C1-4436-BC2A-5EB13195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0E1F-58FF-4AB4-9F24-678A6D7F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807F-6841-49E1-9A47-AA140BA9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4B39-77E3-44FA-A0F6-DF273CBA8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5959-6A66-428A-8B4B-5125D25F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C98F-AA43-436A-B0E4-0358954A4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12D5-779E-41EE-ABC9-9ED0F1FC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F4F6-D8C9-4471-81F4-38615603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34B5-8FC2-4C79-A659-683C6A34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62C2-D8E6-41C4-BB5D-5B31E6FB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C60E-C252-4CD8-B28F-C1C66CB11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4A5E-6EF4-458C-B06C-25BBF3D1D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8660-8A6D-4AF2-AFB3-ADC987D4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A6E5-C803-44BD-8703-2E0324628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366F-6544-408C-A793-9EC4DCFD6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B24-C091-4C06-A3F6-A0900003C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6D9-E054-4FC8-A109-2A1E388A3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17C5-E596-44A7-BC22-98AD6B30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FE49-DA53-4275-AF0B-41B4EAE7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A5FF-5047-45E4-B7BF-5B77E204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C297-DFC5-4D7B-80B2-69664B4BA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CEE9-8678-4CE6-A890-891699E1B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8BED-7BA9-4F98-B333-51CBE56C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WRITTEN M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26400" y="16765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CLE IN THE HUMAN BODY THAT WORKS WITHOUT ANY SUPPORT FROM THE SKELE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716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IM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74800" y="762120"/>
            <a:ext cx="739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UPPET DR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YAHO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08200" y="762120"/>
            <a:ext cx="752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THROUGH CLEVELAND CAUGHT FIRE IN 1969, HELPING TO SPUR THE CREATION OF THE CLEAN WATER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  C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88960" y="762120"/>
            <a:ext cx="796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ED 3-4 DEFENSE OF THE DENVER BRONCOS IN THE LATE 1970'S WAS NAMED AFTER WHAT FRUIT-FLAVORED PEPSICO SO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ONCE DATED A MERMAID NAMED LORI LEMARIS, IN ADDITION TO 2 OTHER GIRLFRIENDS WITH THE SAME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FREE 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8240" y="762120"/>
            <a:ext cx="8867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ORGANIZATION HAS BROADCASTED NEWS AT AUTHORITARIAN COUNTRIES SINCE JULY 4, 19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50800" y="762120"/>
            <a:ext cx="804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TANDARD BLACKJACK STRATEGY, WHAT IS ALWAYS THE CORRECT PLAY IF YOU'RE DEALT AN  ACE AND AN 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USCLE IN THE HUMAN BODY THAT WORKS WITHOUT ANY SUPPORT FROM THE SKELE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09560" y="762120"/>
            <a:ext cx="7723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LM BIOGRAPHY OF ANDY KAUFMA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419040" y="495288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,00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IS WRITTEN M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1526400" y="167652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95288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.E.M.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MUPPET DRU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040" y="762120"/>
            <a:ext cx="738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THROUGH CLEVELAND CAUGHT FIRE IN 1969, HELPING TO SPUR THE CREATION OF THE CLEAN WATER A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EARED 3-4 DEFENSE OF THE DENVER BRONCOS IN THE LATE 1970'S WAS NAMED AFTER WHAT FRUIT-FLAVORED PEPSICO SO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2720" y="761760"/>
            <a:ext cx="791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ONCE DATED A MERMAID NAMED LORI LEMARIS, IN ADDITION TO 2 OTHER GIRLFRIENDS WITH THE SAME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ORGANIZATION HAS BROADCASTED NEWS AT AUTHORITARIAN COUNTRIES SINCE JULY 4, 195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TANDARD BLACKJACK STRATEGY, WHAT IS ALWAYS THE CORRECT PLAY IF YOU'RE DEALT AN  ACE AND AN 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0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LM BIOGRAPHY OF ANDY KAUFMA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6-20T18:43:29Z</dcterms:modified>
  <cp:revision>463</cp:revision>
  <dc:subject/>
  <dc:title>Slide 1</dc:title>
</cp:coreProperties>
</file>