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160E-D286-4A60-991A-958647157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039-3950-46AF-9B94-59743114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46CB-AF9A-4196-A4BC-75C139D61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A838-9428-428B-8922-DFBC966A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88B-160E-42B8-A788-F30B2E31C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EB43-DA9D-4FAB-A5E3-047AD85C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9B5-CF51-498D-B898-D68462E6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C47A-DE54-446A-B59C-07C344D6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82B5-BA86-4FAF-A6FD-FBEFFACE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CAB1-06F9-4F24-BE1D-70E25126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C7A3-2CDA-4AA7-9481-460EB52B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927-20F6-4E5A-B50A-9F9C33146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2485-D7FA-4027-8919-07E2A4EE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C43-10E4-4B50-91C1-276F65682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3B03-197F-4F72-BB86-6D9F6BC37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9F5D-F6DF-411A-AF0C-87C60ACD6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9243-A932-439C-A168-D82B8B96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CC8-F5A5-459D-9F62-CA8D9F9E5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B873-C9FE-4E34-84A1-86C44AD6A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9D6-EB96-4443-B5A4-E663E025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8B75-48C1-4A7C-AF74-7EC95807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CE64-B86E-46D0-8701-3E8DD5B9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5A8-1E0B-4F78-AA45-21EE5AB4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IDAY WHERE THE MOST CARDS ARE SENT IS CHRISTMAS BY FAR.  WHAT HOLIDAY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TER  OLYMPIC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LD IN NORWAY IN 1952 AND 1994, AND AUSTRIA IN 1964 AND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HOG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IME-LOOP FILM STARRED BILL MURRAY AND ANDIE MACDOW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  COLUMBIA  DIS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7 ASTRONAUTS DIE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6212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 OF THE TOP 20 MOST WATCHED BROADCASTS ON TV WER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SDEN  BOMBING  DURING  WW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EVENT IS THE "SLAUGHTER" IN KURT VONNEGUT'S NOVEL "SLAUGHTERHOUSE FIV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'S  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HAS 14 DIFFERENT NAMES WHEN CELEBRATED AT THE STATE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P 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RE EXACTLY 24 OF IN EACH OF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, BUT 25 OF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LD IN NORWAY IN 1952 AND 1994, AND AUSTRIA IN 1964 AND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TONA  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CAR DRIVER DALE EARNHARDT DIED DURING WHAT 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6280" y="762120"/>
            <a:ext cx="819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IDAY WHERE THE MOST CARDS ARE SENT IS CHRISTMAS BY FAR.  WHAT HOLIDAY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9528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OCCUR(RED)  IN  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IME-LOOP FILM STARRED BILL MURRAY AND ANDIE MACDOW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7 ASTRONAUTS DIE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 OF THE TOP 20 MOST WATCHED BROADCASTS ON TV WER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EVENT IS THE "SLAUGHTER" IN KURT VONNEGUT'S NOVEL "SLAUGHTERHOUSE F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8800" y="761760"/>
            <a:ext cx="728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HAS 14 DIFFERENT NAMES WHEN CELEBRATED AT THE STATE LE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RE EXACTLY 24 OF IN EACH OF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, BUT 25 OF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05000" y="761760"/>
            <a:ext cx="653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SCAR DRIVER DALE EARNHARDT DIED DURING WHAT 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6-27T17:38:45Z</dcterms:modified>
  <cp:revision>339</cp:revision>
  <dc:subject/>
  <dc:title>Slide 1</dc:title>
</cp:coreProperties>
</file>