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8E13-8D9C-4468-859A-53C4D3CC4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81B2-79C9-423B-A787-A97592E7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9C07-9D68-4D70-B5FE-8AB3A41AA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4380-D5F1-47DA-875D-BF9D59E55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6012-82B9-4008-97F7-B4A77A02F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B06B-A9D7-40E2-BB49-718EFF5EE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A6D7-FE02-4EEF-B0CC-6F7DE485A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EB7C-E49C-4547-BADB-4132A60C2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502F-0980-4EFA-97C8-0976FE842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DCB4-7458-4EDE-AB5A-69B5E6CE1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AB52-9118-46C7-96E9-A3784E41F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B23B-606E-41F3-BB0E-776F8A3C4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6522-9F95-47CB-AEBF-356E63DEA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5E5D-650F-410D-8AFC-FEE40A242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C40D-2801-46AD-8D57-3A5B73205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205E-8F3E-4697-B21E-824CB0B79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029A-CE30-48FF-8BA8-AE5B8FD6C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F4F2-8CD3-4571-BD6C-A4B1B96BF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6AB7-36E0-430E-8376-ECEE58DD0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0FCD-C120-4D13-A915-DB9F6940E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C1DC-FBB8-435C-8FFA-092DF6E66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BE73-4895-4122-A6D0-D14C6EBEC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F11F-D791-46C7-978A-61D064FBF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OLIDAY WHERE THE MOST CARDS ARE SENT IS CHRISTMAS BY FAR.  WHAT HOLIDAY COMES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TER  OLYMPIC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ELD IN NORWAY IN 1952 AND 1994, AND AUSTRIA IN 1964 AND 19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UNDHOG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19000" y="762120"/>
            <a:ext cx="750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IME-LOOP FILM STARRED BILL MURRAY AND ANDIE MACDOW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CE  SHUTTLE  COLUMBIA  DIS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7 ASTRONAUTS DIE IN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62080" y="762120"/>
            <a:ext cx="681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 OF THE TOP 20 MOST WATCHED BROADCASTS ON TV WERE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SDEN  BOMBING  DURING  WW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STORICAL EVENT IS THE "SLAUGHTER" IN KURT VONNEGUT'S NOVEL "SLAUGHTERHOUSE FIV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'S  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HAS 14 DIFFERENT NAMES WHEN CELEBRATED AT THE STATE LE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P  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RE EXACTLY 24 OF IN EACH OF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IES, BUT 25 OF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ELD IN NORWAY IN 1952 AND 1994, AND AUSTRIA IN 1964 AND 19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TONA  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SCAR DRIVER DALE EARNHARDT DIED DURING WHAT R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ENTINE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76280" y="762120"/>
            <a:ext cx="8191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OLIDAY WHERE THE MOST CARDS ARE SENT IS CHRISTMAS BY FAR.  WHAT HOLIDAY COMES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9528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OCCUR(RED)  IN  FEBR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IME-LOOP FILM STARRED BILL MURRAY AND ANDIE MACDOW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95320" y="76212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7 ASTRONAUTS DIE IN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 OF THE TOP 20 MOST WATCHED BROADCASTS ON TV WERE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STORICAL EVENT IS THE "SLAUGHTER" IN KURT VONNEGUT'S NOVEL "SLAUGHTERHOUSE F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8800" y="761760"/>
            <a:ext cx="7286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HAS 14 DIFFERENT NAMES WHEN CELEBRATED AT THE STATE LE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RE EXACTLY 24 OF IN EACH OF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IES, BUT 25 OF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05000" y="761760"/>
            <a:ext cx="653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SCAR DRIVER DALE EARNHARDT DIED DURING WHAT R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23:05:39Z</dcterms:created>
  <dc:creator>Jennifer Budzinski</dc:creator>
  <dc:description/>
  <dc:language>en-US</dc:language>
  <cp:lastModifiedBy>Erich Friedman</cp:lastModifiedBy>
  <dcterms:modified xsi:type="dcterms:W3CDTF">2022-06-27T17:38:45Z</dcterms:modified>
  <cp:revision>339</cp:revision>
  <dc:subject/>
  <dc:title>Slide 1</dc:title>
</cp:coreProperties>
</file>