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E662-0052-429E-AC04-3D6E3B893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0E0A-5ED4-4378-B36B-108C2DF52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0956-39C7-4B45-960B-1D34783CC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795B-F0F8-445D-A479-FD3AE5876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A0C9-1AB4-423D-83C1-4FDD5A9F2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2E58-EC85-4BD7-9278-3FEA7832A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BEA8-1008-4133-B1D0-7E43D0C9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32DB-ABBD-4905-A526-708C19D11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BA2F-DD5C-42A1-B47E-1B5991930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3AAE-DE04-420E-BBA8-6C173760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3A56-23C3-401A-A23E-8BFF99972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4F61-A862-40F0-9FC6-B7A012FC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17B4-78B7-4CBA-950D-3F30F4982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2EC5-386A-4E41-B03B-545DE5EC3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FEAC-77B3-4056-B39B-208325C0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5A9-75BC-48EF-89AE-68F4332EA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05E2-3104-4814-9C1B-2007C3C58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3A7D-4C06-4687-972B-0D294C25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C25C-F8D2-46D9-8E2F-0F8CE9D68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3BA9-A503-47C5-AB17-B77CF230A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8C83-EB83-4BD4-8F59-5ADFE74A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2A38-3C4E-4039-AE50-DA2C733F2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F23B-3E6D-4F82-9507-29D2EE8EF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7720" y="76176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BLONDE BOMBSHELL" STARRED IN "NIAGARA"  AND "HOW TO MARRY          A MILLIONA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HA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55680" y="762120"/>
            <a:ext cx="6632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10 DOLLAR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A  PER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5960" y="762120"/>
            <a:ext cx="8452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OF ARGENTINA HAD A POPULAR MUSICAL NAMED FOR 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RAH  WINF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A QUEEN WAS THE RICHEST AFRICAN-AMERICAN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28480" y="771480"/>
            <a:ext cx="808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NOMINATED FOR 12 OSCARS FOR ACTING, WINNING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3-TIME INDUCTEE TO THE ROCK AND RO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HO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OSS PLAYED WHAT JAZZ SINGER IN THE FILM "LADY SINGS THE BLU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EL  C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62080" y="762120"/>
            <a:ext cx="861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REIGNING NON-ROYAL HEAD OF STATE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47760" y="762120"/>
            <a:ext cx="664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10 DOLLAR B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JAMES  AUDU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PUBLISHED "THE BIRDS OF AMERICA", CONSIDERED ONE OF THE FINEST ORNITHOLOGICAL WORKS EVER COMPLE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5000" y="762120"/>
            <a:ext cx="761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BLONDE BOMBSHELL" STARRED IN "NIAGARA"  AND "HOW TO MARRY          A MILLIONA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OUT  OF  WED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OF ARGENTINA HAD A POPULAR MUSICAL NAMED FOR 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A QUEEN WAS THE RICHEST AFRICAN-AMERICAN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3720" y="762120"/>
            <a:ext cx="8296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NOMINATED FOR 12 OSCARS FOR ACTING, WINNING 3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4480" y="762120"/>
            <a:ext cx="765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3-TIME INDUCTEE TO THE ROCK AND RO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OSS PLAYED WHAT JAZZ SINGER IN THE FILM "LADY SINGS THE BLU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REIGNING NON-ROYAL HEAD OF STATE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3280" y="762120"/>
            <a:ext cx="759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PUBLISHED "THE BIRDS OF AMERICA", CONSIDERED ONE OF THE FINEST ORNITHOLOGICAL WORKS EVER COMPLE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27T17:39:09Z</dcterms:modified>
  <cp:revision>430</cp:revision>
  <dc:subject/>
  <dc:title>Slide 1</dc:title>
</cp:coreProperties>
</file>