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1BD2-B81E-47DA-A336-873BA6843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C41B-E6A7-42B6-B73B-9360DC502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668F-4516-4112-BFE9-BEC89F54D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462-4F82-438C-B1F9-F0CA5E521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418D5-DB97-407A-9C24-41B1C84B0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D7DE-49AD-4E80-9200-3DDF23CCA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8C92-D066-4A18-8811-5B308F5A3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697B-125C-4656-84A8-EEC24F2EB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F018-E083-4A3F-A5B6-D4F8D472E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D9AF-3860-4DEC-BBF8-69E3CCE65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7B99-902A-4EA7-B948-46817519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4C2-B958-44FC-9512-3961C3024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29A9-66B8-44FD-A478-FC7944167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CAD7-E714-4A7B-A374-23CA0C78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A66A-DB29-468B-BD18-AABED4E8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131A-C99F-4A2C-AF1F-7DD697B74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502B-DA1F-4E21-AB3C-6926368AB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F530-AAAA-4173-9847-0CFAFB752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12E-D921-45D3-BF74-73AA0AE0E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33EC-276D-4E2D-89E2-DCD96C1CC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310C-8DA0-40F1-AAE1-96262AFF7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86EE-E468-4A0F-AC26-FEBF1AAC4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A6EA-042F-4BE4-B4D2-495584300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47720" y="761760"/>
            <a:ext cx="764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LONDE BOMBSHELL" STARRED IN "NIAGARA"  AND "HOW TO MARRY          A MILLIONA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M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55680" y="762120"/>
            <a:ext cx="6632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10 DOLLAR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A  PER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5960" y="762120"/>
            <a:ext cx="8452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OF ARGENTINA HAD A POPULAR MUSICAL NAMED FOR 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RAH  WINF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QUEEN WAS THE RICHEST AFRICAN-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523880" y="4886280"/>
            <a:ext cx="6096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28480" y="771480"/>
            <a:ext cx="808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12 OSCARS FOR ACTING, WINNING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C  CLAP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23800" y="762120"/>
            <a:ext cx="8096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IE  HO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PLAYED WHAT JAZZ SINGER IN THE FILM "LADY SINGS THE BLU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DEL  CAS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62080" y="762120"/>
            <a:ext cx="8618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REIGNING NON-ROYAL HEAD OF STATE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47760" y="762120"/>
            <a:ext cx="664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PICTURED ON THE 10 DOLLAR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JAMES  AUDU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PUBLISHED "THE BIRDS OF AMERICA", CONSIDERED ONE OF THE FINEST ORNITHOLOGICAL WORKS EVER COMPLE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ONR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5000" y="762120"/>
            <a:ext cx="761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BLONDE BOMBSHELL" STARRED IN "NIAGARA"  AND "HOW TO MARRY          A MILLIONA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79280" y="4876920"/>
            <a:ext cx="878544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N  OUT  OF  WEDL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4000" y="761760"/>
            <a:ext cx="849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LADY OF ARGENTINA HAD A POPULAR MUSICAL NAMED FOR 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DIA QUEEN WAS THE RICHEST AFRICAN-AMERICAN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23720" y="762120"/>
            <a:ext cx="8296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AS NOMINATED FOR 12 OSCARS FOR ACTING, WINNING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4480" y="762120"/>
            <a:ext cx="7655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3-TIME INDUCTEE 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ANA ROSS PLAYED WHAT JAZZ SINGER IN THE FILM "LADY SINGS THE BLU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ONGEST REIGNING NON-ROYAL HEAD OF STATE IN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3280" y="762120"/>
            <a:ext cx="75960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INTER PUBLISHED "THE BIRDS OF AMERICA", CONSIDERED ONE OF THE FINEST ORNITHOLOGICAL WORKS EVER COMPLE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6-27T17:39:09Z</dcterms:modified>
  <cp:revision>430</cp:revision>
  <dc:subject/>
  <dc:title>Slide 1</dc:title>
</cp:coreProperties>
</file>