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290F-2331-46AA-9BFE-CFC69CDD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018-A8CC-41A0-8B81-C1456353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A0BE-F3FD-419F-B179-B63D0817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509-37F3-49A7-9DF9-5962FA712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3057-425E-46A3-A7A9-0E2EFC1C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4D4-93E5-45A7-910D-5897A63F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DB52-C02B-46F2-901D-DE6D2733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2C62-D0A1-4522-AC7F-77C98E41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EF32-B559-45CE-BE34-88176939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485E-06E5-47E7-9CCF-AD874F5F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DE64-AA89-4E08-A105-8AA42F61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9E5-BCE3-4391-801D-AAB27321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287-0068-4B9C-BA5C-C2A45B26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2668-58DD-422A-874D-34608793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E1B7-D8F5-4AD3-B5D0-1F593966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E8D-451A-455C-B597-98F813C5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D09-D62D-4C77-AC1E-89FD2AC88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2D34-9DED-40B7-852B-2BDF75E0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9AA2-F9E8-4C40-B09B-9F75BDF0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8DA-963E-4A9A-BA8F-E7AAAF152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36C7-B41A-490E-B023-6CFBF795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42D-4580-4BC5-B7A2-833D608E5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15D-4AB1-4D9D-9D58-674DE2CD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SCIENCE FICTION AUTHOR OF "ENDER'S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ANIS JOPLIN SONG TITLE: "____ OF MY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IM CARREY AND KATE WINSLET FILM: "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TERNAL SUNSHINE OF THE SPOTLESS ____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FILM TITLE "____ 9 FROM OUTER SPACE", CONSIDERED BY MANY CRITICS TO BE THE WORST FILM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RO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11 OF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ONE, ANSWER SET, BUTTON, OR ISLA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47920" y="762120"/>
            <a:ext cx="6248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JUST ABOVE CORP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ANIS JOPLIN SONG TITLE: "____ OF MY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LID'S VOLUME CAN BE FOUND USING THE FORMULA V = 𝝅 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6280" y="762120"/>
            <a:ext cx="819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OF THE SCIENCE FICTION AUTHOR OF "ENDER'S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9528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MAS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IM CARREY AND KATE WINSLET FILM: "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TERNAL SUNSHINE OF THE SPOTLESS ____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FILM TITLE "____ 9 FROM OUTER SPACE", CONSIDERED BY MANY CRITICS TO BE THE WORST FILM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11 OF IN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ONE, ANSWER SET, BUTTON, OR ISLAN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00040" y="761760"/>
            <a:ext cx="634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JUST ABOVE CORP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LID'S VOLUME CAN BE FOUND USING THE FORMULA V = 𝝅 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6-27T17:39:38Z</dcterms:modified>
  <cp:revision>335</cp:revision>
  <dc:subject/>
  <dc:title>Slide 1</dc:title>
</cp:coreProperties>
</file>