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F62C-7E2C-40CF-82F3-26463436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122-D412-4DDF-8498-1307E243B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A1B0-8BB5-4312-8B57-85FD1AC74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F722-04A9-4BDE-B713-238BC6BED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C65B-1D3C-4A2C-AD9E-A2515623A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9EC0-E546-4FD3-B8FE-7A201C04D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D9AB-65F9-4D04-9B9C-071AA4168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409F-C7B2-445D-B56F-426D7F80A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02D6-ED58-4904-B4F3-5C476145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C29C-EC54-4DD4-8F4C-AA0D84C8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8154-AE37-4FE8-A36E-0B7669A6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3634-ACAD-4D01-856E-B94B3740B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5852-1EDF-4936-A434-534F2EA37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7A4A-90D1-49D4-A194-252A915BD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4F6E-BBB1-4CBB-914B-0F77F95A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580-AD69-4B5B-A98E-5F5C45BEF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4D9A-6D8E-4749-8584-590A8587D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2048-BC28-4314-A3EA-346432F1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E0E0-2FA7-47DA-81AD-9F1358F35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2B99-CFD0-4A6A-893D-6DA317CE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93DF-3C48-4281-AE8C-56C49443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20A-CE7A-4DCF-9F4B-3B4DB6D9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9C9A-EE0A-462E-B416-D8BCFBC14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OF THE SCIENCE FICTION AUTHOR OF "ENDER'S GA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ANIS JOPLIN SONG TITLE: "____ OF MY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IM CARREY AND KATE WINSLET FILM: "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TERNAL SUNSHINE OF THE SPOTLESS ____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FILM TITLE "____ 9 FROM OUTER SPACE", CONSIDERED BY MANY CRITICS TO BE THE WORST FILM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RO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574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11 OF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ONE, ANSWER SET, BUTTON, OR ISLA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47920" y="762120"/>
            <a:ext cx="62481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JUST ABOVE CORP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ANIS JOPLIN SONG TITLE: "____ OF MY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LID'S VOLUME CAN BE FOUND USING THE FORMULA V = 𝝅 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ORSON  SCOTT)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6280" y="762120"/>
            <a:ext cx="8191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       OF THE SCIENCE FICTION AUTHOR OF "ENDER'S G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95288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MAS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IM CARREY AND KATE WINSLET FILM: "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ETERNAL SUNSHINE OF THE SPOTLESS ____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E FILM TITLE "____ 9 FROM OUTER SPACE", CONSIDERED BY MANY CRITICS TO BE THE WORST FILM EVER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11 OF IN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ONE, ANSWER SET, BUTTON, OR ISLAN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00040" y="761760"/>
            <a:ext cx="6343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ONOMIC RANK IS BETWEEN PHYLUM AND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IS JUST ABOVE CORP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LID'S VOLUME CAN BE FOUND USING THE FORMULA V = 𝝅 r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23:05:39Z</dcterms:created>
  <dc:creator>Jennifer Budzinski</dc:creator>
  <dc:description/>
  <dc:language>en-US</dc:language>
  <cp:lastModifiedBy>Erich Friedman</cp:lastModifiedBy>
  <dcterms:modified xsi:type="dcterms:W3CDTF">2022-06-27T17:39:38Z</dcterms:modified>
  <cp:revision>335</cp:revision>
  <dc:subject/>
  <dc:title>Slide 1</dc:title>
</cp:coreProperties>
</file>