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46A0-CBD4-449A-9766-B117C6A80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DB7E-96DF-43C3-A47A-037E71617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B53D-F283-4034-BDC6-0B79EB166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D508-4709-4B87-9A65-A3B953022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B3B8-33AC-4D79-8E6D-EA7E05E80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DCCF-CA73-42F9-8464-574A90293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2595-1944-42C8-8F04-D6051B760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F8EF-6632-40DB-BB58-FE3874377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2D8D-94B7-4919-A0D9-F64108580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E033-30CB-42F5-8602-D8722EFA3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232C-96DD-47C0-A940-AA087F0D0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3956-4A14-45A2-888A-2E204065B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BAAE-8354-4CF9-9E1E-46D2C6425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DF14-4905-4E94-B4A8-2584CBF8E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DA9D-9FC1-4C3A-BA1A-D7F62340A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D77C-A1C7-429A-9BA5-25822843A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7C5C-5AEC-4D8E-9820-DB0FC1550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4D78-2423-49A9-933C-C2D1354F5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E893-0264-4243-87E4-22BF2F810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9865-01B7-4DE9-94BF-6688F38A4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7D2F-E797-4564-BAD5-404964DAB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5375-13A3-41E4-9C05-1593D4011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7E54-B27D-4817-8F54-F75CF1689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67800" y="761760"/>
            <a:ext cx="780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ORD MUSTANG, THE CHEVY CAMARO, AND THE DODGE CHALLENGER ARE EXAMPLES OF WHAT TYPE OF AUTOMOBI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AR  OF  THE  T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22160" y="762120"/>
            <a:ext cx="7699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BRUARY 1, 2022–JANUARY 21, 2023 IS WHAT SIGN OF THE CHINESE ZODIA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BER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88800" y="762120"/>
            <a:ext cx="8366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RLY AMERICAN COLONISTS MADE GRAY PAINT BY BOILING WHAT FRUIT IN MI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  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60520" y="762120"/>
            <a:ext cx="802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2 CIVIL RIGHTS LAW WAS RENAMED THE "PATSY T. MINK EQUAL OPPORTUNITY IN EDUCATION ACT" IN 200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0" y="488952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L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90400" y="774720"/>
            <a:ext cx="796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ETHERLANDS GROWS 90% OF THE WORLD'S SUPPLY OF WHAT FL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  SEE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61800" y="762120"/>
            <a:ext cx="8420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WHERE HAVE    ALL THE FLOWERS GONE?", "KISSES SWEETER THAN WINE", "IF I HAD A HAMMER", AND "TURN! TURN! TURN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PH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50960" y="762120"/>
            <a:ext cx="764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LARGEST LAND ANIM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ISSIPPI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04640" y="762120"/>
            <a:ext cx="8332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ETTING FOR MARK TWAIN'S "ADVENTURES OF HUCKLEBERRY FIN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68160" y="762120"/>
            <a:ext cx="7807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BRUARY 1, 2022–JANUARY 21, 2023 IS WHAT SIGN OF THE CHINESE ZODIA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FL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92000" y="762120"/>
            <a:ext cx="75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WER IS VINCENT VAN GOGH FAMOUS FOR PA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NY  C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90480" y="762120"/>
            <a:ext cx="7763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ORD MUSTANG, THE CHEVY CAMARO, AND THE DODGE CHALLENGER ARE EXAMPLES OF WHAT TYPE OF AUTOMOB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ATURED  ON  2022  U. S.  STA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60360" y="761760"/>
            <a:ext cx="842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RLY AMERICAN COLONISTS MADE GRAY PAINT BY BOILING WHAT FRUIT IN MIL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66640" y="762120"/>
            <a:ext cx="801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2 CIVIL RIGHTS LAW WAS RENAMED THE "PATSY T. MINK EQUAL OPPORTUNITY IN EDUCATION ACT" IN 200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92200" y="762120"/>
            <a:ext cx="795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ETHERLANDS GROWS 90% OF THE WORLD'S SUPPLY OF WHAT FLOW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3680" y="762120"/>
            <a:ext cx="857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WHERE HAVE    ALL THE FLOWERS GONE?", "KISSES SWEETER THAN WINE", "IF I HAD A HAMMER", AND "TURN! TURN! TURN!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11080" y="761760"/>
            <a:ext cx="7521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LARGEST LAND ANIM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34800" y="761760"/>
            <a:ext cx="8474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ETTING FOR MARK TWAIN'S "ADVENTURES OF HUCKLEBERRY FIN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35120" y="762120"/>
            <a:ext cx="7672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WER IS VINCENT VAN GOGH FAMOUS FOR PAIN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27T17:40:10Z</dcterms:modified>
  <cp:revision>515</cp:revision>
  <dc:subject/>
  <dc:title>Slide 1</dc:title>
</cp:coreProperties>
</file>