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58E-B978-4A55-904A-44940468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D437-0997-45CB-8AC3-C6F49A4F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62CE-B48D-45E2-BC33-4A94605AF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EB6E-2115-4CE6-A5AD-46CDE31D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5C37-CFDA-4CA0-8FF5-FFD359A7E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1F4C-15FD-4759-A332-FFEECCDA5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A47-EE7B-4FA4-A7B6-6DE3413B3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E312-A080-438D-AB06-0E226D9C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ED6-8792-4E03-942F-3F3DB05F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F512-5A95-42E5-88B5-A7F8E6BA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2084-F8B2-4C97-9907-F35A6C31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CEDF-BA14-4FEE-A1DD-FD71C926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D204-9213-467D-9B6E-33B8E1EE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6C672-0A40-43B5-B160-82DC6BD1E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FB5F-4409-40C9-837C-D8B9EDEA7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C054-82B4-4C23-9658-7D295343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7067-8A5D-41F2-BFC3-2C88E911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546-B98E-40F9-B105-6861A6C95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D32A-9BF7-4B3B-A249-3311461FA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CB2-332F-4FBD-8DA4-35C79358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7F25-49E0-44C6-8854-A3F689B83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584B-4831-4E7A-A26C-1CAB1C643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1FE6-6905-471C-A6D2-58BC15E0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7800" y="761760"/>
            <a:ext cx="780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D MUSTANG, THE CHEVY CAMARO, AND THE DODGE CHALLENGER ARE EXAMPLES OF WHAT TYPE OF AUTOMOB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2160" y="762120"/>
            <a:ext cx="769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BRUARY 1, 2022–JANUARY 21, 2023 IS WHAT SIGN OF THE CHINESE ZODI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AMERICAN COLONISTS MADE GRAY PAINT BY BOILING WHAT FRUIT IN MI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 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0520" y="762120"/>
            <a:ext cx="802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CIVIL RIGHTS LAW WAS RENAMED THE "PATSY T. MINK EQUAL OPPORTUNITY IN EDUCATION ACT"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0400" y="7747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ETHERLANDS GROWS 90% OF THE WORLD'S SUPPLY OF WHAT FL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HERE HAVE    ALL THE FLOWERS GONE?", "KISSES SWEETER THAN WINE", "IF I HAD A HAMMER", AND "TURN! TURN! TURN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50960" y="762120"/>
            <a:ext cx="764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RGEST LAND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464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TTING FOR MARK TWAIN'S "ADVENTURES OF HUCKLEBERRY FI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EBRUARY 1, 2022–JANUARY 21, 2023 IS WHAT SIGN OF THE CHINESE ZODI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2000" y="762120"/>
            <a:ext cx="75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VINCENT VAN GOGH FAMOUS FOR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D MUSTANG, THE CHEVY CAMARO, AND THE DODGE CHALLENGER ARE EXAMPLES OF WHAT TYPE OF AUTOMOB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22  U. 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Y AMERICAN COLONISTS MADE GRAY PAINT BY BOILING WHAT FRUIT IN MIL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6640" y="762120"/>
            <a:ext cx="801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CIVIL RIGHTS LAW WAS RENAMED THE "PATSY T. MINK EQUAL OPPORTUNITY IN EDUCATION ACT"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ETHERLANDS GROWS 90% OF THE WORLD'S SUPPLY OF WHAT FL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HERE HAVE    ALL THE FLOWERS GONE?", "KISSES SWEETER THAN WINE", "IF I HAD A HAMMER", AND "TURN! TURN! TURN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11080" y="761760"/>
            <a:ext cx="7521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RGEST LAND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TTING FOR MARK TWAIN'S "ADVENTURES OF HUCKLEBERRY FI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VINCENT VAN GOGH FAMOUS FOR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27T17:40:10Z</dcterms:modified>
  <cp:revision>515</cp:revision>
  <dc:subject/>
  <dc:title>Slide 1</dc:title>
</cp:coreProperties>
</file>