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A8B0-2F7B-42F9-872B-5DE21736F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94E7-08ED-41AA-A211-F8C659498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5DDF-93EA-4DB7-94DA-0A848E1F1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64D4-8EF9-4265-BD44-A7B81805C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86A5-A5B4-4A4D-B5B1-C41685DC1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CCEA-A287-4996-8605-F853DF87E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B564-2A0F-4885-81C6-7F7E04F5D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803C-6AA6-41B9-8E36-5C0D5E6F5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268E-E4C7-4AA5-9459-069529AC7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4323-01C6-4E9D-A418-9F03A37B8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52B5-0A0D-4F54-96EB-A3E1A8F2A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7E72-621F-4D55-85B9-1D954E779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C236-6E82-4D36-A3C0-855E0F938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9EBE-6EB5-4730-9255-70C751BDB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8590-2CF1-41EB-867B-90F0ABAA0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9878-4BAE-4E40-9CB7-2ADC33670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1445-B51E-4DCF-8296-D13E05B32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67CB-046E-4B9B-AAAD-A22B270CE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EEFE-C1AA-4B05-8B1B-C992C5F59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F1CE-C62D-4EB3-80EB-9F2F92E5F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9106-1C25-46FD-9F7B-962EBD818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1297-FC47-41F4-B4D1-10E2F5F2F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959B-3418-482B-9F92-883347316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27120" y="761760"/>
            <a:ext cx="7888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OF CAR ABSORBS THE MOST ENERGY FROM THE SU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DICK AND JANE'S DOG, THE MUNSTER'S PET DRAGON, AND THE STAR TREK CHARACTER DATA'S C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790640" y="495288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036800" y="762120"/>
            <a:ext cx="7070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WORD ON THE MOST COMMON ROAD SIGN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366840" y="762120"/>
            <a:ext cx="8410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LOCATED 1.28 LIGHT-SECONDS FROM EA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36480" y="762120"/>
            <a:ext cx="7871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DISASTER IN 1931 IN CHINA KILLED MORE THAN 3 MILLION PEO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985680" y="762120"/>
            <a:ext cx="7172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4 PHYSICAL STATES OF MATTER, WHICH ONE  IS A WORD WHEN WRITTEN BACKW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ME(Y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687240" y="762120"/>
            <a:ext cx="7769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DID ENGLISH SAILORS EAT IN THE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TO PREVENT SCURVY, LEADING TO A NICKNAME FOR TH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577800" y="762120"/>
            <a:ext cx="7988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LOGO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3124080" y="2057400"/>
            <a:ext cx="289584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27120" y="762120"/>
            <a:ext cx="7888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DICK AND JANE'S DOG, THE MUNSTER'S PET DRAGON, AND THE STAR TREK CHARACTER DATA'S C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  &amp;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57240" y="762120"/>
            <a:ext cx="7229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WORDS CAN BE CONCATENATED TO GIVE A DAY OF THE WEE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KY  &amp;  HI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322200" y="762120"/>
            <a:ext cx="849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WORDS APPEAR IN THE TITLE OF THE 2005 FILM ABOUT AN AIRBORNE SCHOOL FOR TEENAGE SUPERHERO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647640" y="495288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LIGHT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79560" y="761760"/>
            <a:ext cx="7184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WORD ON THE MOST COMMON ROAD SIGN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34800" y="762120"/>
            <a:ext cx="8474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LOCATED 1.28 LIGHT-SECONDS FROM EA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63560" y="762120"/>
            <a:ext cx="7616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DISASTER IN 1931 IN CHINA KILLED MORE THAN 3 MILLION PEOP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54000" y="761760"/>
            <a:ext cx="7236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4 PHYSICAL STATES OF MATTER, WHICH ONE  IS A WORD WHEN WRITTEN BACKW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90120" y="761760"/>
            <a:ext cx="7761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DID ENGLISH SAILORS EAT IN THE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TO PREVENT SCURVY, LEADING TO A NICKNAME FOR TH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8200" y="761760"/>
            <a:ext cx="8067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LOGO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105000" y="2057400"/>
            <a:ext cx="293400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33480" y="762120"/>
            <a:ext cx="7277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WORDS CAN BE CONCATENATED TO GIVE A DAY OF THE WEE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6-27T17:57:47Z</dcterms:modified>
  <cp:revision>477</cp:revision>
  <dc:subject/>
  <dc:title>Slide 1</dc:title>
</cp:coreProperties>
</file>