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3A8C-6212-4E46-9A5F-A1C0D777C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5766-37B0-47C5-AF7C-1C0BD8EE3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EA35-0B0D-4362-9E3C-3FD3AE18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365D-A37D-4040-A758-0FF14828F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B3E0-AB0F-4BDF-A4FA-3276C893A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164-2EE4-42B0-9CFF-22627CECD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A7B7-5C91-495D-A28C-B36A7D48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8408-D4DA-4EB6-BB4C-ECA68DBEF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2EE9-4701-4E99-8E09-78CA320D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01D-8B09-4BC0-88D5-7772A4005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A98D-A028-4F70-B156-E6DE2E511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14FC-40B0-4525-A063-B74AE3487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DA49-79A5-436A-8851-5618D4BC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0FA9-C4B9-4F8F-92BB-FCBF22AB0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43E2-9680-4BBC-815D-C478030F6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FD5C-DF3A-49BC-B527-10A971E3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1FD9-B490-4CB0-A6E8-D11C52CCA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9965-B570-4785-9FA4-952BC11B0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AA7F-8DC3-49D5-96FD-FD3FA696E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8232-1778-45A5-ACD1-10FC0B69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7749-99C8-4892-9179-47DE36A39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4543-63C4-47F7-8BB2-5AFC435F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95F1-C7A3-4D6C-A766-43BA4D92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CK AND JANE'S DOG, THE MUNSTER'S PET DRAGON, AND THE STAR TREK CHARACTER DATA'S C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036800" y="762120"/>
            <a:ext cx="707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ON THE MOST COMMON ROAD SIG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CATED 1.28 LIGHT-SECONDS FROM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36480" y="762120"/>
            <a:ext cx="7871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ISASTER IN 1931 IN CHINA KILLED MORE THAN 3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85680" y="762120"/>
            <a:ext cx="7172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PHYSICAL STATES OF MATTER, WHICH ONE  IS A WORD WHEN WRITTEN BACK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(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87240" y="762120"/>
            <a:ext cx="776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ENGLISH SAILORS EAT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EVENT SCURVY, LEADING TO A NICKNAME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77800" y="762120"/>
            <a:ext cx="79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CK AND JANE'S DOG, THE MUNSTER'S PET DRAGON, AND THE STAR TREK CHARACTER DATA'S C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&amp;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7240" y="762120"/>
            <a:ext cx="722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CONCATENATED TO GIVE A DAY OF THE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  &amp;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22200" y="762120"/>
            <a:ext cx="849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APPEAR IN THE TITLE OF THE 2005 FILM ABOUT AN AIRBORNE SCHOOL FOR TEENAGE SUPERHER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4952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ON THE MOST COMMON ROAD SIG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4800" y="762120"/>
            <a:ext cx="847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CATED 1.28 LIGHT-SECONDS FROM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3560" y="762120"/>
            <a:ext cx="761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ISASTER IN 1931 IN CHINA KILLED MORE THAN 3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4000" y="761760"/>
            <a:ext cx="7236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PHYSICAL STATES OF MATTER, WHICH ONE  IS A WORD WHEN WRITTEN BACK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ENGLISH SAILORS EAT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EVENT SCURVY, LEADING TO A NICKNAME FOR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05000" y="2057400"/>
            <a:ext cx="293400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CONCATENATED TO GIVE A DAY OF THE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7T17:57:47Z</dcterms:modified>
  <cp:revision>477</cp:revision>
  <dc:subject/>
  <dc:title>Slide 1</dc:title>
</cp:coreProperties>
</file>