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9A3-8D73-401D-BDE3-927A400A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5D0E-E0F3-45AD-86A7-A8FA8DEA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D64B-9480-4244-AB74-47CD0037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5ACE-FBF2-42E9-913B-CD9C02AA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4B6-320D-4691-A67B-D5858888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6D4A-2FE4-48F9-B467-D7D3DA50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90C-A9B5-4970-B460-35DB2B8A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74F7-8846-4D77-8192-9629635A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EBF-B325-4145-8E84-D763B35D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143-7A5A-4C1E-A380-661BC6C8F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2A6-D2EA-417E-83C4-2475DF45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564-488E-4D57-900B-45E78F7C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15F2-125E-40FF-A372-518A0712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6FE4-C67D-4059-88E9-986733CC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416-1B8A-48B1-88C6-2F8F9C05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A39-F40B-45E0-BDF6-4B73A8180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B17-EB29-4B9D-B093-D9A05348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367-B99A-4A8F-929C-218F3866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875-2B7E-48A5-9063-1FBF15E8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F298-74D7-48D3-B743-6BD7BE12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419-6441-4D79-8ABA-DD3E1CF6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777-F940-49EA-9D16-1CFA6082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38C1-2599-47B0-A3AB-A2325C16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ARE THE FASTEST SWIMM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HAS BEEN THE LOGO FOR THE WORLD WIDE FUND FOR NATURE SINCE ITS FORMATION IN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8920" y="762120"/>
            <a:ext cx="7164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KING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3400" y="762120"/>
            <a:ext cx="8015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WA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NEY TUN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ACTER PEPÉ LE P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0120" y="782640"/>
            <a:ext cx="85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WORLD OF MUSIC, WHAT DID THERE USED TO BE ONLY 49 OF, THEN 72 WAS THE NORM, BUT NOW THERE ARE 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WORD  PUZZ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3840" y="762120"/>
            <a:ext cx="709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UCIVERBALISTS ARE AFICIONADO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C  BAR 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ENTED IN 1952 FOR IDENTIFYING RAILROAD CARS, BUT FIRST APPEARED ON FOOD PACKAGING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IN  /  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47880" y="762120"/>
            <a:ext cx="724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OF DUALISM IS IMPORTANT FEATURE OF TAO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HAS BEEN THE LOGO FOR THE WORLD WIDE FUND FOR NATURE SINCE ITS FORMATION IN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LLY  RO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82520" y="762120"/>
            <a:ext cx="6978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ENGLISH NICKNAME FOR A PIR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ARE THE FASTEST SWIMM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BLACK  AND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KINGS, KNIGHTS, AND R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6360" y="762120"/>
            <a:ext cx="799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WA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NEY TUN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ACTER PEPÉ LE P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WORLD OF MUSIC, WHAT DID THERE USED TO BE ONLY 49 OF, THEN 72 WAS THE NORM, BUT NOW THERE ARE 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UCIVERBALISTS ARE AFICIONADO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ENTED IN 1952 FOR IDENTIFYING RAILROAD CARS, BUT FIRST APPEARED ON FOOD PACKAGING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4920" y="762120"/>
            <a:ext cx="727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OF DUALISM IS IMPORTANT FEATURE OF TAO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17720" y="762120"/>
            <a:ext cx="7108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ENGLISH NICKNAME FOR A PIR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6-27T17:58:19Z</dcterms:modified>
  <cp:revision>459</cp:revision>
  <dc:subject/>
  <dc:title>Slide 1</dc:title>
</cp:coreProperties>
</file>