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D69F-B165-429F-88E1-FEA33D009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AA55-E8F9-4E5E-B5AA-8F4F66AA7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16D4-A035-4B7B-9112-D821C969D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256C-3AD1-4DC1-BAF1-421F1D977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CF52-E258-4B60-8E72-857102D0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4D28-5800-46D5-B632-231B5D51F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04A3-9AA1-447C-92C4-A34CCF66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5459-F40E-460B-A13A-686B83019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D1DE-E7B4-4E0F-9F87-B3B6657D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0F83-C5DF-49D4-A736-0767DB565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EB45-2349-423B-9112-9544A0C9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3B3A-2A68-4A67-AAE7-39706104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1CA0-4B72-447E-86DE-83313490F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D7E3-3CCE-4A4D-8AF6-3A8D4C5DE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AE92-A4C9-453E-B253-8904D3A8A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CCB8-FDC4-40BE-9A1A-C6B67CFBD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2C73-37F7-4030-826B-787AA580F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9D0F-CBD8-4289-8E24-3F7BC497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DB0B-3A97-4EE3-8AD4-F6F323E6F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A467-F07E-4E98-86CB-E7E78D384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A116-1542-49D4-992D-FDAAAD38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84A1-BA18-4C90-A2E8-0E9185BF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589A-7BC2-409B-9D07-17FF766EF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3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S ARE THE FASTEST SWIMM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HAS BEEN THE LOGO FOR THE WORLD WIDE FUND FOR NATURE SINCE ITS FORMATION IN 19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  PI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88920" y="762120"/>
            <a:ext cx="7164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KINGS, KNIGHTS, AND R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3400" y="762120"/>
            <a:ext cx="8015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REATURE WAS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ONEY TUN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RACTER PEPÉ LE P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  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0120" y="782640"/>
            <a:ext cx="853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WORLD OF MUSIC, WHAT DID THERE USED TO BE ONLY 49 OF, THEN 72 WAS THE NORM, BUT NOW THERE ARE 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WORD  PUZZ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23840" y="762120"/>
            <a:ext cx="7096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UCIVERBALISTS ARE AFICIONADO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C  BAR  C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ATENTED IN 1952 FOR IDENTIFYING RAILROAD CARS, BUT FIRST APPEARED ON FOOD PACKAGING IN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IN  /  Y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47880" y="762120"/>
            <a:ext cx="724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OF DUALISM IS IMPORTANT FEATURE OF TAO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HAS BEEN THE LOGO FOR THE WORLD WIDE FUND FOR NATURE SINCE ITS FORMATION IN 19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LLY  RO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82520" y="762120"/>
            <a:ext cx="6978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ENGLISH NICKNAME FOR A PIR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3560" y="762120"/>
            <a:ext cx="815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BIRDS ARE THE FASTEST SWIMM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4960" y="4876920"/>
            <a:ext cx="861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BLACK  AND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KINGS, KNIGHTS, AND R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6360" y="762120"/>
            <a:ext cx="799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REATURE WAS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OONEY TUN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ARACTER PEPÉ LE P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46240" y="762120"/>
            <a:ext cx="865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WORLD OF MUSIC, WHAT DID THERE USED TO BE ONLY 49 OF, THEN 72 WAS THE NORM, BUT NOW THERE ARE 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38240" y="762120"/>
            <a:ext cx="7067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UCIVERBALISTS ARE AFICIONADO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ATENTED IN 1952 FOR IDENTIFYING RAILROAD CARS, BUT FIRST APPEARED ON FOOD PACKAGING IN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34920" y="762120"/>
            <a:ext cx="727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BOL OF DUALISM IS IMPORTANT FEATURE OF TAO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17720" y="762120"/>
            <a:ext cx="7108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ENGLISH NICKNAME FOR A PIR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6-27T17:58:19Z</dcterms:modified>
  <cp:revision>459</cp:revision>
  <dc:subject/>
  <dc:title>Slide 1</dc:title>
</cp:coreProperties>
</file>