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E0A-7364-4317-A5CE-644861A5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33F0-8AAD-44B4-827A-DE58CFA7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858B-A0C5-401F-A5FB-96E9F37B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62C-EA73-4747-A8BE-B1396C03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8CC2-CC58-4322-984B-09633462A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BBC-CAC3-43DB-9EB9-3B8F5294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85E-30AC-47C4-BB6D-7FF866F6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A4C-8FC5-4C63-824A-786D719C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870-03AF-4CB2-A744-0FC819F7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FAFC-1ED0-49F7-8F7C-B9F7C4D6B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411-99CF-4B40-9319-A1F648F14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142-47DD-4FCC-A1A5-36A68150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F4A-7F9C-4728-A641-B9A52DC7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B3A5-5BEE-4E39-856F-174EB72C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2982-C363-458C-81A9-EC609909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88E-6352-4CE2-8C67-73683520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A9A-BE85-4956-A1D6-9990A406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6F82-4AF9-478F-AC13-441B2FFDD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6A7-9F02-41B1-A4F9-BFB280918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CFF9-EC2C-48AB-B856-950599574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AC1D-1EDD-4A90-B685-6C1A442A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660C-0697-49EA-B8A5-4792D7DD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41F-17E6-42C3-8BFB-0D7D064C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ING TRAINING BASEBALL GAMES PLAYED IN ARIZONA ARE CALLED THE CACTUS LEAGUE.  WHAT ARE GAMES PLAYED IN FLORIDA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540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BESIDES "MIDNIGHT COWBOY" WAS NOMINATED FOR BEST PICTURE DESPITE ITS BEING RATED 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ANA  BOAT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ONG MOST PEOPLE CALL "DAY-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66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WIDELY CONSIDERED TO BE JOHN STEINBECK'S BES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DARLING  CLEME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6 WESTERN FILM DID HENRY FONDA PLAY WYATT EAR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RTPHONE VENDOR WAS PROMINENT IN 2013, BUT STOPPED MAKING PHONE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AND  THE  GIANT  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 ROALD DAHL BOOK WAS MADE INTO A 1996 FILM PRODUCED BY TIM BURT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343400"/>
            <a:ext cx="685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HUCKLEBERRY  F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ARK TWAIN'S MOST POPULAR WORK, AND AMONG THE FIRST POPULAR BOOKS WRITTEN IN THE VERNAC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BESIDES "MIDNIGHT COWBOY" WAS NOMINATED FOR BEST PICTURE DESPITE ITS BEING RATED 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  EYE  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WEDISH MUSICIAN SANG THE 1997 HIT SONG "SAV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FRUIT  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ING TRAINING BASEBALL GAMES PLAYED IN ARIZONA ARE CALLED THE CACTUS LEAGUE.  WHAT ARE GAMES PLAYED IN FLORIDA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FR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ONG MOST PEOPLE CALL "DAY-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WIDELY CONSIDERED TO BE JOHN STEINBECK'S BES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6 WESTERN FILM DID HENRY FONDA PLAY WYATT EAR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2396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RTPHONE VENDOR WAS PROMINENT IN 2013, BUT STOPPED MAKING PHONE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 ROALD DAHL BOOK WAS MADE INTO A 1996 FILM PRODUCED BY TIM BURT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ARK TWAIN'S MOST POPULAR WORK, AND AMONG THE FIRST POPULAR BOOKS WRITTEN IN THE VERNAC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WEDISH MUSICIAN SANG THE 1997 HIT SONG "SAV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8:59:20Z</dcterms:created>
  <dc:creator>Jennifer Budzinski</dc:creator>
  <dc:description/>
  <dc:language>en-US</dc:language>
  <cp:lastModifiedBy>Erich Friedman</cp:lastModifiedBy>
  <dcterms:modified xsi:type="dcterms:W3CDTF">2020-08-25T13:43:09Z</dcterms:modified>
  <cp:revision>338</cp:revision>
  <dc:subject/>
  <dc:title>Slide 1</dc:title>
</cp:coreProperties>
</file>