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F729-0A26-4131-A45C-FE8B8FC31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5C1-0279-4ABA-A64D-F8FCEDF5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CC1-BD4B-4279-B9FA-C9628A7D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7C6-4EDC-4F30-880B-DEA67A0FA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BAA2-0061-43BF-B3BB-7D58339ED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E974-F78C-4AE4-8B3A-5D00D435E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1FF-D171-4F22-B842-59E89F20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5016-7A9B-4E3E-8C18-1F7A0470B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82D2-47B2-4495-879A-5BFB8853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BEB4-5D42-428D-B277-17FE73288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1ED8-FAF7-411B-B9ED-D39646A43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C3D0-8924-475B-B7A8-97EA7F6F5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26EF-949E-4053-94BA-26F74F6F4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78EC-6DF1-459E-8D4C-9980A885C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BC34-DDE0-4EAB-8B25-15D71A00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7DB-874F-4052-BC48-763FBDE91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B9A6-E92A-4D25-8054-637C68B62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AFEF-C73F-44D3-B0D8-1B4F4FA40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D4F7-E5A3-4240-A7A0-CC5A10AA6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DE4F-A9D5-4615-915E-4E404B9F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3AA5-BDA5-4A34-8233-7E1988BB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9735-A134-4128-94F0-950A3A30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F8D5-54E2-419E-B850-43FE39E16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ING TRAINING BASEBALL GAMES PLAYED IN ARIZONA ARE CALLED THE CACTUS LEAGUE.  WHAT ARE GAMES PLAYED IN FLORIDA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540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CKWORK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BESIDES "MIDNIGHT COWBOY" WAS NOMINATED FOR BEST PICTURE DESPITE ITS BEING RATED 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ANA  BOAT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ONG MOST PEOPLE CALL "DAY-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66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S  OF  WR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WIDELY CONSIDERED TO BE JOHN STEINBECK'S BES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DARLING  CLEMEN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6 WESTERN FILM DID HENRY FONDA PLAY WYATT EAR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RTPHONE VENDOR WAS PROMINENT IN 2013, BUT STOPPED MAKING PHONE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AND  THE  GIANT  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 ROALD DAHL BOOK WAS MADE INTO A 1996 FILM PRODUCED BY TIM BURT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343400"/>
            <a:ext cx="68580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HUCKLEBERRY  F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ARK TWAIN'S MOST POPULAR WORK, AND AMONG THE FIRST POPULAR BOOKS WRITTEN IN THE VERNAC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 BESIDES "MIDNIGHT COWBOY" WAS NOMINATED FOR BEST PICTURE DESPITE ITS BEING RATED 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GLE  EYE  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WEDISH MUSICIAN SANG THE 1997 HIT SONG "SAV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PEFRUIT  LEA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RING TRAINING BASEBALL GAMES PLAYED IN ARIZONA ARE CALLED THE CACTUS LEAGUE.  WHAT ARE GAMES PLAYED IN FLORIDA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FRU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ONG MOST PEOPLE CALL "DAY-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WIDELY CONSIDERED TO BE JOHN STEINBECK'S BEST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46 WESTERN FILM DID HENRY FONDA PLAY WYATT EAR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2396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MARTPHONE VENDOR WAS PROMINENT IN 2013, BUT STOPPED MAKING PHONE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1 ROALD DAHL BOOK WAS MADE INTO A 1996 FILM PRODUCED BY TIM BURT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ARK TWAIN'S MOST POPULAR WORK, AND AMONG THE FIRST POPULAR BOOKS WRITTEN IN THE VERNACUL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WEDISH MUSICIAN SANG THE 1997 HIT SONG "SAV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8:59:20Z</dcterms:created>
  <dc:creator>Jennifer Budzinski</dc:creator>
  <dc:description/>
  <dc:language>en-US</dc:language>
  <cp:lastModifiedBy>Erich Friedman</cp:lastModifiedBy>
  <dcterms:modified xsi:type="dcterms:W3CDTF">2020-08-25T13:43:09Z</dcterms:modified>
  <cp:revision>338</cp:revision>
  <dc:subject/>
  <dc:title>Slide 1</dc:title>
</cp:coreProperties>
</file>