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96B-679E-4B58-AE5B-D2489F698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3EC-EDE4-4094-9447-E1B6D6D81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EDF-55DA-4555-BE22-68700F33C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19D7-B8CC-4A3B-BF88-C7ABE0B8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739-F1B9-4EBB-9A45-9D13571E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ABD-A8F2-4D0F-844E-817D78008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0EC-D4B7-4BDE-B419-51F45598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073B-53CB-4DDD-9D45-1918D9DC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4AF-A3F0-4530-8FE1-A400DFB0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08B-74DE-4BDD-9096-28B64082C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4F2B-8EFE-42B0-9923-11B464CB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F646-9A75-4EB4-9D44-7FF78F71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0F5-7C9E-4A26-BE8C-FDAB5C39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A91-C309-4D6F-8E40-1CDB31E5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1164-1DE4-4BE3-B7B1-1309C2C9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9857-511C-4A52-A801-7F3786E4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A26B-8B99-4EB2-B9F1-F2DC78F5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B8E-6E8F-422E-A5B3-F61EB75B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9C3-8C77-42A7-9C2F-AC130347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E3C-67FC-4B8A-9068-05701E83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10F-90CF-4213-8377-A2CB4030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C7F-535A-46E2-930B-A215D022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644-1EE4-49D1-BCDF-62B9ED85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540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ANA  BOAT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66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DARLING  CLEME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AND  THE  GIANT  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34340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HUCKLEBERRY  F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  EYE  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FRUIT  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FR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2396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59:20Z</dcterms:created>
  <dc:creator>Jennifer Budzinski</dc:creator>
  <dc:description/>
  <dc:language>en-US</dc:language>
  <cp:lastModifiedBy>Erich Friedman</cp:lastModifiedBy>
  <dcterms:modified xsi:type="dcterms:W3CDTF">2020-08-25T13:43:09Z</dcterms:modified>
  <cp:revision>338</cp:revision>
  <dc:subject/>
  <dc:title>Slide 1</dc:title>
</cp:coreProperties>
</file>